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94F56-5F72-4157-AAEC-8922D9F57EBA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89B3-2B67-4D98-89CE-43D125C1F32A}" type="slidenum">
              <a:rPr b="0" lang="it-IT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A23C-928D-4F70-A5B2-F6A5163F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9A1B-B06F-4F97-B33F-FB9C5E18B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F87D-C9B1-4E82-988D-580761376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339-4854-47AC-B22D-AD69C47B1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06514-AD30-43A0-972B-DB0707E67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F40BD-B47A-4416-98C0-8A6499871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E26E7-A851-4014-933D-49FFC6400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04E01-D783-4A9E-99CE-78403E59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4861-5ACD-42CB-AC18-CFDB9E9E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5D14-3A25-44D1-B636-05942578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5AFB0-4656-426B-AB10-727D6CEC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B863-4165-425F-A301-7863D5544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CEA95-3396-4BF2-B212-C84AD40A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AED5-4313-4833-B6C0-A4F802FD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8735-A614-4ED0-8AD1-98D83AD25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762F-55BC-42CC-A628-4DBA655D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0D77-315F-4712-B628-BE58BE0F8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37F71-4D04-4548-984E-EDE34E44F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2AE9B-BC5A-4F73-8084-AE38D531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FC682-C380-4594-8063-26592BCA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B5E81-A75E-4E03-BD8B-CAC1F3CA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4C320-D11B-4E90-8B52-836FD36D7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9DDA-F5CA-4A2A-839D-BDA3AA4B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81F4-FD94-449B-A9D8-4E798EA7F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0039-D0A1-4F75-96DC-6EA164C7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6BBED-6969-4522-80A5-E781C7E8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772A-5AAD-4A5C-96DC-FF83AC7C2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1DF3D-0EF4-4590-93D4-C530A7940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0010D3-BB1B-4424-BDA5-CAEFC4EC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AFA57-394C-4054-B1FB-E97B9F2EA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0E1BC-C7CB-48B7-A462-C776130E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C9168-7934-4125-9D61-BF0B14EB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DF4C53-9D19-47BF-9C12-0EB3EC8B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DEB4-F1A3-42F9-9F43-FB9159E57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63D93B-0910-4BF4-8C86-9DC2F70B6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CBB5F-8403-4E6A-B4F1-8978B76A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EC2C4-ED5D-4BD3-A26D-457C149C2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F7E0-F851-4AC2-9D4D-1BB8BBAD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AA665-E146-4277-B82A-5A261358F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1C87-1D9D-4B30-8F56-C4F80887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6D7115-8A8C-45D6-BAB0-DB252FF14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C442CD-0AF8-49F2-BAA0-9F471DA1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3F5C7-B669-4E14-83AD-92D07D25A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D2EB-06F8-48B1-8AC8-DCB10FF1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D0E-89AD-4DF2-8DB4-0BFA22D34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0BEA-7B3E-4C72-A9B9-754BE9B9C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D9E0-E553-4C38-AE1C-A3098074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76C7-34AE-4687-8094-8A3470F2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1625-DAC1-4BB0-8F55-765F8D771FE5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3E30A-B822-412C-9D67-88F0380D62AC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93639-3794-4B50-B117-CD4015BD2FFA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it-IT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ED1D6-9742-48ED-9483-BF991EA18D42}" type="slidenum">
              <a:rPr b="1" lang="it-IT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Titolo 1" descr=""/>
          <p:cNvPicPr/>
          <p:nvPr/>
        </p:nvPicPr>
        <p:blipFill>
          <a:blip r:embed="rId1"/>
          <a:stretch/>
        </p:blipFill>
        <p:spPr>
          <a:xfrm>
            <a:off x="2657520" y="2249640"/>
            <a:ext cx="6413400" cy="351792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2" descr="G:\Ufficio - CentroStudi\SELENE\PROGETTI\PO_ITALIA_FRANCIA_MARITTIMO\PER_MARE\comunicazione\manuale_comunicazione\Logo_Marittimo.jpg"/>
          <p:cNvPicPr/>
          <p:nvPr/>
        </p:nvPicPr>
        <p:blipFill>
          <a:blip r:embed="rId2"/>
          <a:stretch/>
        </p:blipFill>
        <p:spPr>
          <a:xfrm>
            <a:off x="3309840" y="100080"/>
            <a:ext cx="2517840" cy="134280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C:\Users\eli0668\AppData\Local\Temp\ARC8E52\Slogan fra.tif"/>
          <p:cNvPicPr/>
          <p:nvPr/>
        </p:nvPicPr>
        <p:blipFill>
          <a:blip r:embed="rId3"/>
          <a:stretch/>
        </p:blipFill>
        <p:spPr>
          <a:xfrm>
            <a:off x="5864400" y="1427040"/>
            <a:ext cx="2344680" cy="576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4" descr="C:\Users\eli0668\AppData\Local\Temp\ARCBF13\Slogan it.tif"/>
          <p:cNvPicPr/>
          <p:nvPr/>
        </p:nvPicPr>
        <p:blipFill>
          <a:blip r:embed="rId4"/>
          <a:stretch/>
        </p:blipFill>
        <p:spPr>
          <a:xfrm>
            <a:off x="750960" y="1427040"/>
            <a:ext cx="2562120" cy="576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5" descr="G:\Ufficio - CentroStudi\SELENE\PROGETTI\PO_ITALIA_FRANCIA_MARITTIMO\PER_MARE\comunicazione\manuale_comunicazione\UE_def.jpg"/>
          <p:cNvPicPr/>
          <p:nvPr/>
        </p:nvPicPr>
        <p:blipFill>
          <a:blip r:embed="rId5"/>
          <a:stretch/>
        </p:blipFill>
        <p:spPr>
          <a:xfrm>
            <a:off x="0" y="6308640"/>
            <a:ext cx="4656240" cy="5428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7" descr="C:\Users\eli0668\AppData\Local\Temp\ARC9351\Logo RAS.gif"/>
          <p:cNvPicPr/>
          <p:nvPr/>
        </p:nvPicPr>
        <p:blipFill>
          <a:blip r:embed="rId6"/>
          <a:stretch/>
        </p:blipFill>
        <p:spPr>
          <a:xfrm>
            <a:off x="6084720" y="6210360"/>
            <a:ext cx="1582920" cy="6476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C:\Users\eli0668\AppData\Local\Temp\ARCD725\Logo Regione Liguria.bmp"/>
          <p:cNvPicPr/>
          <p:nvPr/>
        </p:nvPicPr>
        <p:blipFill>
          <a:blip r:embed="rId7"/>
          <a:stretch/>
        </p:blipFill>
        <p:spPr>
          <a:xfrm>
            <a:off x="5292720" y="6041880"/>
            <a:ext cx="644400" cy="816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9" descr="C:\Users\eli0668\AppData\Local\Temp\ARC185A\Logo Regione Toscana.bmp"/>
          <p:cNvPicPr/>
          <p:nvPr/>
        </p:nvPicPr>
        <p:blipFill>
          <a:blip r:embed="rId8"/>
          <a:stretch/>
        </p:blipFill>
        <p:spPr>
          <a:xfrm>
            <a:off x="4572000" y="6000840"/>
            <a:ext cx="574560" cy="8571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0" descr="C:\Users\eli0668\AppData\Local\Temp\ARC7163\Logoctc JPEG 2012.jpg"/>
          <p:cNvPicPr/>
          <p:nvPr/>
        </p:nvPicPr>
        <p:blipFill>
          <a:blip r:embed="rId9"/>
          <a:stretch/>
        </p:blipFill>
        <p:spPr>
          <a:xfrm>
            <a:off x="7716960" y="6118200"/>
            <a:ext cx="1395360" cy="733320"/>
          </a:xfrm>
          <a:prstGeom prst="rect">
            <a:avLst/>
          </a:prstGeom>
          <a:ln w="0">
            <a:noFill/>
          </a:ln>
        </p:spPr>
      </p:pic>
      <p:sp>
        <p:nvSpPr>
          <p:cNvPr id="230" name="Rettangolo 2"/>
          <p:cNvSpPr/>
          <p:nvPr/>
        </p:nvSpPr>
        <p:spPr>
          <a:xfrm>
            <a:off x="4451760" y="3244680"/>
            <a:ext cx="2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Picture 12" descr="G:\Ufficio - CentroStudi\SELENE\PROGETTI\PO_ITALIA_FRANCIA_MARITTIMO\PER_MARE\comunicazione\manuale_comunicazione\LOGO_MARE02.jpg"/>
          <p:cNvPicPr/>
          <p:nvPr/>
        </p:nvPicPr>
        <p:blipFill>
          <a:blip r:embed="rId10"/>
          <a:stretch/>
        </p:blipFill>
        <p:spPr>
          <a:xfrm>
            <a:off x="115920" y="2276640"/>
            <a:ext cx="292248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86960" y="2781000"/>
            <a:ext cx="77454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it-IT" sz="4800" spc="-1" strike="noStrike">
              <a:solidFill>
                <a:srgbClr val="0836c8"/>
              </a:solidFill>
              <a:latin typeface="Calibri"/>
              <a:ea typeface="Calibri"/>
            </a:endParaRPr>
          </a:p>
        </p:txBody>
      </p:sp>
      <p:pic>
        <p:nvPicPr>
          <p:cNvPr id="233" name="Picture 2" descr="G:\Ufficio - CentroStudi\SELENE\PROGETTI\PO_ITALIA_FRANCIA_MARITTIMO\PER_MARE\comunicazione\manuale_comunicazione\Logo_Marittimo.jpg"/>
          <p:cNvPicPr/>
          <p:nvPr/>
        </p:nvPicPr>
        <p:blipFill>
          <a:blip r:embed="rId1"/>
          <a:stretch/>
        </p:blipFill>
        <p:spPr>
          <a:xfrm>
            <a:off x="3995640" y="0"/>
            <a:ext cx="1330560" cy="79380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G:\Ufficio - CentroStudi\SELENE\PROGETTI\PO_ITALIA_FRANCIA_MARITTIMO\PER_MARE\comunicazione\manuale_comunicazione\UE_def.jpg"/>
          <p:cNvPicPr/>
          <p:nvPr/>
        </p:nvPicPr>
        <p:blipFill>
          <a:blip r:embed="rId2"/>
          <a:stretch/>
        </p:blipFill>
        <p:spPr>
          <a:xfrm>
            <a:off x="179280" y="6281640"/>
            <a:ext cx="4854600" cy="557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5" descr="G:\Ufficio - CentroStudi\SELENE\PROGETTI\PO_ITALIA_FRANCIA_MARITTIMO\PER_MARE\comunicazione\manuale_comunicazione\logo-progetto.jpg"/>
          <p:cNvPicPr/>
          <p:nvPr/>
        </p:nvPicPr>
        <p:blipFill>
          <a:blip r:embed="rId3"/>
          <a:stretch/>
        </p:blipFill>
        <p:spPr>
          <a:xfrm>
            <a:off x="8317080" y="5915160"/>
            <a:ext cx="672840" cy="9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7T14:54:59Z</dcterms:created>
  <dc:creator>Piccini Silvia</dc:creator>
  <dc:description/>
  <dc:language>en-US</dc:language>
  <cp:lastModifiedBy>Piccini Silvia</cp:lastModifiedBy>
  <dcterms:modified xsi:type="dcterms:W3CDTF">2013-04-09T13:32:43Z</dcterms:modified>
  <cp:revision>13</cp:revision>
  <dc:subject/>
  <dc:title>Presentazione standard di PowerPoint</dc:title>
</cp:coreProperties>
</file>