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51D-F7EB-454E-83BD-55FD879124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B026-8C21-4EE9-AE5C-C81DE53A37AD}" type="slidenum">
              <a:rPr b="0" lang="it-IT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2FA-0A6B-4416-A059-17A50269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B5E-F5E3-48A5-AD22-5331B03C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82C-3C40-4E12-8005-732F85E0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9F2-FF9C-414B-9A2A-DD03745D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EC6-BA31-406B-893C-4B66FDA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E60-A819-4DA3-B6B6-58A72D01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4B7C-8AB6-4FEA-B65E-B0BA935D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9FEA-F552-4D01-A154-914046A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2361-8C91-4002-92F1-8657857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AF2E-E1C4-4E51-9C11-729C920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AA78-FBF4-4BF1-A2CF-0CA03AF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7FA-EB11-4390-94DC-6FE39E5B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B45-E8DB-4A00-A601-B4A1C09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9BD8-ABF0-4D34-B501-28AB0DA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927-BBD7-42B2-9C9A-52FF2EE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84AF-0C76-460A-BF3D-5C577103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C830-DEBF-4605-AEDF-825BB7D0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3C2C-4BA0-443D-9499-0B6219FD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932D-4DD5-4207-8782-DCB92B82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1C8A-A813-4429-814E-3681C37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F62F-1A18-4736-877A-AE2B1C9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A6D7-2F3D-41BF-9C11-841CFB7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158-FA67-4700-AC21-C574BBE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5E97-CA12-449F-8869-03399970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DE1F-A78D-400A-8AFF-87B1BBC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450F-3EBB-4966-9542-C0C4B75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6FC6-D045-452D-81F5-D582E33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3A24-387C-4CB7-86C9-A4CCCC4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FD67-2715-4BA8-B0D3-8423DBB7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4D1A-03BB-407C-A6EA-F4F91BA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0CE9-6118-4CFA-B162-2C59B36F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5FF6-6BF4-4BE5-85E1-4966E8A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2862-11C8-4D0E-B1A5-ECD5733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9F3-A1FA-4EA2-8113-B1362D5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D8FF-AD27-466E-B993-9723855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4997-0519-4930-9650-7CC04DB5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C9ED-FF5C-4DBD-8341-4E9EF2F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570E-E649-4A4B-AB1F-F0C46B1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383C-A33B-455A-B77D-BC0D208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A644-EB4D-4A7A-A511-FC38238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5541-3C1F-46AE-AB8E-C904499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B8C8-C1F2-4EF3-B1B8-3B4A5E65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B077-2E7D-4B93-9F35-E933DB2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5F0-3B0E-47C1-B482-F1F2175A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01B-3152-465E-9698-825CE47A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517-69F7-4D6C-86EB-36B7644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72D-AD95-47B4-AEA8-422D82C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EDA-009E-4AC7-B1FD-5B2FA36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7E69-AD51-4F17-8EBE-FD459E4ED6FA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DE76-1CFF-490A-BFD6-E3A10707599E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1D07-89AB-4E53-A31B-1CAFE98F75A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DF7E-B824-4431-B3CD-B3CBD91CA78D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olo 1" descr=""/>
          <p:cNvPicPr/>
          <p:nvPr/>
        </p:nvPicPr>
        <p:blipFill>
          <a:blip r:embed="rId1"/>
          <a:stretch/>
        </p:blipFill>
        <p:spPr>
          <a:xfrm>
            <a:off x="2657520" y="2249640"/>
            <a:ext cx="6413400" cy="351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6960" y="2781000"/>
            <a:ext cx="7745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800" spc="-1" strike="noStrike">
              <a:solidFill>
                <a:srgbClr val="0836c8"/>
              </a:solidFill>
              <a:latin typeface="Calibri"/>
              <a:ea typeface="Calibri"/>
            </a:endParaRPr>
          </a:p>
        </p:txBody>
      </p:sp>
      <p:pic>
        <p:nvPicPr>
          <p:cNvPr id="233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04-09T13:32:43Z</dcterms:modified>
  <cp:revision>13</cp:revision>
  <dc:subject/>
  <dc:title>Presentazione standard di PowerPoint</dc:title>
</cp:coreProperties>
</file>