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6553-1604-4142-AF12-07199F70E3C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88A3-9341-4CDB-8DB6-0C6CDCD3F9D3}" type="slidenum">
              <a:rPr b="0" lang="it-IT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AE69-81BE-4454-B5EE-68B2F193A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A575-22F8-457C-8D4E-481DB57A7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DD26-654D-4A8C-964E-0A8055123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3D1C-F74C-40B3-AD76-338D0C15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AD712-596E-43FC-A1CB-CDF4BAA25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E28B1-D2EA-4F4C-9C59-C0A18081A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9057F-52B1-4F85-8A45-7FE522D1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856F-F4E0-42BF-ADD0-20DAFD27F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3FA4-817A-4519-AFCB-8EC7F5C0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57C1A-BCAC-4A33-BE88-853FB2EF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D689F-FE0C-49E1-BAE2-53FF4D2AC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01CA-32A8-4617-B6CB-A8CF47A3F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66292-5447-436C-B0A8-EF0680A5E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55863-80A6-44F9-8057-801E7844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9EC2F-9D1F-41A9-94EA-220C15EEA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DA60-6CDB-4BE6-9757-C76FCC5EA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419C-3F6A-4851-8864-9E8E6856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A6DCD-91EA-40B3-9A1A-6895C99FB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F7D9EB-8DA3-4171-B93A-37ECC8194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EF9278-D418-4294-8C57-B7D2ADC1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B02437-1B0A-42C1-A767-CA7802CE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FCF55-7F4C-4A2C-A410-A950E780A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0FA5-D69E-4957-A942-373F7E62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2C3C6B-DCD1-4EEB-8ED4-51A81134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EFA6AD-FB77-4744-A9C4-DF70421E6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7699-B9D9-4579-97B6-428D9700D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93803-7F4D-4964-A18E-72699AADD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59FF1-8B0B-450E-9B0E-77A59B8BB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2AF978-4396-4AA7-ABA1-5BD63B7A5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A6442-CA3C-4160-9DE6-CFDBDDC80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0F8E17-5546-4E05-9A50-27C1EF20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BBFE2-A8CB-4614-AF73-A4A02EAE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258C5-0CF5-4ED3-AE60-91F8B68F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863C-1317-4206-A79D-18D58C8AE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546DAA-F29F-4940-B432-E1B8D4F64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69C0CC-759D-4998-890C-F36470AC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D2D9C-444D-4AC2-BA43-55437195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1A100-93D0-4BD3-9E5A-AB91A2175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597EA-4869-4369-A69D-7FFF649D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AE392-923B-4F9D-A6F5-2192D964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05A70-C60B-4624-A192-FFD72EA2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3B891-490E-47F9-9E1E-FD32472C7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D1BC01-6ABF-4505-8736-B7114BB60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9CB3-0537-410D-9739-ACFC9495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E018-70AC-4579-AE33-44AA1DDF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0D69-97FC-4400-B6F9-B2626E2B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49FCD-510D-4408-A689-0B655B25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3EBF-356A-4E4C-A965-3B006F68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3C4FD-B5C3-408C-8616-F048361BC6E7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2D0F4-4252-4E95-A72D-040ACD79A3FF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5813-1828-4C96-991E-F24E30F81B25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70400-02A4-45DF-B2B1-7AC0436A2BB1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olo 1" descr=""/>
          <p:cNvPicPr/>
          <p:nvPr/>
        </p:nvPicPr>
        <p:blipFill>
          <a:blip r:embed="rId1"/>
          <a:stretch/>
        </p:blipFill>
        <p:spPr>
          <a:xfrm>
            <a:off x="2730600" y="2262240"/>
            <a:ext cx="6572160" cy="25653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309840" y="100080"/>
            <a:ext cx="2517840" cy="134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eli0668\AppData\Local\Temp\ARC8E52\Slogan fra.tif"/>
          <p:cNvPicPr/>
          <p:nvPr/>
        </p:nvPicPr>
        <p:blipFill>
          <a:blip r:embed="rId3"/>
          <a:stretch/>
        </p:blipFill>
        <p:spPr>
          <a:xfrm>
            <a:off x="5864400" y="1427040"/>
            <a:ext cx="2344680" cy="5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eli0668\AppData\Local\Temp\ARCBF13\Slogan it.tif"/>
          <p:cNvPicPr/>
          <p:nvPr/>
        </p:nvPicPr>
        <p:blipFill>
          <a:blip r:embed="rId4"/>
          <a:stretch/>
        </p:blipFill>
        <p:spPr>
          <a:xfrm>
            <a:off x="750960" y="1427040"/>
            <a:ext cx="256212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G:\Ufficio - CentroStudi\SELENE\PROGETTI\PO_ITALIA_FRANCIA_MARITTIMO\PER_MARE\comunicazione\manuale_comunicazione\UE_def.jpg"/>
          <p:cNvPicPr/>
          <p:nvPr/>
        </p:nvPicPr>
        <p:blipFill>
          <a:blip r:embed="rId5"/>
          <a:stretch/>
        </p:blipFill>
        <p:spPr>
          <a:xfrm>
            <a:off x="0" y="6308640"/>
            <a:ext cx="4656240" cy="542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eli0668\AppData\Local\Temp\ARC9351\Logo RAS.gif"/>
          <p:cNvPicPr/>
          <p:nvPr/>
        </p:nvPicPr>
        <p:blipFill>
          <a:blip r:embed="rId6"/>
          <a:stretch/>
        </p:blipFill>
        <p:spPr>
          <a:xfrm>
            <a:off x="6084720" y="6210360"/>
            <a:ext cx="1582920" cy="647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C:\Users\eli0668\AppData\Local\Temp\ARCD725\Logo Regione Liguria.bmp"/>
          <p:cNvPicPr/>
          <p:nvPr/>
        </p:nvPicPr>
        <p:blipFill>
          <a:blip r:embed="rId7"/>
          <a:stretch/>
        </p:blipFill>
        <p:spPr>
          <a:xfrm>
            <a:off x="5292720" y="6041880"/>
            <a:ext cx="644400" cy="816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:\Users\eli0668\AppData\Local\Temp\ARC185A\Logo Regione Toscana.bmp"/>
          <p:cNvPicPr/>
          <p:nvPr/>
        </p:nvPicPr>
        <p:blipFill>
          <a:blip r:embed="rId8"/>
          <a:stretch/>
        </p:blipFill>
        <p:spPr>
          <a:xfrm>
            <a:off x="4572000" y="6000840"/>
            <a:ext cx="57456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C:\Users\eli0668\AppData\Local\Temp\ARC7163\Logoctc JPEG 2012.jpg"/>
          <p:cNvPicPr/>
          <p:nvPr/>
        </p:nvPicPr>
        <p:blipFill>
          <a:blip r:embed="rId9"/>
          <a:stretch/>
        </p:blipFill>
        <p:spPr>
          <a:xfrm>
            <a:off x="7716960" y="6118200"/>
            <a:ext cx="1395360" cy="733320"/>
          </a:xfrm>
          <a:prstGeom prst="rect">
            <a:avLst/>
          </a:prstGeom>
          <a:ln w="0">
            <a:noFill/>
          </a:ln>
        </p:spPr>
      </p:pic>
      <p:sp>
        <p:nvSpPr>
          <p:cNvPr id="230" name="Rettangolo 2"/>
          <p:cNvSpPr/>
          <p:nvPr/>
        </p:nvSpPr>
        <p:spPr>
          <a:xfrm>
            <a:off x="4451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12" descr="G:\Ufficio - CentroStudi\SELENE\PROGETTI\PO_ITALIA_FRANCIA_MARITTIMO\PER_MARE\comunicazione\manuale_comunicazione\LOGO_MARE02.jpg"/>
          <p:cNvPicPr/>
          <p:nvPr/>
        </p:nvPicPr>
        <p:blipFill>
          <a:blip r:embed="rId10"/>
          <a:stretch/>
        </p:blipFill>
        <p:spPr>
          <a:xfrm>
            <a:off x="115920" y="2276640"/>
            <a:ext cx="2922480" cy="3468600"/>
          </a:xfrm>
          <a:prstGeom prst="rect">
            <a:avLst/>
          </a:prstGeom>
          <a:ln w="0">
            <a:noFill/>
          </a:ln>
        </p:spPr>
      </p:pic>
      <p:sp>
        <p:nvSpPr>
          <p:cNvPr id="232" name="CasellaDiTesto 2"/>
          <p:cNvSpPr/>
          <p:nvPr/>
        </p:nvSpPr>
        <p:spPr>
          <a:xfrm>
            <a:off x="5292720" y="4915080"/>
            <a:ext cx="379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836c8"/>
                </a:solidFill>
                <a:latin typeface="Calibri"/>
                <a:ea typeface="Calibri"/>
              </a:rPr>
              <a:t>Livorno, 22 Aprile 2013</a:t>
            </a:r>
            <a:br>
              <a:rPr sz="2400"/>
            </a:br>
            <a:r>
              <a:rPr b="1" lang="it-IT" sz="2400" spc="-1" strike="noStrike">
                <a:solidFill>
                  <a:srgbClr val="0836c8"/>
                </a:solidFill>
                <a:latin typeface="Calibri"/>
                <a:ea typeface="Calibri"/>
              </a:rPr>
              <a:t>Trofeo Accademia Nava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86960" y="2781000"/>
            <a:ext cx="7745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800" spc="-1" strike="noStrike">
              <a:solidFill>
                <a:srgbClr val="0836c8"/>
              </a:solidFill>
              <a:latin typeface="Calibri"/>
              <a:ea typeface="Calibri"/>
            </a:endParaRPr>
          </a:p>
        </p:txBody>
      </p:sp>
      <p:pic>
        <p:nvPicPr>
          <p:cNvPr id="234" name="Picture 2" descr="G:\Ufficio - CentroStudi\SELENE\PROGETTI\PO_ITALIA_FRANCIA_MARITTIMO\PER_MARE\comunicazione\manuale_comunicazione\Logo_Marittimo.jpg"/>
          <p:cNvPicPr/>
          <p:nvPr/>
        </p:nvPicPr>
        <p:blipFill>
          <a:blip r:embed="rId1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G:\Ufficio - CentroStudi\SELENE\PROGETTI\PO_ITALIA_FRANCIA_MARITTIMO\PER_MARE\comunicazione\manuale_comunicazione\UE_def.jpg"/>
          <p:cNvPicPr/>
          <p:nvPr/>
        </p:nvPicPr>
        <p:blipFill>
          <a:blip r:embed="rId2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5" descr="G:\Ufficio - CentroStudi\SELENE\PROGETTI\PO_ITALIA_FRANCIA_MARITTIMO\PER_MARE\comunicazione\manuale_comunicazione\logo-progetto.jpg"/>
          <p:cNvPicPr/>
          <p:nvPr/>
        </p:nvPicPr>
        <p:blipFill>
          <a:blip r:embed="rId3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4:54:59Z</dcterms:created>
  <dc:creator>Piccini Silvia</dc:creator>
  <dc:description/>
  <dc:language>en-US</dc:language>
  <cp:lastModifiedBy>Piccini Silvia</cp:lastModifiedBy>
  <dcterms:modified xsi:type="dcterms:W3CDTF">2013-04-16T09:03:50Z</dcterms:modified>
  <cp:revision>14</cp:revision>
  <dc:subject/>
  <dc:title>Presentazione standard di PowerPoint</dc:title>
</cp:coreProperties>
</file>