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940F-3BC3-466B-80C8-3BB8E815CE7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7CD4-A8E3-4F06-A937-1AFFA08A5607}" type="slidenum">
              <a:rPr b="0" lang="it-IT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612-A30D-4E27-93B9-0B155619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F532-2ACD-4B63-991A-CC436116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A5C-9A1F-4EE8-8E40-4B0EA225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32E-A992-42FD-8966-46AAD1A2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E4C4-07EE-4AE2-BDA0-12EB4598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B3F7-E45D-4771-9FA5-CD5FFA1E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5BA7-3F18-495D-B237-70EC3DDB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40E6-C687-4635-8814-D8BEFF73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5222-F8AA-43C5-AA1F-8AA19581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6E9A-2907-4B91-85CB-0F0A0B63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FAF2-8997-4B5D-84CB-320DB1B5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87E-9019-4EB0-AB78-098B9E40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9522-FF40-418F-BB08-80DDF4E6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8615-E386-4DBC-AA2B-2B36C0EC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7C64-2E05-4726-AB9D-F42343C0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666A-9002-495A-AC2F-DD644652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6CD1-5907-4DBA-B322-046CFD81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9F7A2-9677-427E-8CCA-28CCCDEF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DF9F-B896-425B-A9C6-C4DDA768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A5579-F08B-4B19-BFC4-59B9AD75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FAFEE-E78D-4400-A54F-75B53C0E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E3595-0537-4CD6-8226-F3A4A68F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654-9722-451A-8CEA-0E00C817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99AF6-E3BB-4383-92A0-37A518B2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75D5-5EAC-4351-9772-CDB57B94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7302F-BA4D-4EE9-9CE9-E957A2E2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0CDDB-9702-4D7A-88DF-824E5E3D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369F4-67DC-4C03-A17E-99B8464E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47DFF-5540-4F6C-B7FF-3FA3B916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A843F-06EF-4912-A7FC-DF302CA6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D3DAD-4A58-40BA-838B-ECE22E69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A85ED-6170-436C-9407-221D5E35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19EB3-C302-4F72-BB56-0C2234CE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5EB-F8C4-4C1B-A2E2-834A395A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20BFE-3B6A-4A09-B9CC-40BCFDF7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F2B42-2A65-4722-BA63-6A0E870C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97C42-2136-449F-A743-38EEF5EA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D23E1-2937-48BD-8337-79AE137E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A1249-4C64-44A6-9463-DE9B9D4D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BF61E-BBA1-4658-B8E3-FA1B95DA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9FDAE-0620-45C7-A4FA-B26EB864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E702D-BD79-4FF5-A0B8-C7C04800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DF5CA-BFD9-49D0-9B76-2BD3961F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9C8-6474-415A-BA7D-7DE48A72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B9E-F530-424F-950A-A1718BA7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A757-2A38-4235-85C8-44D611AE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808F-5991-4B41-8B4A-8F081E3E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4C9-44C4-4A7A-8AC3-5956F6CB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E2AF-0DF9-4F1E-B81D-A2A5B5E6372A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4967-0709-403F-A250-88425B8F7C9F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E72F-0A68-4812-88D9-5CFECA77C387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EA21-99A4-4768-AFC3-D060EC4402AC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olo 1" descr=""/>
          <p:cNvPicPr/>
          <p:nvPr/>
        </p:nvPicPr>
        <p:blipFill>
          <a:blip r:embed="rId1"/>
          <a:stretch/>
        </p:blipFill>
        <p:spPr>
          <a:xfrm>
            <a:off x="2730600" y="2262240"/>
            <a:ext cx="6572160" cy="2565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309840" y="100080"/>
            <a:ext cx="2517840" cy="1342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Users\eli0668\AppData\Local\Temp\ARC8E52\Slogan fra.tif"/>
          <p:cNvPicPr/>
          <p:nvPr/>
        </p:nvPicPr>
        <p:blipFill>
          <a:blip r:embed="rId3"/>
          <a:stretch/>
        </p:blipFill>
        <p:spPr>
          <a:xfrm>
            <a:off x="5864400" y="1427040"/>
            <a:ext cx="2344680" cy="57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Users\eli0668\AppData\Local\Temp\ARCBF13\Slogan it.tif"/>
          <p:cNvPicPr/>
          <p:nvPr/>
        </p:nvPicPr>
        <p:blipFill>
          <a:blip r:embed="rId4"/>
          <a:stretch/>
        </p:blipFill>
        <p:spPr>
          <a:xfrm>
            <a:off x="750960" y="1427040"/>
            <a:ext cx="2562120" cy="576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G:\Ufficio - CentroStudi\SELENE\PROGETTI\PO_ITALIA_FRANCIA_MARITTIMO\PER_MARE\comunicazione\manuale_comunicazione\UE_def.jpg"/>
          <p:cNvPicPr/>
          <p:nvPr/>
        </p:nvPicPr>
        <p:blipFill>
          <a:blip r:embed="rId5"/>
          <a:stretch/>
        </p:blipFill>
        <p:spPr>
          <a:xfrm>
            <a:off x="0" y="6308640"/>
            <a:ext cx="4656240" cy="542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Users\eli0668\AppData\Local\Temp\ARC9351\Logo RAS.gif"/>
          <p:cNvPicPr/>
          <p:nvPr/>
        </p:nvPicPr>
        <p:blipFill>
          <a:blip r:embed="rId6"/>
          <a:stretch/>
        </p:blipFill>
        <p:spPr>
          <a:xfrm>
            <a:off x="6084720" y="6210360"/>
            <a:ext cx="1582920" cy="647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C:\Users\eli0668\AppData\Local\Temp\ARCD725\Logo Regione Liguria.bmp"/>
          <p:cNvPicPr/>
          <p:nvPr/>
        </p:nvPicPr>
        <p:blipFill>
          <a:blip r:embed="rId7"/>
          <a:stretch/>
        </p:blipFill>
        <p:spPr>
          <a:xfrm>
            <a:off x="5292720" y="6041880"/>
            <a:ext cx="644400" cy="816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C:\Users\eli0668\AppData\Local\Temp\ARC185A\Logo Regione Toscana.bmp"/>
          <p:cNvPicPr/>
          <p:nvPr/>
        </p:nvPicPr>
        <p:blipFill>
          <a:blip r:embed="rId8"/>
          <a:stretch/>
        </p:blipFill>
        <p:spPr>
          <a:xfrm>
            <a:off x="4572000" y="6000840"/>
            <a:ext cx="574560" cy="857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C:\Users\eli0668\AppData\Local\Temp\ARC7163\Logoctc JPEG 2012.jpg"/>
          <p:cNvPicPr/>
          <p:nvPr/>
        </p:nvPicPr>
        <p:blipFill>
          <a:blip r:embed="rId9"/>
          <a:stretch/>
        </p:blipFill>
        <p:spPr>
          <a:xfrm>
            <a:off x="7716960" y="6118200"/>
            <a:ext cx="1395360" cy="733320"/>
          </a:xfrm>
          <a:prstGeom prst="rect">
            <a:avLst/>
          </a:prstGeom>
          <a:ln w="0">
            <a:noFill/>
          </a:ln>
        </p:spPr>
      </p:pic>
      <p:sp>
        <p:nvSpPr>
          <p:cNvPr id="230" name="Rettangolo 2"/>
          <p:cNvSpPr/>
          <p:nvPr/>
        </p:nvSpPr>
        <p:spPr>
          <a:xfrm>
            <a:off x="445176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12" descr="G:\Ufficio - CentroStudi\SELENE\PROGETTI\PO_ITALIA_FRANCIA_MARITTIMO\PER_MARE\comunicazione\manuale_comunicazione\LOGO_MARE02.jpg"/>
          <p:cNvPicPr/>
          <p:nvPr/>
        </p:nvPicPr>
        <p:blipFill>
          <a:blip r:embed="rId10"/>
          <a:stretch/>
        </p:blipFill>
        <p:spPr>
          <a:xfrm>
            <a:off x="115920" y="2276640"/>
            <a:ext cx="2922480" cy="3468600"/>
          </a:xfrm>
          <a:prstGeom prst="rect">
            <a:avLst/>
          </a:prstGeom>
          <a:ln w="0">
            <a:noFill/>
          </a:ln>
        </p:spPr>
      </p:pic>
      <p:sp>
        <p:nvSpPr>
          <p:cNvPr id="232" name="CasellaDiTesto 2"/>
          <p:cNvSpPr/>
          <p:nvPr/>
        </p:nvSpPr>
        <p:spPr>
          <a:xfrm>
            <a:off x="5292720" y="4915080"/>
            <a:ext cx="379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836c8"/>
                </a:solidFill>
                <a:latin typeface="Calibri"/>
                <a:ea typeface="Calibri"/>
              </a:rPr>
              <a:t>Livorno, 22 Aprile 2013</a:t>
            </a:r>
            <a:br>
              <a:rPr sz="2400"/>
            </a:br>
            <a:r>
              <a:rPr b="1" lang="it-IT" sz="2400" spc="-1" strike="noStrike">
                <a:solidFill>
                  <a:srgbClr val="0836c8"/>
                </a:solidFill>
                <a:latin typeface="Calibri"/>
                <a:ea typeface="Calibri"/>
              </a:rPr>
              <a:t>Trofeo Accademia Nava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86960" y="2781000"/>
            <a:ext cx="7745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800" spc="-1" strike="noStrike">
              <a:solidFill>
                <a:srgbClr val="0836c8"/>
              </a:solidFill>
              <a:latin typeface="Calibri"/>
              <a:ea typeface="Calibri"/>
            </a:endParaRPr>
          </a:p>
        </p:txBody>
      </p:sp>
      <p:pic>
        <p:nvPicPr>
          <p:cNvPr id="234" name="Picture 2" descr="G:\Ufficio - CentroStudi\SELENE\PROGETTI\PO_ITALIA_FRANCIA_MARITTIMO\PER_MARE\comunicazione\manuale_comunicazione\Logo_Marittimo.jpg"/>
          <p:cNvPicPr/>
          <p:nvPr/>
        </p:nvPicPr>
        <p:blipFill>
          <a:blip r:embed="rId1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G:\Ufficio - CentroStudi\SELENE\PROGETTI\PO_ITALIA_FRANCIA_MARITTIMO\PER_MARE\comunicazione\manuale_comunicazione\UE_def.jpg"/>
          <p:cNvPicPr/>
          <p:nvPr/>
        </p:nvPicPr>
        <p:blipFill>
          <a:blip r:embed="rId2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G:\Ufficio - CentroStudi\SELENE\PROGETTI\PO_ITALIA_FRANCIA_MARITTIMO\PER_MARE\comunicazione\manuale_comunicazione\logo-progetto.jpg"/>
          <p:cNvPicPr/>
          <p:nvPr/>
        </p:nvPicPr>
        <p:blipFill>
          <a:blip r:embed="rId3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4:54:59Z</dcterms:created>
  <dc:creator>Piccini Silvia</dc:creator>
  <dc:description/>
  <dc:language>en-US</dc:language>
  <cp:lastModifiedBy>Piccini Silvia</cp:lastModifiedBy>
  <dcterms:modified xsi:type="dcterms:W3CDTF">2013-04-16T09:03:50Z</dcterms:modified>
  <cp:revision>14</cp:revision>
  <dc:subject/>
  <dc:title>Presentazione standard di PowerPoint</dc:title>
</cp:coreProperties>
</file>