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0"/>
          </p:nvPr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273C0-A577-48DC-9418-B0EC573EFE3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7A9CE3-6C1A-4056-9174-6EC81BC94F7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58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462193-325A-49BB-860A-6F890AE784D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58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1B67F2-55B2-4FA3-8879-A80B731352F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57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101603-48F7-45B3-B238-08A9D86A785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57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899A64-FD5E-4909-86FE-8E2B85A06A2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58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06F604-429B-4EA1-BD16-4536FF7262F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4DDF3-134D-4707-8A29-F3DBCBC79F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B672-69E3-4E46-9BDD-2162A3E8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76773-BAA5-4352-B4E8-9AE7D2D7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0C6CD-DE1B-4731-9C2C-9F5BD6F3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702A9-9979-42E4-BC4E-45E2A361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00E3C-67E9-4D8F-9862-4E370C02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AC048-188A-4933-A493-B5F4157B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38345-6AF3-4053-B4D3-7C950B06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44B03-8AA1-4B74-910E-17BA3620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4064E-43C3-45AA-8ADF-CE39603C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89EA5-D9CA-4D18-9DE0-A8D76D1AF5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357E-3248-4E6A-8EA6-D812E6CB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2C6D5-9D98-41A7-BF42-4678CCFE21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97B4F-F023-4702-B484-3C6640F65F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C292E-3801-4D1E-8196-651377A7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2BF22-6621-4166-8477-CDDC8167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B1127-FB73-4455-9358-2E43E5A6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68FBD-B245-4D8B-9F7C-78678395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20E64-3322-49D2-A2A9-93C05890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C2E79-B409-4CF2-A70F-06F5271E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9D49-DD90-496E-B28A-BDB06903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723B4-0B15-4F44-9573-F6F5536C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5A97C-09B5-4124-A510-07EA8F7D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FE67A-9FAC-4948-AE37-8731DFCC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AFA74-1BB0-4DE2-B276-319FA7AF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19A1D-1D2B-44D4-ABDA-8786728759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A660-F172-4ACE-8A1F-8929BEB36F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B12F-6196-40D9-82F8-D01E37B6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B6C9-23E0-47B0-A84B-A2E31677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19FD-D008-4D0B-BBB8-53BFC52F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2829-D283-4093-B3E5-298765E2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9E19-E383-44FE-B66C-D7D36CA9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88F5-6518-4A82-B7F8-FE0F02ED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56B4-FD13-4C96-B5BC-76E1C2A2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5D6D-BF21-4BC6-B264-C0924523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E549-55C6-49F1-A1D9-4717730C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AC73-7FF1-4E90-A73E-C1224F07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590E-6981-4660-9121-6BBF48F1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1CA4-E59E-4BCB-9B4E-6706FB0922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C8FA8-3824-4DC2-8CDB-8411720B5A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165B2-9710-4123-9990-9BBFA3CB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08587-FDE5-46DC-BB5E-F5EA3B82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B1C3-65FE-4A80-9263-1C509DC9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081EA-985F-444C-A274-9559A024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E511D-B7C3-4340-8166-DC73E00E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E026A-463D-4136-9B31-7CB65359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54E9A-98D2-45F2-B497-FC30EC01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A01ED-050F-4358-80F6-100CF224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D5E0D-9C1E-40FE-A663-35CF0A28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AF6EF-7CF5-44FE-B2D9-BEC2237B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AC1F1-65DD-424B-9F49-13FBC2F2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F2463-D385-47E7-A191-2D4652E77E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B192DA-95A8-4D95-82EA-0AB7DDA80A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0ADF-815B-42D1-ADA0-A631B516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9900D2-A1A8-4EDF-830C-C92FF16B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D49866-3493-4535-BCF7-33F687DF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A074EA-86B5-4FF9-8EFC-1D108601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C5D76-A6AD-4DB7-AC12-1F78400F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B6DD38-9471-4874-828E-96E0B4D3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EF6CA7-90B9-4F1A-94B4-4A9BF9EF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0C385-E290-4B8C-BD66-FF8B0476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ED431F-6FDB-4689-8F74-BB8418A0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D3F15-7021-4BEE-B9A9-E6B992F1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1095D6-50D3-496A-ACED-6BD4ACF7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1B0FF-0AB0-4184-A0B1-8CFF18D1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EA1306-D156-4014-AA2C-D13E4BA88C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979A8-D0BC-44AF-A23B-9AF0E06443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94FD2-C24E-45C1-BCF8-60937945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4137C-0EED-4E71-BB89-D3D7B47D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1FEF4-C26C-40C3-AD06-241D825E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073FD-612E-468A-9987-061D6DBF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9299F-C5E7-422E-AFF9-4FEF5715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B30D1-5452-43E1-B0F1-02CEA662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103AA-5D03-4CAB-91EE-F3F2051A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1F0B9-7596-4D61-A89C-9B0EA3CF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9CFB-C0E8-4A62-8E8E-4A730C86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98711-B688-4193-A7E9-D74F2878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3B5A3-F0D3-48E1-B7BE-6D57C742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8DFB4-5156-4DCD-9B23-3EA4AE6BA2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9A7116-1772-4937-BE42-75158C8117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1331E-191D-4507-BA04-5D7F6734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F7F50-BC11-48E0-BE54-4151DC0B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23BA2-546C-42E3-8C8A-05FE4DD5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52750-2611-4890-8B86-B1B77D31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6F7B8-B053-4702-B564-ABDB9FAE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C01DF-FF6C-47BE-AE50-C1A53D32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EF6C0-6E82-41CE-96EA-F0E4470B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BC30F3-C000-4D3C-8258-C88124A6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C38CE-1F07-4C8F-8B79-3EC9B290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D5A9B-3BA3-45EC-A412-45E7DEE2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8DDBE-FB43-459A-8D25-BE332559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29309-117B-4CCF-9B10-D020A8E4DC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7E6825-CAC2-4946-894E-C68A52D871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CC098A-6360-4E92-9FDE-CFEF8AB3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C0858A-09FC-4BF6-921C-491EBA09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890B0E-7FF0-453E-9477-E2EB4BBD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D33B8E-4738-4577-87AF-B2485F5B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0BAD-D4EB-490E-B473-D71D4CBF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64D29F-ABE1-4C2C-98FD-7A354786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35148D-6ED7-4CB7-BBD6-7161A3B0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08170F-985F-49B1-A43D-E98B5F10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DB58F6-E4FB-431A-ADE7-A45820E6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9C5006-71DA-490B-96E3-4D86BCC5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05BF3E-6AAA-4FEB-AB75-36F875F2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D70E7E-EF0A-4D9F-8DA6-237CFDC034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55F90-4838-472C-83DB-ED57F32B9E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8ABB7-7C6B-4005-B03F-531504D8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B7AF5-EB08-4519-B104-3EC21B1D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8/03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914BCB-851F-430D-9A7E-40ED0A0351DE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78760" y="115920"/>
            <a:ext cx="1714320" cy="1009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7480" y="216000"/>
            <a:ext cx="1099800" cy="790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4253040" y="189000"/>
            <a:ext cx="514080" cy="915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8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844BB9E-1A8A-432D-AEB5-E415EDF84C9B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459640" y="115920"/>
            <a:ext cx="484200" cy="86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8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E25A01-9CDC-4DFB-9B20-F7D359C26924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459640" y="115920"/>
            <a:ext cx="484200" cy="865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8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63AEAE-281A-48B5-9047-9E5EDB1BAAA2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459640" y="115920"/>
            <a:ext cx="484200" cy="865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8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7CC600-814E-4DDE-84E4-5B1F497B16C8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8459640" y="115920"/>
            <a:ext cx="484200" cy="865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8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B235186-B51F-44D8-B881-0188C3EBCBC4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459640" y="115920"/>
            <a:ext cx="484200" cy="8650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8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CAD589D-0DE2-48FE-89FA-5DDA60BE8AFA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8459640" y="115920"/>
            <a:ext cx="484200" cy="8650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8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851DAA-BA6A-4380-87BE-C50DFDDCE6AB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8459640" y="115920"/>
            <a:ext cx="484200" cy="8650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8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E49220-40A5-4ED0-8F5A-C31B8E5E0DCC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3429000"/>
            <a:ext cx="77724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900" spc="-1" strike="noStrike">
                <a:solidFill>
                  <a:srgbClr val="c00000"/>
                </a:solidFill>
                <a:latin typeface="Arial"/>
                <a:ea typeface="Arial"/>
              </a:rPr>
              <a:t>La validazione delle competenze</a:t>
            </a:r>
            <a:br>
              <a:rPr sz="2900"/>
            </a:br>
            <a:r>
              <a:rPr b="1" i="1" lang="it-IT" sz="2900" spc="-1" strike="noStrike">
                <a:solidFill>
                  <a:srgbClr val="c00000"/>
                </a:solidFill>
                <a:latin typeface="Arial"/>
                <a:ea typeface="Arial"/>
              </a:rPr>
              <a:t>in Regione Toscana</a:t>
            </a:r>
            <a:br>
              <a:rPr sz="2900"/>
            </a:br>
            <a:br>
              <a:rPr sz="2900"/>
            </a:br>
            <a:br>
              <a:rPr sz="2000"/>
            </a:br>
            <a:r>
              <a:rPr b="1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IVORNO, 1° april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2131920"/>
            <a:ext cx="77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Arial"/>
              </a:rPr>
              <a:t>TRANSPORT and LOGISTIC SECTOR SKILLS in the VET System according to EQ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24000" y="3500280"/>
            <a:ext cx="8569080" cy="86544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"/>
          <p:cNvCxnSpPr/>
          <p:nvPr/>
        </p:nvCxnSpPr>
        <p:spPr>
          <a:xfrm flipV="1">
            <a:off x="179280" y="691560"/>
            <a:ext cx="7920720" cy="153000"/>
          </a:xfrm>
          <a:prstGeom prst="bentConnector3">
            <a:avLst>
              <a:gd name="adj1" fmla="val 49997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539" name=""/>
          <p:cNvSpPr/>
          <p:nvPr/>
        </p:nvSpPr>
        <p:spPr>
          <a:xfrm>
            <a:off x="179280" y="44280"/>
            <a:ext cx="7848720" cy="576360"/>
          </a:xfrm>
          <a:custGeom>
            <a:avLst/>
            <a:gdLst>
              <a:gd name="textAreaLeft" fmla="*/ 0 w 7848720"/>
              <a:gd name="textAreaRight" fmla="*/ 7849080 w 7848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7" y="0"/>
                </a:lnTo>
                <a:lnTo>
                  <a:pt x="21600" y="10800"/>
                </a:lnTo>
                <a:lnTo>
                  <a:pt x="20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processo di validazione e certificazione delle competen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9280" y="1028520"/>
            <a:ext cx="81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La messa a regime dei processi di validazione e certificazione delle compet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84360" y="3645000"/>
            <a:ext cx="1885680" cy="555480"/>
            <a:chOff x="684360" y="3645000"/>
            <a:chExt cx="1885680" cy="555480"/>
          </a:xfrm>
        </p:grpSpPr>
        <p:sp>
          <p:nvSpPr>
            <p:cNvPr id="542" name=""/>
            <p:cNvSpPr/>
            <p:nvPr/>
          </p:nvSpPr>
          <p:spPr>
            <a:xfrm>
              <a:off x="684360" y="3645000"/>
              <a:ext cx="1885680" cy="555480"/>
            </a:xfrm>
            <a:prstGeom prst="roundRect">
              <a:avLst>
                <a:gd name="adj" fmla="val 16667"/>
              </a:avLst>
            </a:prstGeom>
            <a:solidFill>
              <a:srgbClr val="564242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9560" y="3672000"/>
              <a:ext cx="18352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Fase 1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Preparato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564000" y="3645000"/>
            <a:ext cx="1884240" cy="555480"/>
            <a:chOff x="3564000" y="3645000"/>
            <a:chExt cx="1884240" cy="555480"/>
          </a:xfrm>
        </p:grpSpPr>
        <p:sp>
          <p:nvSpPr>
            <p:cNvPr id="545" name=""/>
            <p:cNvSpPr/>
            <p:nvPr/>
          </p:nvSpPr>
          <p:spPr>
            <a:xfrm>
              <a:off x="3564000" y="3645000"/>
              <a:ext cx="1884240" cy="555480"/>
            </a:xfrm>
            <a:prstGeom prst="roundRect">
              <a:avLst>
                <a:gd name="adj" fmla="val 16667"/>
              </a:avLst>
            </a:prstGeom>
            <a:solidFill>
              <a:srgbClr val="564242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89200" y="3672000"/>
              <a:ext cx="183384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Fase 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Prima diffusione del serviz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372360" y="3645000"/>
            <a:ext cx="1885680" cy="555480"/>
            <a:chOff x="6372360" y="3645000"/>
            <a:chExt cx="1885680" cy="555480"/>
          </a:xfrm>
        </p:grpSpPr>
        <p:sp>
          <p:nvSpPr>
            <p:cNvPr id="548" name=""/>
            <p:cNvSpPr/>
            <p:nvPr/>
          </p:nvSpPr>
          <p:spPr>
            <a:xfrm>
              <a:off x="6372360" y="3645000"/>
              <a:ext cx="1885680" cy="555480"/>
            </a:xfrm>
            <a:prstGeom prst="roundRect">
              <a:avLst>
                <a:gd name="adj" fmla="val 16667"/>
              </a:avLst>
            </a:prstGeom>
            <a:solidFill>
              <a:srgbClr val="564242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97560" y="3672000"/>
              <a:ext cx="18352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Fase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Ulteriore diffusi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179280" y="4365720"/>
            <a:ext cx="2880000" cy="1798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pprovazione DGR 610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vvio delle 4 sperimentazio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Immigrati primavera ara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Apprendi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Assistenti famili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Operatori delle prof. portu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4221000"/>
            <a:ext cx="2879640" cy="2438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secuzione delle 4 sperimentazio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Immigrati primavera ara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Apprendi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Assistenti famili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Operatori delle prof. Portu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alisi sostenibilità e di eventuali modifiche normative per la messa a reg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264360" y="4365720"/>
            <a:ext cx="2879640" cy="1372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troduzione di eventuali modifiche norm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ssa a reg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onitoraggio e valu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rmazione continua opera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39640" y="2060640"/>
            <a:ext cx="1835280" cy="592200"/>
            <a:chOff x="539640" y="2060640"/>
            <a:chExt cx="1835280" cy="592200"/>
          </a:xfrm>
        </p:grpSpPr>
        <p:sp>
          <p:nvSpPr>
            <p:cNvPr id="554" name=""/>
            <p:cNvSpPr/>
            <p:nvPr/>
          </p:nvSpPr>
          <p:spPr>
            <a:xfrm>
              <a:off x="539640" y="2060640"/>
              <a:ext cx="1835280" cy="592200"/>
            </a:xfrm>
            <a:prstGeom prst="roundRect">
              <a:avLst>
                <a:gd name="adj" fmla="val 16667"/>
              </a:avLst>
            </a:prstGeom>
            <a:solidFill>
              <a:srgbClr val="564242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5480" y="2089080"/>
              <a:ext cx="180360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Indirizz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492360" y="1700280"/>
            <a:ext cx="5185080" cy="1366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GR n. 610 del 13.12.2010 approva gli “Indirizzi per la progressiva diffusione a livello regionale del servizio Validazione e certificazione delle competenze acquisite in contesti informali e non formal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0920" y="314172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Le fasi di attuazione in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8" name=""/>
          <p:cNvCxnSpPr/>
          <p:nvPr/>
        </p:nvCxnSpPr>
        <p:spPr>
          <a:xfrm flipV="1">
            <a:off x="179280" y="672480"/>
            <a:ext cx="7920720" cy="153000"/>
          </a:xfrm>
          <a:prstGeom prst="bentConnector3">
            <a:avLst>
              <a:gd name="adj1" fmla="val 49997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79280" y="44280"/>
            <a:ext cx="7848720" cy="576360"/>
          </a:xfrm>
          <a:custGeom>
            <a:avLst/>
            <a:gdLst>
              <a:gd name="textAreaLeft" fmla="*/ 0 w 7848720"/>
              <a:gd name="textAreaRight" fmla="*/ 7849080 w 7848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7" y="0"/>
                </a:lnTo>
                <a:lnTo>
                  <a:pt x="21600" y="10800"/>
                </a:lnTo>
                <a:lnTo>
                  <a:pt x="20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processo di validazione e certificazion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14200" y="651960"/>
            <a:ext cx="8029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La messa a regime dei processi di validazione e certificazione delle competenze</a:t>
            </a: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Presupposti 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>
            <a:hlinkClick r:id="rId1" action="ppaction://hlinksldjump"/>
          </p:cNvPr>
          <p:cNvSpPr/>
          <p:nvPr/>
        </p:nvSpPr>
        <p:spPr>
          <a:xfrm>
            <a:off x="395280" y="2421000"/>
            <a:ext cx="1881360" cy="3313080"/>
          </a:xfrm>
          <a:custGeom>
            <a:avLst/>
            <a:gdLst>
              <a:gd name="textAreaLeft" fmla="*/ 91800 w 1881360"/>
              <a:gd name="textAreaRight" fmla="*/ 1789560 w 1881360"/>
              <a:gd name="textAreaTop" fmla="*/ 91800 h 3313080"/>
              <a:gd name="textAreaBottom" fmla="*/ 3221280 h 3313080"/>
            </a:gdLst>
            <a:ahLst/>
            <a:rect l="textAreaLeft" t="textAreaTop" r="textAreaRight" b="textAreaBottom"/>
            <a:pathLst>
              <a:path w="21600" h="38035">
                <a:moveTo>
                  <a:pt x="3600" y="0"/>
                </a:moveTo>
                <a:arcTo wR="3600" hR="3600" stAng="16200000" swAng="-5400000"/>
                <a:lnTo>
                  <a:pt x="0" y="34435"/>
                </a:lnTo>
                <a:arcTo wR="3600" hR="3600" stAng="10800000" swAng="-5400000"/>
                <a:lnTo>
                  <a:pt x="18000" y="380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gge n. 92/201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riforma mdl promozione apprendimento permanente e realizzazione di un sistema nazionale di certificazion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627280" y="1773360"/>
            <a:ext cx="2521080" cy="446400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4464000"/>
              <a:gd name="textAreaBottom" fmla="*/ 4341240 h 4464000"/>
            </a:gdLst>
            <a:ahLst/>
            <a:rect l="textAreaLeft" t="textAreaTop" r="textAreaRight" b="textAreaBottom"/>
            <a:pathLst>
              <a:path w="21600" h="38244">
                <a:moveTo>
                  <a:pt x="3600" y="0"/>
                </a:moveTo>
                <a:arcTo wR="3600" hR="3600" stAng="16200000" swAng="-5400000"/>
                <a:lnTo>
                  <a:pt x="0" y="34644"/>
                </a:lnTo>
                <a:arcTo wR="3600" hR="3600" stAng="10800000" swAng="-5400000"/>
                <a:lnTo>
                  <a:pt x="18000" y="382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creto Legislativo n. 13/201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vente ad oggetto la Definizione delle norme generali e dei livelli essenziali delle prestazioni per l'individuazione e validazione degli apprendimenti non formali e informali e degli standard minimi di servizio del sistema nazionale di certificazion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435640" y="1557360"/>
            <a:ext cx="3240000" cy="4751280"/>
          </a:xfrm>
          <a:custGeom>
            <a:avLst/>
            <a:gdLst>
              <a:gd name="textAreaLeft" fmla="*/ 158040 w 3240000"/>
              <a:gd name="textAreaRight" fmla="*/ 3081960 w 3240000"/>
              <a:gd name="textAreaTop" fmla="*/ 158040 h 4751280"/>
              <a:gd name="textAreaBottom" fmla="*/ 4593240 h 4751280"/>
            </a:gdLst>
            <a:ahLst/>
            <a:rect l="textAreaLeft" t="textAreaTop" r="textAreaRight" b="textAreaBottom"/>
            <a:pathLst>
              <a:path w="21600" h="31674">
                <a:moveTo>
                  <a:pt x="3600" y="0"/>
                </a:moveTo>
                <a:arcTo wR="3600" hR="3600" stAng="16200000" swAng="-5400000"/>
                <a:lnTo>
                  <a:pt x="0" y="28074"/>
                </a:lnTo>
                <a:arcTo wR="3600" hR="3600" stAng="10800000" swAng="-5400000"/>
                <a:lnTo>
                  <a:pt x="18000" y="316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ccordi siglati a dicembre 201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- su apprendimento permanente, IFTS, EQF, Orientamento, Certificazione che disegnano un quadro di riferimento coerente e sottolineano l’intenzione delle regioni di promuovere un sistema fondato sull’integrazione dei servizi per il cittad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995640" y="5950080"/>
            <a:ext cx="1008000" cy="6476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403280" y="2133360"/>
            <a:ext cx="7129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D. Lgs. individua due linee di intervento che vedono il Gruppo Tecnico costituito da MPLS, ISFOL, Tecnostruttura e Regioni/Province Autonome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 cui la Regione Toscana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egnato nell’ambito della definizione d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16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velli essenziali delle prestazioni e standard minimi di servizio del sistema nazionale di certificazione delle competenz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16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pertorio nazionale dei titoli di istruzione e formazione e delle qualificazioni profession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/>
          <p:nvPr/>
        </p:nvSpPr>
        <p:spPr>
          <a:xfrm>
            <a:off x="179280" y="44280"/>
            <a:ext cx="7848720" cy="576360"/>
          </a:xfrm>
          <a:custGeom>
            <a:avLst/>
            <a:gdLst>
              <a:gd name="textAreaLeft" fmla="*/ 0 w 7848720"/>
              <a:gd name="textAreaRight" fmla="*/ 7849080 w 7848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7" y="0"/>
                </a:lnTo>
                <a:lnTo>
                  <a:pt x="21600" y="10800"/>
                </a:lnTo>
                <a:lnTo>
                  <a:pt x="20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sistema toscano nell’ambito del quadro na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0920" y="3429000"/>
            <a:ext cx="1008000" cy="6476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90792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tabLst>
                <a:tab algn="l" pos="0"/>
                <a:tab algn="l" pos="717480"/>
                <a:tab algn="l" pos="1631880"/>
                <a:tab algn="l" pos="2546280"/>
                <a:tab algn="l" pos="3460680"/>
                <a:tab algn="l" pos="4375080"/>
                <a:tab algn="l" pos="5289480"/>
                <a:tab algn="l" pos="6203880"/>
                <a:tab algn="l" pos="7118280"/>
                <a:tab algn="l" pos="8032680"/>
                <a:tab algn="l" pos="8947080"/>
                <a:tab algn="l" pos="9861480"/>
                <a:tab algn="l" pos="10775880"/>
                <a:tab algn="l" pos="10782360"/>
              </a:tabLst>
            </a:pPr>
            <a:r>
              <a:rPr b="0" lang="it-IT" sz="1800" spc="-1" strike="noStrike">
                <a:solidFill>
                  <a:srgbClr val="c00000"/>
                </a:solidFill>
                <a:latin typeface="Arial"/>
                <a:ea typeface="Arial"/>
              </a:rPr>
              <a:t>La Regione Toscana svolge il ruolo di coordinamento dei lavori della IX Commissione Istruzione, Formazione e Lavoro ed ha contribuito alla costruzione di un sistema nazionale di cert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95280" y="1413000"/>
            <a:ext cx="8462880" cy="1280520"/>
          </a:xfrm>
          <a:prstGeom prst="rect">
            <a:avLst/>
          </a:prstGeom>
          <a:solidFill>
            <a:srgbClr val="f2f2f2"/>
          </a:solidFill>
          <a:ln cap="sq" w="3240">
            <a:solidFill>
              <a:srgbClr val="c00000"/>
            </a:solidFill>
            <a:miter/>
          </a:ln>
          <a:effectLst>
            <a:outerShdw dist="81487" dir="167541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i="1" lang="it-IT" sz="1600" spc="-1" strike="noStrike">
                <a:solidFill>
                  <a:srgbClr val="c00000"/>
                </a:solidFill>
                <a:latin typeface="Arial"/>
              </a:rPr>
              <a:t>Perseguire la crescita della qualità e dell’efficienza dei servizi offerti mediante la costruzione di un sistema regionale delle competenze e dell’orientamento, come condizione per l’esercizio del diritto all’apprendimento durante tutto l’arco della vita</a:t>
            </a:r>
            <a:r>
              <a:rPr b="0" i="1" lang="it-IT" sz="1600" spc="-1" strike="noStrike">
                <a:solidFill>
                  <a:srgbClr val="c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nte: Piano di Indirizzo Generale Integrato, delibera C.R. n.93 del 20/09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19240" y="304920"/>
            <a:ext cx="5105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7956720" cy="504720"/>
          </a:xfrm>
          <a:custGeom>
            <a:avLst/>
            <a:gdLst>
              <a:gd name="textAreaLeft" fmla="*/ 0 w 7956720"/>
              <a:gd name="textAreaRight" fmla="*/ 7957080 w 7956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15" y="0"/>
                </a:lnTo>
                <a:lnTo>
                  <a:pt x="21600" y="10800"/>
                </a:lnTo>
                <a:lnTo>
                  <a:pt x="209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nti normative e costruzione del Sistema Regional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"/>
          <p:cNvCxnSpPr/>
          <p:nvPr/>
        </p:nvCxnSpPr>
        <p:spPr>
          <a:xfrm flipV="1">
            <a:off x="244080" y="1052640"/>
            <a:ext cx="153000" cy="79585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393" name=""/>
          <p:cNvSpPr/>
          <p:nvPr/>
        </p:nvSpPr>
        <p:spPr>
          <a:xfrm>
            <a:off x="324000" y="4581360"/>
            <a:ext cx="2170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levato grado di “diversificazione e flessibilità dei percorsi formativi al fine di rispondere ai bisogni individuali e sviluppare le attitudini individuali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4000" y="3429000"/>
            <a:ext cx="208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 u="sng">
                <a:solidFill>
                  <a:srgbClr val="4f81bd"/>
                </a:solidFill>
                <a:uFillTx/>
                <a:latin typeface="Arial"/>
              </a:rPr>
              <a:t>FAVORIRE LA PERSONALIZZAZIONE DEI PERCORSI FORMATI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71640" y="3429000"/>
            <a:ext cx="302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 u="sng">
                <a:solidFill>
                  <a:srgbClr val="e46c0a"/>
                </a:solidFill>
                <a:uFillTx/>
                <a:latin typeface="Arial"/>
              </a:rPr>
              <a:t>CONSENTIRE IL DIALOGO E L’INTEGRAZIONE TRA I DIVERSI SISTE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00360" y="4437000"/>
            <a:ext cx="33224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sistema delle competenze rende possibili i percorsi formativi individuali attraverso i diversi sistemi della formazione, dell’istruzione, dell’educazione non formale, rendendo effettivamente possibili i passaggi dall’uno all’altro e favorendo l’incontro tra domanda ed offerta nell’ambito dei servizi al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84720" y="3429000"/>
            <a:ext cx="252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 u="sng">
                <a:solidFill>
                  <a:srgbClr val="00b050"/>
                </a:solidFill>
                <a:uFillTx/>
                <a:latin typeface="Arial"/>
              </a:rPr>
              <a:t>ASSICURARE A CITTADINI ED IMPRESE UN SISTEMA TRASPA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2000" y="4365720"/>
            <a:ext cx="29638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ttraverso la declinazione del sistema mediante il quale è possibile accrescere la qualità dei servizi per l’impiego e la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rasparenz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delle certificazioni superando l’attuale proliferazione di profili e qualifiche e garantendo maggiore mobilità orizzontale e verti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5280" y="2924280"/>
            <a:ext cx="8424720" cy="264240"/>
          </a:xfrm>
          <a:prstGeom prst="rect">
            <a:avLst/>
          </a:prstGeom>
          <a:solidFill>
            <a:srgbClr val="c00000"/>
          </a:solidFill>
          <a:ln cap="sq" w="3240">
            <a:solidFill>
              <a:srgbClr val="c00000"/>
            </a:solidFill>
            <a:miter/>
          </a:ln>
          <a:effectLst>
            <a:outerShdw dist="81487" dir="167541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OBIETTIVI DEL SISTEMA REGIONALE DELLE COMPETE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97536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0360" y="115920"/>
            <a:ext cx="7956720" cy="504720"/>
          </a:xfrm>
          <a:custGeom>
            <a:avLst/>
            <a:gdLst>
              <a:gd name="textAreaLeft" fmla="*/ 0 w 7956720"/>
              <a:gd name="textAreaRight" fmla="*/ 7957080 w 7956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15" y="0"/>
                </a:lnTo>
                <a:lnTo>
                  <a:pt x="21600" y="10800"/>
                </a:lnTo>
                <a:lnTo>
                  <a:pt x="209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nti normative e costruzione del Sistema Regional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"/>
          <p:cNvCxnSpPr/>
          <p:nvPr/>
        </p:nvCxnSpPr>
        <p:spPr>
          <a:xfrm flipV="1">
            <a:off x="209160" y="684360"/>
            <a:ext cx="153000" cy="79585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504720" y="2349360"/>
            <a:ext cx="8639280" cy="1800"/>
          </a:xfrm>
          <a:prstGeom prst="line">
            <a:avLst/>
          </a:prstGeom>
          <a:ln cap="sq"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6720" y="6761160"/>
            <a:ext cx="8639280" cy="1440"/>
          </a:xfrm>
          <a:prstGeom prst="line">
            <a:avLst/>
          </a:prstGeom>
          <a:ln cap="sq"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6720" y="5753160"/>
            <a:ext cx="8639280" cy="1440"/>
          </a:xfrm>
          <a:prstGeom prst="line">
            <a:avLst/>
          </a:prstGeom>
          <a:ln cap="sq"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03640" y="1341360"/>
            <a:ext cx="3240360" cy="733320"/>
          </a:xfrm>
          <a:prstGeom prst="rect">
            <a:avLst/>
          </a:prstGeom>
          <a:noFill/>
          <a:ln cap="sq"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Gothic"/>
              </a:rPr>
              <a:t>Regolamento n. 47/R del 2003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Gothic"/>
              </a:rPr>
              <a:t>Regolamento di esecuzione della L.R. n. 32/2002 e s.m.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6720" y="4313160"/>
            <a:ext cx="8639280" cy="1800"/>
          </a:xfrm>
          <a:prstGeom prst="line">
            <a:avLst/>
          </a:prstGeom>
          <a:ln cap="sq"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27280" y="2637000"/>
            <a:ext cx="3816360" cy="1371600"/>
          </a:xfrm>
          <a:prstGeom prst="rect">
            <a:avLst/>
          </a:prstGeom>
          <a:noFill/>
          <a:ln cap="sq"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MS Gothic"/>
              </a:rPr>
              <a:t>DELIBERA GIUNTA n. 532/2009 e s.m.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Gothic"/>
              </a:rPr>
              <a:t>Approvazione del Disciplinare per  l’attuazione del sistema regionale delle competenze previsto dal Regolamento di esecuzione della L.R. 32/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MS Gothic"/>
              </a:rPr>
              <a:t>AVVIO SISTEMA A PARTIRE DAL 01/07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305840" y="2513160"/>
            <a:ext cx="1116000" cy="576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cret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approvaz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848720" y="3665520"/>
            <a:ext cx="1116000" cy="5745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cret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approvaz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234200" y="2513160"/>
            <a:ext cx="216000" cy="215640"/>
          </a:xfrm>
          <a:prstGeom prst="ellipse">
            <a:avLst/>
          </a:prstGeom>
          <a:solidFill>
            <a:srgbClr val="c00000"/>
          </a:solidFill>
          <a:ln cap="sq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7960" y="3089160"/>
            <a:ext cx="1116000" cy="576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cret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approvaz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448400" y="3056040"/>
            <a:ext cx="216000" cy="215640"/>
          </a:xfrm>
          <a:prstGeom prst="ellipse">
            <a:avLst/>
          </a:prstGeom>
          <a:solidFill>
            <a:srgbClr val="c00000"/>
          </a:solidFill>
          <a:ln cap="sq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38920" y="3592440"/>
            <a:ext cx="216000" cy="216000"/>
          </a:xfrm>
          <a:prstGeom prst="ellipse">
            <a:avLst/>
          </a:prstGeom>
          <a:solidFill>
            <a:srgbClr val="c00000"/>
          </a:solidFill>
          <a:ln cap="sq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659640" y="2565360"/>
            <a:ext cx="506160" cy="1622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700360" y="4437000"/>
            <a:ext cx="1942920" cy="1006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MS Gothic"/>
              </a:rPr>
              <a:t>DECRETO n.3519 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provazione dei costi spettanti ai componenti della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mmissione d'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4437000"/>
            <a:ext cx="1800360" cy="1006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MS Gothic"/>
              </a:rPr>
              <a:t>DECRETO 11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stituzione del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mitato Tecnic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er l’aggiornamento del RR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77080" y="4437000"/>
            <a:ext cx="2087640" cy="11890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MS Gothic"/>
              </a:rPr>
              <a:t>DECRETO 137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provata la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ocedur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er la presentazione di proposte di modifica/integrazione del RR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4000" y="1197000"/>
            <a:ext cx="4537080" cy="946440"/>
          </a:xfrm>
          <a:prstGeom prst="rect">
            <a:avLst/>
          </a:prstGeom>
          <a:noFill/>
          <a:ln cap="sq"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Gothic"/>
              </a:rPr>
              <a:t>L.R. n. 32/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Gothic"/>
              </a:rPr>
              <a:t>Testo unico della normativa della Regione Toscana in materia di educazione, istruzione, orientamento, formazione professionale e lavoro e s.m.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2852640"/>
            <a:ext cx="2233440" cy="936720"/>
          </a:xfrm>
          <a:custGeom>
            <a:avLst/>
            <a:gdLst>
              <a:gd name="textAreaLeft" fmla="*/ 132840 w 2233440"/>
              <a:gd name="textAreaRight" fmla="*/ 2100600 w 2233440"/>
              <a:gd name="textAreaTop" fmla="*/ 205920 h 936720"/>
              <a:gd name="textAreaBottom" fmla="*/ 73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4747"/>
                </a:moveTo>
                <a:lnTo>
                  <a:pt x="19308" y="4747"/>
                </a:lnTo>
                <a:lnTo>
                  <a:pt x="19308" y="0"/>
                </a:lnTo>
                <a:lnTo>
                  <a:pt x="21600" y="10800"/>
                </a:lnTo>
                <a:lnTo>
                  <a:pt x="19308" y="21600"/>
                </a:lnTo>
                <a:lnTo>
                  <a:pt x="19308" y="16853"/>
                </a:lnTo>
                <a:lnTo>
                  <a:pt x="0" y="16853"/>
                </a:lnTo>
                <a:lnTo>
                  <a:pt x="1285" y="10800"/>
                </a:lnTo>
                <a:lnTo>
                  <a:pt x="0" y="4747"/>
                </a:lnTo>
                <a:close/>
              </a:path>
            </a:pathLst>
          </a:cu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16200000"/>
          </a:gradFill>
          <a:ln cap="sq" w="9360">
            <a:solidFill>
              <a:srgbClr val="000000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  <a:ea typeface="MS Gothic"/>
              </a:rPr>
              <a:t>Disciplinare SRC e inserimento Figure nel Reper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0920" y="4484520"/>
            <a:ext cx="2305080" cy="960480"/>
          </a:xfrm>
          <a:custGeom>
            <a:avLst/>
            <a:gdLst>
              <a:gd name="textAreaLeft" fmla="*/ 136800 w 2305080"/>
              <a:gd name="textAreaRight" fmla="*/ 2168280 w 2305080"/>
              <a:gd name="textAreaTop" fmla="*/ 210960 h 960480"/>
              <a:gd name="textAreaBottom" fmla="*/ 749520 h 960480"/>
            </a:gdLst>
            <a:ahLst/>
            <a:rect l="textAreaLeft" t="textAreaTop" r="textAreaRight" b="textAreaBottom"/>
            <a:pathLst>
              <a:path w="21600" h="21600">
                <a:moveTo>
                  <a:pt x="0" y="4747"/>
                </a:moveTo>
                <a:lnTo>
                  <a:pt x="19308" y="4747"/>
                </a:lnTo>
                <a:lnTo>
                  <a:pt x="19308" y="0"/>
                </a:lnTo>
                <a:lnTo>
                  <a:pt x="21600" y="10800"/>
                </a:lnTo>
                <a:lnTo>
                  <a:pt x="19308" y="21600"/>
                </a:lnTo>
                <a:lnTo>
                  <a:pt x="19308" y="16853"/>
                </a:lnTo>
                <a:lnTo>
                  <a:pt x="0" y="16853"/>
                </a:lnTo>
                <a:lnTo>
                  <a:pt x="1285" y="10800"/>
                </a:lnTo>
                <a:lnTo>
                  <a:pt x="0" y="4747"/>
                </a:lnTo>
                <a:close/>
              </a:path>
            </a:pathLst>
          </a:cu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16200000"/>
          </a:gradFill>
          <a:ln cap="sq" w="9360">
            <a:solidFill>
              <a:srgbClr val="000000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  <a:ea typeface="MS Gothic"/>
              </a:rPr>
              <a:t>Modifiche normativa di gest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920" y="5805360"/>
            <a:ext cx="1584360" cy="792360"/>
          </a:xfrm>
          <a:custGeom>
            <a:avLst/>
            <a:gdLst>
              <a:gd name="textAreaLeft" fmla="*/ 138960 w 1584360"/>
              <a:gd name="textAreaRight" fmla="*/ 1445400 w 1584360"/>
              <a:gd name="textAreaTop" fmla="*/ 173880 h 792360"/>
              <a:gd name="textAreaBottom" fmla="*/ 618480 h 792360"/>
            </a:gdLst>
            <a:ahLst/>
            <a:rect l="textAreaLeft" t="textAreaTop" r="textAreaRight" b="textAreaBottom"/>
            <a:pathLst>
              <a:path w="21600" h="21600">
                <a:moveTo>
                  <a:pt x="0" y="4747"/>
                </a:moveTo>
                <a:lnTo>
                  <a:pt x="18216" y="4747"/>
                </a:lnTo>
                <a:lnTo>
                  <a:pt x="18216" y="0"/>
                </a:lnTo>
                <a:lnTo>
                  <a:pt x="21600" y="10800"/>
                </a:lnTo>
                <a:lnTo>
                  <a:pt x="18216" y="21600"/>
                </a:lnTo>
                <a:lnTo>
                  <a:pt x="18216" y="16853"/>
                </a:lnTo>
                <a:lnTo>
                  <a:pt x="0" y="16853"/>
                </a:lnTo>
                <a:lnTo>
                  <a:pt x="1897" y="10800"/>
                </a:lnTo>
                <a:lnTo>
                  <a:pt x="0" y="4747"/>
                </a:lnTo>
                <a:close/>
              </a:path>
            </a:pathLst>
          </a:cu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16200000"/>
          </a:gradFill>
          <a:ln cap="sq" w="9360">
            <a:solidFill>
              <a:srgbClr val="000000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  <a:ea typeface="MS Gothic"/>
              </a:rPr>
              <a:t>Schemi e mode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79640" y="5950080"/>
            <a:ext cx="1224000" cy="576000"/>
          </a:xfrm>
          <a:prstGeom prst="foldedCorner">
            <a:avLst>
              <a:gd name="adj" fmla="val 12500"/>
            </a:avLst>
          </a:prstGeom>
          <a:solidFill>
            <a:srgbClr val="37609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FORMUL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5969160"/>
            <a:ext cx="1224000" cy="576000"/>
          </a:xfrm>
          <a:prstGeom prst="foldedCorner">
            <a:avLst>
              <a:gd name="adj" fmla="val 12500"/>
            </a:avLst>
          </a:prstGeom>
          <a:solidFill>
            <a:srgbClr val="37609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VERBA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DI ESA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5969160"/>
            <a:ext cx="1224000" cy="576000"/>
          </a:xfrm>
          <a:prstGeom prst="foldedCorner">
            <a:avLst>
              <a:gd name="adj" fmla="val 12500"/>
            </a:avLst>
          </a:prstGeom>
          <a:solidFill>
            <a:srgbClr val="37609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ATTESTA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DI QUALIF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5969160"/>
            <a:ext cx="1224000" cy="576000"/>
          </a:xfrm>
          <a:prstGeom prst="foldedCorner">
            <a:avLst>
              <a:gd name="adj" fmla="val 12500"/>
            </a:avLst>
          </a:prstGeom>
          <a:solidFill>
            <a:srgbClr val="37609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CERTIFICATO D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COMPETENZ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169040" y="5969160"/>
            <a:ext cx="1224000" cy="576000"/>
          </a:xfrm>
          <a:prstGeom prst="foldedCorner">
            <a:avLst>
              <a:gd name="adj" fmla="val 12500"/>
            </a:avLst>
          </a:prstGeom>
          <a:solidFill>
            <a:srgbClr val="37609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DICHIARAZI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D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APPRENDIMEN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97520" y="765000"/>
            <a:ext cx="27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Lo stato di attuazione del S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2843280" y="2565360"/>
          <a:ext cx="5976720" cy="2771640"/>
        </p:xfrm>
        <a:graphic>
          <a:graphicData uri="http://schemas.openxmlformats.org/drawingml/2006/table">
            <a:tbl>
              <a:tblPr/>
              <a:tblGrid>
                <a:gridCol w="1392120"/>
                <a:gridCol w="4584600"/>
              </a:tblGrid>
              <a:tr h="66348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Provincia di Ma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0000"/>
                      </a:solidFill>
                    </a:lnL>
                    <a:lnR w="720">
                      <a:solidFill>
                        <a:srgbClr val="c00000"/>
                      </a:solidFill>
                    </a:lnR>
                    <a:lnT w="720">
                      <a:solidFill>
                        <a:srgbClr val="c00000"/>
                      </a:solidFill>
                    </a:lnT>
                    <a:lnB w="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rimentazione della procedura di revisione e manutenzione degli standard professionali contenuti nel RRFP per il settore lapid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0000"/>
                      </a:solidFill>
                    </a:lnL>
                    <a:lnR w="720">
                      <a:solidFill>
                        <a:srgbClr val="c00000"/>
                      </a:solidFill>
                    </a:lnR>
                    <a:lnT w="720">
                      <a:solidFill>
                        <a:srgbClr val="c00000"/>
                      </a:solidFill>
                    </a:lnT>
                    <a:lnB w="72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Provincia di Firen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0000"/>
                      </a:solidFill>
                    </a:lnL>
                    <a:lnR w="720">
                      <a:solidFill>
                        <a:srgbClr val="c00000"/>
                      </a:solidFill>
                    </a:lnR>
                    <a:lnT w="720">
                      <a:solidFill>
                        <a:srgbClr val="c00000"/>
                      </a:solidFill>
                    </a:lnT>
                    <a:lnB w="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rimentazione nell’utilizzo del repertorio per l’incontro domanda - offerta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0000"/>
                      </a:solidFill>
                    </a:lnL>
                    <a:lnR w="720">
                      <a:solidFill>
                        <a:srgbClr val="c00000"/>
                      </a:solidFill>
                    </a:lnR>
                    <a:lnT w="720">
                      <a:solidFill>
                        <a:srgbClr val="c00000"/>
                      </a:solidFill>
                    </a:lnT>
                    <a:lnB w="72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Provincia di Gross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0000"/>
                      </a:solidFill>
                    </a:lnL>
                    <a:lnR w="720">
                      <a:solidFill>
                        <a:srgbClr val="c00000"/>
                      </a:solidFill>
                    </a:lnR>
                    <a:lnT w="720">
                      <a:solidFill>
                        <a:srgbClr val="c00000"/>
                      </a:solidFill>
                    </a:lnT>
                    <a:lnB w="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rimentazione di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 dispositivo di validazione e di certificazione delle competenze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l settore del turismo e della ristor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0000"/>
                      </a:solidFill>
                    </a:lnL>
                    <a:lnR w="720">
                      <a:solidFill>
                        <a:srgbClr val="c00000"/>
                      </a:solidFill>
                    </a:lnR>
                    <a:lnT w="720">
                      <a:solidFill>
                        <a:srgbClr val="c00000"/>
                      </a:solidFill>
                    </a:lnT>
                    <a:lnB w="72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Provincia di Are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0000"/>
                      </a:solidFill>
                    </a:lnL>
                    <a:lnR w="720">
                      <a:solidFill>
                        <a:srgbClr val="c00000"/>
                      </a:solidFill>
                    </a:lnR>
                    <a:lnT w="720">
                      <a:solidFill>
                        <a:srgbClr val="c00000"/>
                      </a:solidFill>
                    </a:lnT>
                    <a:lnB w="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rimentazione della procedura di revisione e manutenzione degli standard professionali contenuti nel RRFP nel settore ora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0000"/>
                      </a:solidFill>
                    </a:lnL>
                    <a:lnR w="720">
                      <a:solidFill>
                        <a:srgbClr val="c00000"/>
                      </a:solidFill>
                    </a:lnR>
                    <a:lnT w="720">
                      <a:solidFill>
                        <a:srgbClr val="c00000"/>
                      </a:solidFill>
                    </a:lnT>
                    <a:lnB w="720">
                      <a:solidFill>
                        <a:srgbClr val="c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2019240" y="304920"/>
            <a:ext cx="5105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"/>
          <p:cNvCxnSpPr/>
          <p:nvPr/>
        </p:nvCxnSpPr>
        <p:spPr>
          <a:xfrm flipV="1">
            <a:off x="244080" y="1052640"/>
            <a:ext cx="153000" cy="79585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32" name=""/>
          <p:cNvSpPr/>
          <p:nvPr/>
        </p:nvSpPr>
        <p:spPr>
          <a:xfrm>
            <a:off x="684360" y="155736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Le sperimentazioni per l’attuazione del Sistema Regionale delle Compet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5280" y="333360"/>
            <a:ext cx="7956720" cy="504720"/>
          </a:xfrm>
          <a:custGeom>
            <a:avLst/>
            <a:gdLst>
              <a:gd name="textAreaLeft" fmla="*/ 0 w 7956720"/>
              <a:gd name="textAreaRight" fmla="*/ 7957080 w 7956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15" y="0"/>
                </a:lnTo>
                <a:lnTo>
                  <a:pt x="21600" y="10800"/>
                </a:lnTo>
                <a:lnTo>
                  <a:pt x="209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nti normative e costruzione del Sistema Regional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0" y="2421000"/>
            <a:ext cx="2744640" cy="2995560"/>
            <a:chOff x="0" y="2421000"/>
            <a:chExt cx="2744640" cy="2995560"/>
          </a:xfrm>
        </p:grpSpPr>
        <p:pic>
          <p:nvPicPr>
            <p:cNvPr id="435" name="" descr=""/>
            <p:cNvPicPr/>
            <p:nvPr/>
          </p:nvPicPr>
          <p:blipFill>
            <a:blip r:embed="rId1"/>
            <a:stretch/>
          </p:blipFill>
          <p:spPr>
            <a:xfrm>
              <a:off x="0" y="2421000"/>
              <a:ext cx="2744640" cy="29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2"/>
            <a:stretch/>
          </p:blipFill>
          <p:spPr>
            <a:xfrm>
              <a:off x="154080" y="2440080"/>
              <a:ext cx="284040" cy="31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3"/>
            <a:stretch/>
          </p:blipFill>
          <p:spPr>
            <a:xfrm>
              <a:off x="1452600" y="4383000"/>
              <a:ext cx="28404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4"/>
            <a:stretch/>
          </p:blipFill>
          <p:spPr>
            <a:xfrm>
              <a:off x="2028960" y="3402000"/>
              <a:ext cx="28404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5"/>
            <a:stretch/>
          </p:blipFill>
          <p:spPr>
            <a:xfrm>
              <a:off x="1593720" y="3112920"/>
              <a:ext cx="284400" cy="31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"/>
          <p:cNvSpPr/>
          <p:nvPr/>
        </p:nvSpPr>
        <p:spPr>
          <a:xfrm>
            <a:off x="3924360" y="3716280"/>
            <a:ext cx="5005440" cy="93672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3840120" y="3103560"/>
            <a:ext cx="1461960" cy="1424160"/>
            <a:chOff x="3840120" y="3103560"/>
            <a:chExt cx="1461960" cy="142416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3840120" y="3103560"/>
              <a:ext cx="1461960" cy="14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214880" y="3813120"/>
              <a:ext cx="71280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3492360" y="2781360"/>
            <a:ext cx="2159280" cy="276480"/>
          </a:xfrm>
          <a:prstGeom prst="rect">
            <a:avLst/>
          </a:prstGeom>
          <a:solidFill>
            <a:srgbClr val="1f497d"/>
          </a:solidFill>
          <a:ln cap="sq"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TANDARD FORMA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24360" y="395460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MPETEN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700360" y="4622760"/>
            <a:ext cx="1727280" cy="459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TANDARD PROFESSION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859280" y="4622760"/>
            <a:ext cx="1728720" cy="641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TANDARD DI RICONOSCIMENTO E CERTIFICA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273880" y="6448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79280" y="2781360"/>
            <a:ext cx="2376720" cy="33624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77933c"/>
            </a:solidFill>
            <a:custDash>
              <a:ds d="100000" sp="100000"/>
            </a:custDash>
            <a:miter/>
          </a:ln>
          <a:effectLst>
            <a:outerShdw dist="81487" dir="167541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89000" algn="ctr">
              <a:tabLst>
                <a:tab algn="l" pos="0"/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ANDARD PROFESSION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ctr">
              <a:tabLst>
                <a:tab algn="l" pos="0"/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pertorio Regionale delle Figure Profession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Wingdings" charset="2"/>
              <a:buChar char="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4 schede descrittive di settori economici regional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Wingdings" charset="2"/>
              <a:buChar char="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irca 270 schede descrittive di figure professionali (ciascuna completa di riferimenti ATECO, ISCO, ISTAT Profession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Wingdings" charset="2"/>
              <a:buChar char="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irca 1100 Aree di Attività, circa 5.000 Conoscenze, circa 5.000 Capacità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Wingdings" charset="2"/>
              <a:buChar char="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ocedure standard per la gestione e l’implementazione del Reperto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659640" y="2781360"/>
            <a:ext cx="2376360" cy="327492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953735"/>
            </a:solidFill>
            <a:custDash>
              <a:ds d="100000" sp="100000"/>
            </a:custDash>
            <a:miter/>
          </a:ln>
          <a:effectLst>
            <a:outerShdw dist="81487" dir="167541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89000" algn="ctr">
              <a:tabLst>
                <a:tab algn="l" pos="0"/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ANDARD DI RICONOSCIMENTO E CERTIF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ctr">
              <a:tabLst>
                <a:tab algn="l" pos="0"/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Standard per i processi di certificazione delle competenze e di validazione delle esperien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Wingdings" charset="2"/>
              <a:buChar char="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per i processi di certificazion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Wingdings" charset="2"/>
              <a:buChar char="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per i processi di riconoscimento e validazione dell’esperienza non formale/informale anche ai fini del rilascio di qualifiche/certific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981000"/>
            <a:ext cx="5473440" cy="14400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1f497d"/>
            </a:solidFill>
            <a:custDash>
              <a:ds d="100000" sp="100000"/>
            </a:custDash>
            <a:miter/>
          </a:ln>
          <a:effectLst>
            <a:outerShdw dist="81487" dir="167541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89000" algn="ctr">
              <a:tabLst>
                <a:tab algn="l" pos="0"/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ANDARD FORMA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ctr">
              <a:tabLst>
                <a:tab algn="l" pos="0"/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Standard per i percorsi di formazione profession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per la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ogettazio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dei percorsi in relazione agli obiettivi di apprendimento in uscita, misurati sui livelli EQF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relativi ai contenuti per quanto attiene le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key competence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recepimento Raccomandazione dicembre 200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d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ercors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differenziati per “filiere” form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44" idx="1"/>
            <a:endCxn id="451" idx="2"/>
          </p:cNvCxnSpPr>
          <p:nvPr/>
        </p:nvCxnSpPr>
        <p:spPr>
          <a:xfrm flipV="1">
            <a:off x="2413080" y="1923840"/>
            <a:ext cx="1080000" cy="498960"/>
          </a:xfrm>
          <a:prstGeom prst="bentConnector3">
            <a:avLst>
              <a:gd name="adj1" fmla="val 49983"/>
            </a:avLst>
          </a:prstGeom>
          <a:ln cap="sq" w="9360">
            <a:solidFill>
              <a:srgbClr val="1f497d"/>
            </a:solidFill>
            <a:miter/>
          </a:ln>
        </p:spPr>
      </p:cxnSp>
      <p:cxnSp>
        <p:nvCxnSpPr>
          <p:cNvPr id="453" name=""/>
          <p:cNvCxnSpPr>
            <a:stCxn id="446" idx="2"/>
            <a:endCxn id="449" idx="2"/>
          </p:cNvCxnSpPr>
          <p:nvPr/>
        </p:nvCxnSpPr>
        <p:spPr>
          <a:xfrm flipV="1" rot="10800000">
            <a:off x="308880" y="5081400"/>
            <a:ext cx="1062720" cy="2196000"/>
          </a:xfrm>
          <a:prstGeom prst="bentConnector3">
            <a:avLst>
              <a:gd name="adj1" fmla="val 49983"/>
            </a:avLst>
          </a:prstGeom>
          <a:ln cap="sq" w="9360">
            <a:solidFill>
              <a:srgbClr val="4f6228"/>
            </a:solidFill>
            <a:miter/>
          </a:ln>
        </p:spPr>
      </p:cxnSp>
      <p:cxnSp>
        <p:nvCxnSpPr>
          <p:cNvPr id="454" name=""/>
          <p:cNvCxnSpPr>
            <a:stCxn id="447" idx="2"/>
            <a:endCxn id="450" idx="2"/>
          </p:cNvCxnSpPr>
          <p:nvPr/>
        </p:nvCxnSpPr>
        <p:spPr>
          <a:xfrm>
            <a:off x="4933440" y="5264280"/>
            <a:ext cx="793080" cy="2124720"/>
          </a:xfrm>
          <a:prstGeom prst="bentConnector3">
            <a:avLst>
              <a:gd name="adj1" fmla="val 50000"/>
            </a:avLst>
          </a:prstGeom>
          <a:ln cap="sq" w="9360">
            <a:solidFill>
              <a:srgbClr val="953735"/>
            </a:solidFill>
            <a:miter/>
          </a:ln>
        </p:spPr>
      </p:cxnSp>
      <p:sp>
        <p:nvSpPr>
          <p:cNvPr id="455" name=""/>
          <p:cNvSpPr/>
          <p:nvPr/>
        </p:nvSpPr>
        <p:spPr>
          <a:xfrm>
            <a:off x="3995640" y="692280"/>
            <a:ext cx="11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504d"/>
                </a:solidFill>
                <a:latin typeface="Arial"/>
              </a:rPr>
              <a:t>I tr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32360" y="4437000"/>
            <a:ext cx="1646280" cy="107964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189000"/>
            <a:ext cx="7956360" cy="504720"/>
          </a:xfrm>
          <a:custGeom>
            <a:avLst/>
            <a:gdLst>
              <a:gd name="textAreaLeft" fmla="*/ 0 w 7956360"/>
              <a:gd name="textAreaRight" fmla="*/ 7956720 w 7956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15" y="0"/>
                </a:lnTo>
                <a:lnTo>
                  <a:pt x="21600" y="10800"/>
                </a:lnTo>
                <a:lnTo>
                  <a:pt x="209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nti normative e costruzione del Sistema Regional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8" name=""/>
          <p:cNvCxnSpPr/>
          <p:nvPr/>
        </p:nvCxnSpPr>
        <p:spPr>
          <a:xfrm flipV="1">
            <a:off x="179280" y="691560"/>
            <a:ext cx="7920720" cy="153000"/>
          </a:xfrm>
          <a:prstGeom prst="bentConnector3">
            <a:avLst>
              <a:gd name="adj1" fmla="val 49997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250920" y="2193840"/>
            <a:ext cx="3678120" cy="276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455400" algn="just">
              <a:spcBef>
                <a:spcPts val="751"/>
              </a:spcBef>
              <a:tabLst>
                <a:tab algn="l" pos="0"/>
                <a:tab algn="l" pos="542880"/>
                <a:tab algn="l" pos="1457280"/>
                <a:tab algn="l" pos="2371680"/>
                <a:tab algn="l" pos="3286080"/>
                <a:tab algn="l" pos="4200480"/>
                <a:tab algn="l" pos="5114880"/>
                <a:tab algn="l" pos="6029280"/>
                <a:tab algn="l" pos="6943680"/>
                <a:tab algn="l" pos="7858080"/>
                <a:tab algn="l" pos="8772480"/>
                <a:tab algn="l" pos="9686880"/>
                <a:tab algn="l" pos="106012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</a:rPr>
              <a:t>Certificazione delle competen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9280" y="981000"/>
            <a:ext cx="864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541440"/>
                <a:tab algn="l" pos="1084320"/>
                <a:tab algn="l" pos="1627200"/>
                <a:tab algn="l" pos="2170080"/>
                <a:tab algn="l" pos="2712960"/>
                <a:tab algn="l" pos="3255840"/>
                <a:tab algn="l" pos="3798720"/>
                <a:tab algn="l" pos="4343400"/>
                <a:tab algn="l" pos="4884840"/>
                <a:tab algn="l" pos="5427720"/>
                <a:tab algn="l" pos="5970600"/>
                <a:tab algn="l" pos="6513480"/>
                <a:tab algn="l" pos="7056360"/>
                <a:tab algn="l" pos="7599240"/>
                <a:tab algn="l" pos="8142120"/>
                <a:tab algn="l" pos="8686800"/>
                <a:tab algn="l" pos="9228240"/>
                <a:tab algn="l" pos="9771120"/>
                <a:tab algn="l" pos="10314000"/>
                <a:tab algn="l" pos="1085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ertificazione delle competenze è svolta  dai                                       su richiesta del singolo individuo relativamente ai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per i quali  l’individuo intenda ottenere un                                     spendibile nel sistema dell’educazione e dei servizi al lavo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3440" y="1268280"/>
            <a:ext cx="3348000" cy="336600"/>
          </a:xfrm>
          <a:prstGeom prst="rect">
            <a:avLst/>
          </a:prstGeom>
          <a:noFill/>
          <a:ln cap="sq"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</a:rPr>
              <a:t>nuclei di competenza acquisiti e verificab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6720" y="1341360"/>
            <a:ext cx="1474920" cy="252360"/>
          </a:xfrm>
          <a:prstGeom prst="rect">
            <a:avLst/>
          </a:prstGeom>
          <a:noFill/>
          <a:ln cap="sq"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</a:rPr>
              <a:t>attestato for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"/>
          <p:cNvCxnSpPr>
            <a:stCxn id="461" idx="3"/>
            <a:endCxn id="464" idx="0"/>
          </p:cNvCxnSpPr>
          <p:nvPr/>
        </p:nvCxnSpPr>
        <p:spPr>
          <a:xfrm flipV="1" rot="10800000">
            <a:off x="2125080" y="1436400"/>
            <a:ext cx="1386000" cy="613440"/>
          </a:xfrm>
          <a:prstGeom prst="bentConnector3">
            <a:avLst>
              <a:gd name="adj1" fmla="val 49987"/>
            </a:avLst>
          </a:prstGeom>
          <a:ln cap="sq" w="28440">
            <a:solidFill>
              <a:srgbClr val="9bbb59"/>
            </a:solidFill>
            <a:miter/>
          </a:ln>
        </p:spPr>
      </p:cxnSp>
      <p:sp>
        <p:nvSpPr>
          <p:cNvPr id="465" name=""/>
          <p:cNvSpPr/>
          <p:nvPr/>
        </p:nvSpPr>
        <p:spPr>
          <a:xfrm>
            <a:off x="3564000" y="1052640"/>
            <a:ext cx="1511280" cy="288720"/>
          </a:xfrm>
          <a:prstGeom prst="rect">
            <a:avLst/>
          </a:prstGeom>
          <a:noFill/>
          <a:ln cap="sq"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</a:rPr>
              <a:t>soggetti prep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62360" y="2060640"/>
            <a:ext cx="2124360" cy="276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455400" algn="ctr">
              <a:spcBef>
                <a:spcPts val="751"/>
              </a:spcBef>
              <a:tabLst>
                <a:tab algn="l" pos="0"/>
                <a:tab algn="l" pos="542880"/>
                <a:tab algn="l" pos="1457280"/>
                <a:tab algn="l" pos="2371680"/>
                <a:tab algn="l" pos="3286080"/>
                <a:tab algn="l" pos="4200480"/>
                <a:tab algn="l" pos="5114880"/>
                <a:tab algn="l" pos="6029280"/>
                <a:tab algn="l" pos="6943680"/>
                <a:tab algn="l" pos="7858080"/>
                <a:tab algn="l" pos="8772480"/>
                <a:tab algn="l" pos="9686880"/>
                <a:tab algn="l" pos="106012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</a:rPr>
              <a:t>Attestato di qual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77080" y="2060640"/>
            <a:ext cx="2124000" cy="459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455400" algn="just">
              <a:spcBef>
                <a:spcPts val="751"/>
              </a:spcBef>
              <a:tabLst>
                <a:tab algn="l" pos="0"/>
                <a:tab algn="l" pos="542880"/>
                <a:tab algn="l" pos="1457280"/>
                <a:tab algn="l" pos="2371680"/>
                <a:tab algn="l" pos="3286080"/>
                <a:tab algn="l" pos="4200480"/>
                <a:tab algn="l" pos="5114880"/>
                <a:tab algn="l" pos="6029280"/>
                <a:tab algn="l" pos="6943680"/>
                <a:tab algn="l" pos="7858080"/>
                <a:tab algn="l" pos="8772480"/>
                <a:tab algn="l" pos="9686880"/>
                <a:tab algn="l" pos="106012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</a:rPr>
              <a:t>Certificato di competen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62360" y="2349360"/>
            <a:ext cx="2124360" cy="11890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" algn="just">
              <a:spcBef>
                <a:spcPts val="751"/>
              </a:spcBef>
              <a:tabLst>
                <a:tab algn="l" pos="0"/>
                <a:tab algn="l" pos="71280"/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rtificazione d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ut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le Unità di competenze associate alle Aree di Attività che compongono una Figura del Repertorio reg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77080" y="2349360"/>
            <a:ext cx="2124000" cy="10065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" algn="just">
              <a:spcBef>
                <a:spcPts val="751"/>
              </a:spcBef>
              <a:tabLst>
                <a:tab algn="l" pos="0"/>
                <a:tab algn="l" pos="71280"/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rtificazione d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una o più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Unità di competenze associate ad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una o più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Aree di Attività repertoriate nel Repertorio Reg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45080" y="3645000"/>
            <a:ext cx="4392720" cy="1008000"/>
          </a:xfrm>
          <a:prstGeom prst="rect">
            <a:avLst/>
          </a:prstGeom>
          <a:noFill/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prove d’esame devono essere finalizzate a verificare il possesso d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Unità di Competenz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ovvero la capacità del candidato, attraverso una prova di valutazione di realizzare le performance associate alle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ree di Attività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ui le Unità di Competenze oggetto di certificazione sono r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9280" y="5013360"/>
            <a:ext cx="8785440" cy="1666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mmissioni d’esam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ono composte dal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eferente provinciale, 2 esperti di settore e referente dell’agenzia formativa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 le prove di valutazione sono progettate con l’ausilio dell’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sperto di valutazione e certificazion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iscritto in apposito Albo regio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0920" y="2554200"/>
            <a:ext cx="3678120" cy="19191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attiva in esito a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ove di verifica e valutazio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delle competenze realizz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conclusione di percorso formativo realizzato secondo gli standard regionali per i percorsi formativi (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ià a regime dal 2009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seguito di percorso di validazione di esperienza acquisita in contesti non formali/informali, nei quali siano state riconosciute e validate competenze riconducibili alle Unità di competenze standardizzate (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n fase di messa a regim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9280" y="44280"/>
            <a:ext cx="7848720" cy="576360"/>
          </a:xfrm>
          <a:custGeom>
            <a:avLst/>
            <a:gdLst>
              <a:gd name="textAreaLeft" fmla="*/ 0 w 7848720"/>
              <a:gd name="textAreaRight" fmla="*/ 7849080 w 7848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7" y="0"/>
                </a:lnTo>
                <a:lnTo>
                  <a:pt x="21600" y="10800"/>
                </a:lnTo>
                <a:lnTo>
                  <a:pt x="20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processo di validazione e certificazion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6080" y="649080"/>
            <a:ext cx="854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Il processo di certificazione delle competenze acquisite in contesti formali, non formali e inform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73440" y="1916280"/>
            <a:ext cx="4535640" cy="2881080"/>
          </a:xfrm>
          <a:prstGeom prst="rect">
            <a:avLst/>
          </a:prstGeom>
          <a:noFill/>
          <a:ln cap="sq" w="25560">
            <a:solidFill>
              <a:srgbClr val="1f497d"/>
            </a:solidFill>
            <a:miter/>
          </a:ln>
          <a:effectLst>
            <a:outerShdw dist="81487" dir="707541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"/>
          <p:cNvCxnSpPr>
            <a:stCxn id="462" idx="2"/>
            <a:endCxn id="475" idx="0"/>
          </p:cNvCxnSpPr>
          <p:nvPr/>
        </p:nvCxnSpPr>
        <p:spPr>
          <a:xfrm flipV="1" rot="10800000">
            <a:off x="6520680" y="1593360"/>
            <a:ext cx="322920" cy="413640"/>
          </a:xfrm>
          <a:prstGeom prst="bentConnector3">
            <a:avLst>
              <a:gd name="adj1" fmla="val 50000"/>
            </a:avLst>
          </a:prstGeom>
          <a:ln cap="sq" w="28440">
            <a:solidFill>
              <a:srgbClr val="1f497d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179280" y="2049480"/>
            <a:ext cx="3892680" cy="2736720"/>
          </a:xfrm>
          <a:prstGeom prst="rect">
            <a:avLst/>
          </a:prstGeom>
          <a:noFill/>
          <a:ln cap="sq" w="25560">
            <a:solidFill>
              <a:srgbClr val="9bbb59"/>
            </a:solidFill>
            <a:miter/>
          </a:ln>
          <a:effectLst>
            <a:outerShdw dist="81487" dir="707541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6237360"/>
            <a:ext cx="4175280" cy="278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  <a:ea typeface="MS Gothic"/>
              </a:rPr>
              <a:t>Oltre 700 esperti presenti nell’Elenco Reg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50920" y="5229360"/>
            <a:ext cx="8713800" cy="278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  <a:ea typeface="MS Gothic"/>
              </a:rPr>
              <a:t>I percorsi attivati dal 2009 ad oggi sono 884, di cui 319 per rilascio qualifica e 565 per rilascio certificato competen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64517C-7A9B-4698-97AF-907AA3C68FF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"/>
          <p:cNvCxnSpPr/>
          <p:nvPr/>
        </p:nvCxnSpPr>
        <p:spPr>
          <a:xfrm flipV="1">
            <a:off x="179280" y="764640"/>
            <a:ext cx="7920720" cy="153360"/>
          </a:xfrm>
          <a:prstGeom prst="bentConnector3">
            <a:avLst>
              <a:gd name="adj1" fmla="val 49997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81" name=""/>
          <p:cNvSpPr/>
          <p:nvPr/>
        </p:nvSpPr>
        <p:spPr>
          <a:xfrm>
            <a:off x="2195640" y="820440"/>
            <a:ext cx="44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Il processo di validazione delle compete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79280" y="1341360"/>
            <a:ext cx="4032360" cy="287280"/>
          </a:xfrm>
          <a:custGeom>
            <a:avLst/>
            <a:gdLst>
              <a:gd name="textAreaLeft" fmla="*/ 0 w 4032360"/>
              <a:gd name="textAreaRight" fmla="*/ 4032720 w 4032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30" y="0"/>
                </a:lnTo>
                <a:lnTo>
                  <a:pt x="21600" y="10800"/>
                </a:lnTo>
                <a:lnTo>
                  <a:pt x="20830" y="21600"/>
                </a:lnTo>
                <a:lnTo>
                  <a:pt x="0" y="21600"/>
                </a:lnTo>
                <a:lnTo>
                  <a:pt x="770" y="10800"/>
                </a:lnTo>
                <a:close/>
              </a:path>
            </a:pathLst>
          </a:custGeom>
          <a:solidFill>
            <a:srgbClr val="7f7f7f"/>
          </a:solidFill>
          <a:ln cap="sq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icostr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00720" y="1341360"/>
            <a:ext cx="4030560" cy="287280"/>
          </a:xfrm>
          <a:custGeom>
            <a:avLst/>
            <a:gdLst>
              <a:gd name="textAreaLeft" fmla="*/ 0 w 4030560"/>
              <a:gd name="textAreaRight" fmla="*/ 4030560 w 40305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30" y="0"/>
                </a:lnTo>
                <a:lnTo>
                  <a:pt x="21600" y="10800"/>
                </a:lnTo>
                <a:lnTo>
                  <a:pt x="20830" y="21600"/>
                </a:lnTo>
                <a:lnTo>
                  <a:pt x="0" y="21600"/>
                </a:lnTo>
                <a:lnTo>
                  <a:pt x="770" y="10800"/>
                </a:lnTo>
                <a:close/>
              </a:path>
            </a:pathLst>
          </a:custGeom>
          <a:solidFill>
            <a:srgbClr val="7f7f7f"/>
          </a:solidFill>
          <a:ln cap="sq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Valid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9280" y="1736640"/>
            <a:ext cx="3961080" cy="6415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icostruzione dell’esperienza  professionale maturata in contest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non formali e inform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e delle competenze acquisi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0" y="1736640"/>
            <a:ext cx="3960720" cy="4590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lidazione degli elementi emersi dalla ricostruzione da parte dell’amministrazione provinciale compet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21080" y="4381560"/>
            <a:ext cx="1763640" cy="903600"/>
          </a:xfrm>
          <a:prstGeom prst="foldedCorner">
            <a:avLst>
              <a:gd name="adj" fmla="val 23675"/>
            </a:avLst>
          </a:prstGeom>
          <a:noFill/>
          <a:ln cap="sq"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accolta della documentazione in grado di testimoniare le esperienze maturate e ricostru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87200" y="2500200"/>
            <a:ext cx="1708200" cy="2484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Arial"/>
                <a:ea typeface="MS Gothic"/>
              </a:rPr>
              <a:t>MODALITA’ OPERA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79280" y="2884320"/>
            <a:ext cx="4176720" cy="930960"/>
          </a:xfrm>
          <a:prstGeom prst="rect">
            <a:avLst/>
          </a:prstGeom>
          <a:noFill/>
          <a:ln cap="sq" w="9360">
            <a:solidFill>
              <a:srgbClr val="7f7f7f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c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Avvio della fase di ricostruzione dell’esperienza da parte dell’amministrazione provinciale (CPI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Supporto di operatori in possesso di specifiche professionalità (orientatori di I e II Livello, etc.) al richiedente anche per la riconduzione delle competenze a quanto repertoriato nel RRF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16200000">
            <a:off x="-168480" y="4723200"/>
            <a:ext cx="1008000" cy="4006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Arial"/>
                <a:ea typeface="MS Gothic"/>
              </a:rPr>
              <a:t>DOCUMENTI PRODOT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89120" y="4376880"/>
            <a:ext cx="1584360" cy="11941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laborazione di un proprio curricul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laborazione Doss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laborazione del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ibretto Formativo del Cittad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21440" y="2320920"/>
            <a:ext cx="3166920" cy="2484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Arial"/>
                <a:ea typeface="MS Gothic"/>
              </a:rPr>
              <a:t>ESAME DELLE EVIDENZE DOCUM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0" y="2681280"/>
            <a:ext cx="4319640" cy="1098360"/>
          </a:xfrm>
          <a:prstGeom prst="rect">
            <a:avLst/>
          </a:prstGeom>
          <a:noFill/>
          <a:ln cap="sq" w="9360">
            <a:solidFill>
              <a:srgbClr val="7f7f7f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L’esame è svolto al fine di individuare le </a:t>
            </a:r>
            <a:r>
              <a:rPr b="1" lang="it-IT" sz="1100" spc="-1" strike="noStrike">
                <a:solidFill>
                  <a:srgbClr val="c00000"/>
                </a:solidFill>
                <a:latin typeface="Arial"/>
              </a:rPr>
              <a:t>Unità di Competenze</a:t>
            </a:r>
            <a:r>
              <a:rPr b="1" lang="it-IT" sz="11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ra quelle previste nel </a:t>
            </a:r>
            <a:r>
              <a:rPr b="1" lang="it-IT" sz="1100" spc="-1" strike="noStrike">
                <a:solidFill>
                  <a:srgbClr val="c00000"/>
                </a:solidFill>
                <a:latin typeface="Arial"/>
              </a:rPr>
              <a:t>Repertorio Regionale delle Figure professionali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, cui ricondurre le esperienze da validare. L’esame delle evidenze, effettuato dall’</a:t>
            </a:r>
            <a:r>
              <a:rPr b="1" lang="it-IT" sz="1100" spc="-1" strike="noStrike">
                <a:solidFill>
                  <a:srgbClr val="c00000"/>
                </a:solidFill>
                <a:latin typeface="Arial"/>
              </a:rPr>
              <a:t>amministrazione provinciale</a:t>
            </a:r>
            <a:r>
              <a:rPr b="1" lang="it-IT" sz="1100" spc="-1" strike="noStrike">
                <a:solidFill>
                  <a:srgbClr val="4f81bd"/>
                </a:solidFill>
                <a:latin typeface="Arial"/>
              </a:rPr>
              <a:t>,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 può comportare un </a:t>
            </a:r>
            <a:r>
              <a:rPr b="1" lang="it-IT" sz="1100" spc="-1" strike="noStrike">
                <a:solidFill>
                  <a:srgbClr val="c00000"/>
                </a:solidFill>
                <a:latin typeface="Arial"/>
              </a:rPr>
              <a:t>colloquio tecnico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 con la persona che richiede la validazio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96360" y="4292640"/>
            <a:ext cx="1512720" cy="930960"/>
          </a:xfrm>
          <a:prstGeom prst="rect">
            <a:avLst/>
          </a:prstGeom>
          <a:noFill/>
          <a:ln cap="sq" w="9360">
            <a:solidFill>
              <a:srgbClr val="7f7f7f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Richiesta da parte dell’amministrazione provinciale di ulteriore </a:t>
            </a:r>
            <a:r>
              <a:rPr b="0" lang="it-IT" sz="1100" spc="-1" strike="noStrike">
                <a:solidFill>
                  <a:srgbClr val="c00000"/>
                </a:solidFill>
                <a:latin typeface="Calibri"/>
              </a:rPr>
              <a:t>approfondimento</a:t>
            </a:r>
            <a:r>
              <a:rPr b="1" lang="it-IT" sz="11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della ricostruzio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94320" y="4292640"/>
            <a:ext cx="1512720" cy="1600560"/>
          </a:xfrm>
          <a:prstGeom prst="rect">
            <a:avLst/>
          </a:prstGeom>
          <a:noFill/>
          <a:ln cap="sq" w="9360">
            <a:solidFill>
              <a:srgbClr val="7f7f7f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c00000"/>
                </a:solidFill>
                <a:latin typeface="Calibri"/>
              </a:rPr>
              <a:t>Validazione</a:t>
            </a:r>
            <a:r>
              <a:rPr b="1" lang="it-IT" sz="11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delle competenze che risultano acquisite in base alla ricostruzione effettu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227640" y="4292640"/>
            <a:ext cx="1224000" cy="2484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Arial"/>
                <a:ea typeface="MS Gothic"/>
              </a:rPr>
              <a:t>POSSIBILI ESI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"/>
          <p:cNvCxnSpPr>
            <a:stCxn id="495" idx="2"/>
            <a:endCxn id="494" idx="3"/>
          </p:cNvCxnSpPr>
          <p:nvPr/>
        </p:nvCxnSpPr>
        <p:spPr>
          <a:xfrm flipV="1" rot="10800000">
            <a:off x="5473080" y="4539960"/>
            <a:ext cx="635760" cy="732600"/>
          </a:xfrm>
          <a:prstGeom prst="bentConnector3">
            <a:avLst>
              <a:gd name="adj1" fmla="val 49971"/>
            </a:avLst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97" name=""/>
          <p:cNvCxnSpPr>
            <a:stCxn id="495" idx="2"/>
            <a:endCxn id="493" idx="1"/>
          </p:cNvCxnSpPr>
          <p:nvPr/>
        </p:nvCxnSpPr>
        <p:spPr>
          <a:xfrm>
            <a:off x="6538680" y="4539960"/>
            <a:ext cx="302040" cy="757800"/>
          </a:xfrm>
          <a:prstGeom prst="bentConnector3">
            <a:avLst>
              <a:gd name="adj1" fmla="val 50000"/>
            </a:avLst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98" name=""/>
          <p:cNvCxnSpPr>
            <a:stCxn id="493" idx="0"/>
            <a:endCxn id="491" idx="3"/>
          </p:cNvCxnSpPr>
          <p:nvPr/>
        </p:nvCxnSpPr>
        <p:spPr>
          <a:xfrm flipV="1">
            <a:off x="6506640" y="2445840"/>
            <a:ext cx="1848600" cy="37440"/>
          </a:xfrm>
          <a:prstGeom prst="bentConnector3">
            <a:avLst>
              <a:gd name="adj1" fmla="val 50000"/>
            </a:avLst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99" name=""/>
          <p:cNvCxnSpPr>
            <a:stCxn id="494" idx="2"/>
            <a:endCxn id="500" idx="1"/>
          </p:cNvCxnSpPr>
          <p:nvPr/>
        </p:nvCxnSpPr>
        <p:spPr>
          <a:xfrm flipV="1">
            <a:off x="4482720" y="5189040"/>
            <a:ext cx="870840" cy="1023120"/>
          </a:xfrm>
          <a:prstGeom prst="bentConnector3">
            <a:avLst>
              <a:gd name="adj1" fmla="val 50000"/>
            </a:avLst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01" name=""/>
          <p:cNvCxnSpPr>
            <a:stCxn id="492" idx="2"/>
            <a:endCxn id="495" idx="0"/>
          </p:cNvCxnSpPr>
          <p:nvPr/>
        </p:nvCxnSpPr>
        <p:spPr>
          <a:xfrm>
            <a:off x="6221520" y="3781440"/>
            <a:ext cx="513360" cy="108720"/>
          </a:xfrm>
          <a:prstGeom prst="bentConnector3">
            <a:avLst>
              <a:gd name="adj1" fmla="val 49964"/>
            </a:avLst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6372360" y="4941720"/>
            <a:ext cx="1008000" cy="495720"/>
          </a:xfrm>
          <a:prstGeom prst="flowChartDocument">
            <a:avLst/>
          </a:prstGeom>
          <a:noFill/>
          <a:ln cap="sq"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cheda di valida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72000" y="6033960"/>
            <a:ext cx="2521080" cy="703080"/>
          </a:xfrm>
          <a:prstGeom prst="rect">
            <a:avLst/>
          </a:prstGeom>
          <a:solidFill>
            <a:srgbClr val="eeece1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rtecipazione ad un percorso formativo di tipo formale, al fine di sviluppare le competenze mancanti necessarie all’acquisizione della qualif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36000" y="6033960"/>
            <a:ext cx="1657080" cy="703080"/>
          </a:xfrm>
          <a:prstGeom prst="rect">
            <a:avLst/>
          </a:prstGeom>
          <a:solidFill>
            <a:srgbClr val="eeece1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ostenere l’esame per ottenere la certificazione delle competenze emerse dalla validazio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69000" y="5699160"/>
            <a:ext cx="3806640" cy="2484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Arial"/>
                <a:ea typeface="MS Gothic"/>
              </a:rPr>
              <a:t>OPPORTUNITA’ A CONCLUSIONE DEL PROCES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9280" y="44280"/>
            <a:ext cx="7848720" cy="648000"/>
          </a:xfrm>
          <a:custGeom>
            <a:avLst/>
            <a:gdLst>
              <a:gd name="textAreaLeft" fmla="*/ 0 w 7848720"/>
              <a:gd name="textAreaRight" fmla="*/ 7849080 w 7848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09" y="0"/>
                </a:lnTo>
                <a:lnTo>
                  <a:pt x="21600" y="10800"/>
                </a:lnTo>
                <a:lnTo>
                  <a:pt x="207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processo di validazione e certificazion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9280" y="3860640"/>
            <a:ext cx="4176720" cy="2484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Arial"/>
                <a:ea typeface="MS Gothic"/>
              </a:rPr>
              <a:t>Oltre 300 operatori formati nelle Province e nei S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"/>
          <p:cNvCxnSpPr>
            <a:stCxn id="488" idx="1"/>
            <a:endCxn id="506" idx="1"/>
          </p:cNvCxnSpPr>
          <p:nvPr/>
        </p:nvCxnSpPr>
        <p:spPr>
          <a:xfrm>
            <a:off x="178920" y="2714760"/>
            <a:ext cx="2520" cy="635760"/>
          </a:xfrm>
          <a:prstGeom prst="bentConnector3">
            <a:avLst>
              <a:gd name="adj1" fmla="val 50000"/>
            </a:avLst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24000" y="3284640"/>
            <a:ext cx="8569080" cy="86508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"/>
          <p:cNvCxnSpPr/>
          <p:nvPr/>
        </p:nvCxnSpPr>
        <p:spPr>
          <a:xfrm flipV="1">
            <a:off x="179280" y="691560"/>
            <a:ext cx="7920720" cy="153000"/>
          </a:xfrm>
          <a:prstGeom prst="bentConnector3">
            <a:avLst>
              <a:gd name="adj1" fmla="val 49997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510" name=""/>
          <p:cNvSpPr/>
          <p:nvPr/>
        </p:nvSpPr>
        <p:spPr>
          <a:xfrm>
            <a:off x="179280" y="44280"/>
            <a:ext cx="7848720" cy="576360"/>
          </a:xfrm>
          <a:custGeom>
            <a:avLst/>
            <a:gdLst>
              <a:gd name="textAreaLeft" fmla="*/ 0 w 7848720"/>
              <a:gd name="textAreaRight" fmla="*/ 7849080 w 7848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7" y="0"/>
                </a:lnTo>
                <a:lnTo>
                  <a:pt x="21600" y="10800"/>
                </a:lnTo>
                <a:lnTo>
                  <a:pt x="20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processo di validazione e certificazion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050920" y="907560"/>
            <a:ext cx="49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Il Libretto Formativo del cittadino: il perco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0920" y="299736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Le fasi di attuazione in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87280" y="3429000"/>
            <a:ext cx="1886040" cy="555480"/>
            <a:chOff x="287280" y="3429000"/>
            <a:chExt cx="1886040" cy="555480"/>
          </a:xfrm>
        </p:grpSpPr>
        <p:sp>
          <p:nvSpPr>
            <p:cNvPr id="514" name=""/>
            <p:cNvSpPr/>
            <p:nvPr/>
          </p:nvSpPr>
          <p:spPr>
            <a:xfrm>
              <a:off x="287280" y="3429000"/>
              <a:ext cx="1886040" cy="555480"/>
            </a:xfrm>
            <a:prstGeom prst="roundRect">
              <a:avLst>
                <a:gd name="adj" fmla="val 16667"/>
              </a:avLst>
            </a:prstGeom>
            <a:solidFill>
              <a:srgbClr val="564242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2840" y="3456000"/>
              <a:ext cx="18349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Fase 1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Preparato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549600" y="3429000"/>
            <a:ext cx="1884240" cy="555480"/>
            <a:chOff x="3549600" y="3429000"/>
            <a:chExt cx="1884240" cy="555480"/>
          </a:xfrm>
        </p:grpSpPr>
        <p:sp>
          <p:nvSpPr>
            <p:cNvPr id="517" name=""/>
            <p:cNvSpPr/>
            <p:nvPr/>
          </p:nvSpPr>
          <p:spPr>
            <a:xfrm>
              <a:off x="3549600" y="3429000"/>
              <a:ext cx="1884240" cy="555480"/>
            </a:xfrm>
            <a:prstGeom prst="roundRect">
              <a:avLst>
                <a:gd name="adj" fmla="val 16667"/>
              </a:avLst>
            </a:prstGeom>
            <a:solidFill>
              <a:srgbClr val="564242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75160" y="3456000"/>
              <a:ext cx="18334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Fase 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Prima implementazi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29240" y="3429000"/>
            <a:ext cx="1886040" cy="555480"/>
            <a:chOff x="6429240" y="3429000"/>
            <a:chExt cx="1886040" cy="555480"/>
          </a:xfrm>
        </p:grpSpPr>
        <p:sp>
          <p:nvSpPr>
            <p:cNvPr id="520" name=""/>
            <p:cNvSpPr/>
            <p:nvPr/>
          </p:nvSpPr>
          <p:spPr>
            <a:xfrm>
              <a:off x="6429240" y="3429000"/>
              <a:ext cx="1886040" cy="555480"/>
            </a:xfrm>
            <a:prstGeom prst="roundRect">
              <a:avLst>
                <a:gd name="adj" fmla="val 16667"/>
              </a:avLst>
            </a:prstGeom>
            <a:solidFill>
              <a:srgbClr val="564242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54800" y="3456000"/>
              <a:ext cx="18352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Fase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Messa a reg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801960" y="3162240"/>
            <a:ext cx="1260720" cy="246240"/>
          </a:xfrm>
          <a:prstGeom prst="rect">
            <a:avLst/>
          </a:prstGeom>
          <a:solidFill>
            <a:srgbClr val="4f81bd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31 gennaio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6040" y="3154320"/>
            <a:ext cx="2087640" cy="246240"/>
          </a:xfrm>
          <a:prstGeom prst="rect">
            <a:avLst/>
          </a:prstGeom>
          <a:solidFill>
            <a:srgbClr val="4f81bd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30 settembre 2011 – in cor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16360" y="1341360"/>
            <a:ext cx="5184720" cy="1366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GR n. 1066 del 13.12.2010 approva gli “Indirizzi per la messa a sistema delle procedure di rilascio del libretto formativo del cittadin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39640" y="1628640"/>
            <a:ext cx="1835280" cy="592200"/>
            <a:chOff x="539640" y="1628640"/>
            <a:chExt cx="1835280" cy="592200"/>
          </a:xfrm>
        </p:grpSpPr>
        <p:sp>
          <p:nvSpPr>
            <p:cNvPr id="526" name=""/>
            <p:cNvSpPr/>
            <p:nvPr/>
          </p:nvSpPr>
          <p:spPr>
            <a:xfrm>
              <a:off x="539640" y="1628640"/>
              <a:ext cx="1835280" cy="592200"/>
            </a:xfrm>
            <a:prstGeom prst="roundRect">
              <a:avLst>
                <a:gd name="adj" fmla="val 16667"/>
              </a:avLst>
            </a:prstGeom>
            <a:solidFill>
              <a:srgbClr val="564242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5480" y="1655640"/>
              <a:ext cx="180360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Indirizz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08000" y="4149720"/>
            <a:ext cx="2879640" cy="2225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stituzione di due sottogruppi della Commissione Tripartita per la Certificazione delle competenz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disposizione del Sistema Informativo per il supporto alla compilazione e rilascio del Libret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finizione degli indirizzi per la messa a regime del Libr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19640" y="4149720"/>
            <a:ext cx="2736720" cy="2438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ll’ambito delle politiche attive del Lavoro in contrasto alla crisi, da febbraio 2011, i lavoratori in CIG e mobilità in deroga già trattati, in quanto destinatari di politiche attive del lavoro, sono stati contattati dai Centri per l’Impiego al fine di usufruire del servizio di accompagnamento alla compilazione e rilascio del Libr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3640" y="4221000"/>
            <a:ext cx="2521080" cy="2225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cesso progressivo per l’allargamento del Target per arrivare ad offrire il servizio a tutti i cittadini tosca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lascio e costante aggiornamento del Libretto a tutti i cittadini toscani attraverso la rete dei Servizi per il Lavoro e dei soggetti che verranno abilit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1" name=""/>
          <p:cNvCxnSpPr/>
          <p:nvPr/>
        </p:nvCxnSpPr>
        <p:spPr>
          <a:xfrm flipV="1">
            <a:off x="244080" y="1052280"/>
            <a:ext cx="153000" cy="82303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</a:ln>
        </p:spPr>
      </p:cxnSp>
      <p:graphicFrame>
        <p:nvGraphicFramePr>
          <p:cNvPr id="532" name=""/>
          <p:cNvGraphicFramePr/>
          <p:nvPr/>
        </p:nvGraphicFramePr>
        <p:xfrm>
          <a:off x="1295280" y="2448000"/>
          <a:ext cx="2819520" cy="2809800"/>
        </p:xfrm>
        <a:graphic>
          <a:graphicData uri="http://schemas.openxmlformats.org/drawingml/2006/table">
            <a:tbl>
              <a:tblPr/>
              <a:tblGrid>
                <a:gridCol w="1524240"/>
                <a:gridCol w="1295280"/>
              </a:tblGrid>
              <a:tr h="492120">
                <a:tc>
                  <a:txBody>
                    <a:bodyPr lIns="90000" rIns="90000" tIns="644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vi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644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9212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z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to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vo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572000" y="2443320"/>
          <a:ext cx="2819520" cy="2811240"/>
        </p:xfrm>
        <a:graphic>
          <a:graphicData uri="http://schemas.openxmlformats.org/drawingml/2006/table">
            <a:tbl>
              <a:tblPr/>
              <a:tblGrid>
                <a:gridCol w="1523880"/>
                <a:gridCol w="1295640"/>
              </a:tblGrid>
              <a:tr h="475920">
                <a:tc>
                  <a:txBody>
                    <a:bodyPr lIns="90000" rIns="90000" tIns="644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vi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644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3056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p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592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en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ss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1692360" y="5805360"/>
          <a:ext cx="5400720" cy="455760"/>
        </p:xfrm>
        <a:graphic>
          <a:graphicData uri="http://schemas.openxmlformats.org/drawingml/2006/table">
            <a:tbl>
              <a:tblPr/>
              <a:tblGrid>
                <a:gridCol w="2773440"/>
                <a:gridCol w="2627280"/>
              </a:tblGrid>
              <a:tr h="455760">
                <a:tc>
                  <a:txBody>
                    <a:bodyPr lIns="90000" rIns="90000" tIns="680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680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8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>
            <a:off x="250920" y="260280"/>
            <a:ext cx="7848360" cy="576360"/>
          </a:xfrm>
          <a:custGeom>
            <a:avLst/>
            <a:gdLst>
              <a:gd name="textAreaLeft" fmla="*/ 0 w 7848360"/>
              <a:gd name="textAreaRight" fmla="*/ 7848720 w 7848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7" y="0"/>
                </a:lnTo>
                <a:lnTo>
                  <a:pt x="21600" y="10800"/>
                </a:lnTo>
                <a:lnTo>
                  <a:pt x="20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processo di validazione e certificazion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11280" y="13604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Il Libretto Formativo del cittadino: la distribuzione territoriale dei Libretti erogati al gennaio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2:55:56Z</dcterms:created>
  <dc:creator>GCAVAGNA00</dc:creator>
  <dc:description/>
  <dc:language>en-US</dc:language>
  <cp:lastModifiedBy>Zoppi</cp:lastModifiedBy>
  <cp:lastPrinted>2013-12-09T15:19:35Z</cp:lastPrinted>
  <dcterms:modified xsi:type="dcterms:W3CDTF">2014-03-27T16:26:47Z</dcterms:modified>
  <cp:revision>222</cp:revision>
  <dc:subject/>
  <dc:title>Il sistema toscano delle competenze      Bari, 18 giugno 2012</dc:title>
</cp:coreProperties>
</file>