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0"/>
            <a:ext cx="6796080" cy="9925200"/>
          </a:xfrm>
          <a:custGeom>
            <a:avLst/>
            <a:gdLst>
              <a:gd name="textAreaLeft" fmla="*/ 360 w 6796080"/>
              <a:gd name="textAreaRight" fmla="*/ 6795720 w 6796080"/>
              <a:gd name="textAreaTop" fmla="*/ 360 h 9925200"/>
              <a:gd name="textAreaBottom" fmla="*/ 9924840 h 9925200"/>
            </a:gdLst>
            <a:ahLst/>
            <a:rect l="textAreaLeft" t="textAreaTop" r="textAreaRight" b="textAreaBottom"/>
            <a:pathLst>
              <a:path w="21600" h="31545">
                <a:moveTo>
                  <a:pt x="5" y="0"/>
                </a:moveTo>
                <a:arcTo wR="5" hR="5" stAng="16200000" swAng="-5400000"/>
                <a:lnTo>
                  <a:pt x="0" y="31540"/>
                </a:lnTo>
                <a:arcTo wR="5" hR="5" stAng="10800000" swAng="-5400000"/>
                <a:lnTo>
                  <a:pt x="21595" y="3154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dt" idx="19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ldImg"/>
          </p:nvPr>
        </p:nvSpPr>
        <p:spPr>
          <a:xfrm>
            <a:off x="917640" y="744120"/>
            <a:ext cx="4960800" cy="37213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body"/>
          </p:nvPr>
        </p:nvSpPr>
        <p:spPr>
          <a:xfrm>
            <a:off x="679320" y="4714920"/>
            <a:ext cx="543744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942660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20"/>
          </p:nvPr>
        </p:nvSpPr>
        <p:spPr>
          <a:xfrm>
            <a:off x="3849840" y="942660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1F55B5-F030-44D0-9C0F-EAB2FE9ABF2B}" type="slidenum">
              <a:rPr b="0" lang="it-IT" sz="12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A3378CE-206E-47F0-B0D5-0913BC99673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3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D732057-5A20-474D-A451-03D0D12297B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6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C8F0F0D-7B26-4428-8CB1-7F9DDAAC772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74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5AEEBFB-CC30-438B-BDDF-385EC72F7AFC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77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0E1E135-28CC-4832-A631-FCFACC8F6AE9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580" name="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469AABB-24DD-45FF-8427-1DF481302857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6B66F-203D-4203-9A17-82CF2B9806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93027-0AC7-4FFB-9B23-9BD7CCF6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AA6143-4ABC-4F77-8FD6-3DBA63E6E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4EADF-6949-4680-9570-3BA191D8F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9F0F88-39CE-4EE0-8780-528C15096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43DBC-5954-4D3A-9493-82762B71E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C7E31-0207-498B-8C65-B8AF0EE5F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1E539-F838-498E-BEA4-66145A31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AA867F-6711-4FFB-9329-380DD3CD2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B883BD-A0A4-4B20-9F4F-5639C3F5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2A7DD-57A3-42C3-A4E8-0D93D5AE81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A299F-8D16-4EA7-A10E-AA2B6918C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E1AB4B-2817-4F9E-913D-02427342DC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7E1126-4B15-473C-8D02-C33C6AA468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895142-100F-4B56-8A44-837C3AE44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DFA01-8B95-4773-AD78-4B58110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023FDB-3318-41EC-BA78-DA92B57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3FFE6-42DF-46BD-ACD6-F21E81D89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664D7-921F-40D0-B345-51129F491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C95CF-7B0F-4613-A4F0-211CEF7C8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A80CBF-6D6A-4309-9A6A-70752E94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25CBD7-0BDB-4631-B4AC-039284960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62284C-1B83-4FB6-8373-23D0E9A7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C40BAA-81A9-441A-B38B-347D70E57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31CC10-4F79-424A-8D62-925124F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1EEC73-02E7-4CDF-AF3D-31D1E22E2A5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C5DF7-486E-41F4-A02F-549AF60235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7FA4D-B2CD-4C6F-B40A-E406089CE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20B1-2419-4064-AC88-84CD2B4AF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C9FF-4DDC-46E7-8992-C45FFCC9C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26CC3-B3E3-415D-8484-D9D4AA521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4C9199-861D-4EED-9547-69C41E976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D693F-9757-4F8B-8B1C-31FE7385E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EBE17-BBB7-426E-8080-E8D0F1401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46BFD-3F8B-4BEE-8639-C8EB316C2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8B8AB-7FEE-4830-B51C-2F3767F4B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62A2-FF4F-484F-A918-1F932971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0774B-FBCD-41A1-9BC7-C8526EDBB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193A2-6ED2-4BE3-9CE5-E489918DED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F0B270-D078-4161-8DD5-E0C0D3B0BE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902B3A-D7B5-45B8-AB46-5188F4EA9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3AFD19-99EC-4F9D-B2D5-EC71786DE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8DA64-5508-4523-B26B-14E595556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4DAB49-59F0-4DF9-9C65-D121395B4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2E60FB-D36D-4D67-B1C6-706A5F465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CE17B1-E30D-482F-8DB2-98F3DCABD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0071D-EAF3-4FDA-A4B9-A0D9ED40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46CB7C-4EC4-442B-8C10-BA6ECF09B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0C18D6-3B6B-4EEE-B42A-23169472E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5302DD-9C4E-46A3-8C0E-8B24D4B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D42B4B-0525-4706-8C97-E7B2291A6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BF67D31-227B-44E1-BE06-7D2D50C9C3F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52B5AD-7261-46C7-B1D2-907A26F390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D0916-582C-4ADC-AE6E-B77B7590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2F24FF-563E-4C4F-969D-2CF5ED0A0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A6F07AA-4B37-4F57-9C8C-1EB745C4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0CA348-1E4D-44C1-A821-84A0D2939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3C2A86-EC41-43BA-9D18-4E250F29C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6C7FA8-FBE4-4266-B002-EE9A882C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8AFF33-B3B5-4DD9-AE9B-9ECAC6466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53AC2C-8405-406E-A49E-D2F0B057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3FDC64A-E6C9-44E6-AB00-E2319128B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72370E8-D6C6-4C9D-B964-072D245B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823029-60A6-4C33-BE0F-C38A70E97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C8716-57CC-4109-885B-45E89B372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1F0F5A1-7994-4D8A-A563-17930D2F53F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DC94A-A7FB-4849-BD61-B3C61F5621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D7D5A4-91CD-40DE-9897-8F8673845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5B7BA-B3DF-4406-BB82-27D81285C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E172A-8E87-46C3-93A7-E63FAE5DF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33BF5-A068-4B32-8E93-47CF5568C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B7B72-E788-4F21-9ADD-6E1A5B84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54A61-7D39-444C-A1A0-66E1AD7E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698FE6-9FD0-4B06-9A60-F88CEAAE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789614-B64C-4CC2-8433-FD110F2E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4F66F-11EC-4347-8390-154796249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01A50-7734-46AB-80CC-CE1C8CA6E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8CCF34-98A0-4908-B1E1-41B7EBFA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F3B3-9911-424B-9804-4F821FFBE69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404496-8024-4BB1-9D82-5FCAD565C42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4CEDB6-18F9-4383-A013-B7E184379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61855-709D-42FA-A550-8AF67B7DC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4E6D1-EE39-48CA-9BD4-99E20F0F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FDCC3F-E089-4FC0-A8F0-F1E9668BA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9747D2-C929-4D22-94FA-59BFC694F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FE1AF9-AA65-41DC-B639-3A9BFEF0D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859B1-5DF8-4872-AE32-344DB4E2C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1AEC203-396F-4376-B6A4-4C96B0A29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6F5429-6707-40C4-9D5A-4E98BD4D2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10FBA8-5955-4E1B-B3A9-42DC573C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E40489-2BC7-49D4-98BA-9C4409AB0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21A9E4-E711-45B6-9F76-56AF7C866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DB1B159-AB10-462E-B047-C9DED63F967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7D4F01-7BB8-4786-9CD4-362CF683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85C5A9D-BFA6-43F3-BF86-60AF0AE44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916B0BA-53E5-4A52-94C6-EC766C202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31568E-ED91-40EC-84EE-514DA5798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B8E1E-A2CA-41AB-89DC-01B7CCA4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57200" y="114120"/>
            <a:ext cx="8228160" cy="66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A75E84-B9CC-44D3-8B52-19913CBA1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E56EF57-D899-4259-9395-0E0205CCB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21B9F2-BCED-4684-8B0F-AF9DAC1D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E362C9-D767-4F50-BDA5-1033B198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38B3526-42E9-4B42-AFDF-854DCEF49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7C306B-F6F3-41CE-B363-90B93A55F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6BD299-177D-4112-9FC7-2A5764E260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C4A7D-E8D2-4B62-BF01-7852706A9B0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AAE1A-132C-4EB8-87D8-D89DF25D5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86C12-6F1A-4ABD-B253-2B6E47D9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28/03/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0AE37DE-C752-4B9A-8033-1AB843E9E405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178760" y="115920"/>
            <a:ext cx="1714320" cy="10094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87480" y="216000"/>
            <a:ext cx="1099800" cy="790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4"/>
          <a:stretch/>
        </p:blipFill>
        <p:spPr>
          <a:xfrm>
            <a:off x="4253040" y="189000"/>
            <a:ext cx="514080" cy="915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3532B05-42FB-42E1-9D35-1CDBD8F2C8FF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37C84BF6-1FA1-4A8E-8EB2-B1AE6A6BA961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24EE848D-317D-400F-A224-38ED8222B42C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9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10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182E585-9AFD-4ED0-A3BA-5A2E7E866603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sldNum" idx="1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2A52019-2A91-4632-8519-D81E5A6CDEF3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4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578887C3-F685-46DB-9102-923C56EEBECA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15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 type="sldNum" idx="16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A01FA26-3F94-454B-BEA4-189FB3B4D310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459640" y="115920"/>
            <a:ext cx="484200" cy="865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14120"/>
            <a:ext cx="8228160" cy="14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17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28/03/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sldNum" idx="18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12750A8-A262-42E4-8F39-57E05C6DF7BE}" type="slidenum">
              <a:rPr b="0" lang="it-IT" sz="1200" spc="-1" strike="noStrike">
                <a:solidFill>
                  <a:srgbClr val="898989"/>
                </a:solidFill>
                <a:latin typeface="Calibri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49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3429000"/>
            <a:ext cx="777240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it-IT" sz="2900" spc="-1" strike="noStrike">
                <a:solidFill>
                  <a:srgbClr val="c00000"/>
                </a:solidFill>
                <a:latin typeface="Arial"/>
                <a:ea typeface="Arial"/>
              </a:rPr>
              <a:t>La validazione delle competenze</a:t>
            </a:r>
            <a:br>
              <a:rPr sz="2900"/>
            </a:br>
            <a:r>
              <a:rPr b="1" i="1" lang="it-IT" sz="2900" spc="-1" strike="noStrike">
                <a:solidFill>
                  <a:srgbClr val="c00000"/>
                </a:solidFill>
                <a:latin typeface="Arial"/>
                <a:ea typeface="Arial"/>
              </a:rPr>
              <a:t>in Regione Toscana</a:t>
            </a:r>
            <a:br>
              <a:rPr sz="2900"/>
            </a:br>
            <a:br>
              <a:rPr sz="2900"/>
            </a:br>
            <a:br>
              <a:rPr sz="2000"/>
            </a:br>
            <a:r>
              <a:rPr b="1" lang="it-IT" sz="2000" spc="-1" strike="noStrike">
                <a:solidFill>
                  <a:srgbClr val="1f497d"/>
                </a:solidFill>
                <a:latin typeface="Arial"/>
                <a:ea typeface="Arial"/>
              </a:rPr>
              <a:t>LIVORNO, 1° aprile 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84360" y="2131920"/>
            <a:ext cx="77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1f497d"/>
                </a:solidFill>
                <a:latin typeface="Arial"/>
              </a:rPr>
              <a:t>TRANSPORT and LOGISTIC SECTOR SKILLS in the VET System according to EQ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24000" y="3500280"/>
            <a:ext cx="8569080" cy="86544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8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39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79280" y="1028520"/>
            <a:ext cx="813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a messa a regime dei processi di validazione e certificazione delle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84360" y="3645000"/>
            <a:ext cx="1885680" cy="555480"/>
            <a:chOff x="684360" y="3645000"/>
            <a:chExt cx="1885680" cy="555480"/>
          </a:xfrm>
        </p:grpSpPr>
        <p:sp>
          <p:nvSpPr>
            <p:cNvPr id="542" name=""/>
            <p:cNvSpPr/>
            <p:nvPr/>
          </p:nvSpPr>
          <p:spPr>
            <a:xfrm>
              <a:off x="684360" y="3645000"/>
              <a:ext cx="188568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09560" y="3672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eparato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3564000" y="3645000"/>
            <a:ext cx="1884240" cy="555480"/>
            <a:chOff x="3564000" y="3645000"/>
            <a:chExt cx="1884240" cy="555480"/>
          </a:xfrm>
        </p:grpSpPr>
        <p:sp>
          <p:nvSpPr>
            <p:cNvPr id="545" name=""/>
            <p:cNvSpPr/>
            <p:nvPr/>
          </p:nvSpPr>
          <p:spPr>
            <a:xfrm>
              <a:off x="3564000" y="3645000"/>
              <a:ext cx="18842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589200" y="3672000"/>
              <a:ext cx="183384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ima diffusione del servizi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6372360" y="3645000"/>
            <a:ext cx="1885680" cy="555480"/>
            <a:chOff x="6372360" y="3645000"/>
            <a:chExt cx="1885680" cy="555480"/>
          </a:xfrm>
        </p:grpSpPr>
        <p:sp>
          <p:nvSpPr>
            <p:cNvPr id="548" name=""/>
            <p:cNvSpPr/>
            <p:nvPr/>
          </p:nvSpPr>
          <p:spPr>
            <a:xfrm>
              <a:off x="6372360" y="3645000"/>
              <a:ext cx="188568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97560" y="3672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Ulteriore diffus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179280" y="4365720"/>
            <a:ext cx="2880000" cy="1798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pprovazione DGR 610/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vvio delle 4 sperimentazio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mmigrati primavera ar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pprend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ssistenti famili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i delle prof. por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3276720" y="4221000"/>
            <a:ext cx="2879640" cy="243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secuzione delle 4 sperimentazio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Immigrati primavera ara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pprendi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Assistenti famili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Arial"/>
              </a:rPr>
              <a:t>Operatori delle prof. Portu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nalisi sostenibilità e di eventuali modifiche normative per la messa a reg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264360" y="4365720"/>
            <a:ext cx="2879640" cy="1372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ntroduzione di eventuali modifiche norm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essa a reg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onitoraggio e valu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rmazione continua oper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39640" y="2060640"/>
            <a:ext cx="1835280" cy="592200"/>
            <a:chOff x="539640" y="2060640"/>
            <a:chExt cx="1835280" cy="592200"/>
          </a:xfrm>
        </p:grpSpPr>
        <p:sp>
          <p:nvSpPr>
            <p:cNvPr id="554" name=""/>
            <p:cNvSpPr/>
            <p:nvPr/>
          </p:nvSpPr>
          <p:spPr>
            <a:xfrm>
              <a:off x="539640" y="2060640"/>
              <a:ext cx="1835280" cy="59220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55480" y="2089080"/>
              <a:ext cx="1803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Indiriz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492360" y="1700280"/>
            <a:ext cx="5185080" cy="1366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R n. 610 del 13.12.2010 approva gli “Indirizzi per la progressiva diffusione a livello regionale del servizio Validazione e certificazione delle competenze acquisite in contesti informali e non forma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250920" y="314172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e fasi di attuazione in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8" name=""/>
          <p:cNvCxnSpPr/>
          <p:nvPr/>
        </p:nvCxnSpPr>
        <p:spPr>
          <a:xfrm flipV="1">
            <a:off x="179280" y="67248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59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14200" y="651960"/>
            <a:ext cx="80298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a messa a regime dei processi di validazione e certificazione delle competenze</a:t>
            </a: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Presuppost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>
            <a:hlinkClick r:id="rId1" action="ppaction://hlinksldjump"/>
          </p:cNvPr>
          <p:cNvSpPr/>
          <p:nvPr/>
        </p:nvSpPr>
        <p:spPr>
          <a:xfrm>
            <a:off x="395280" y="2421000"/>
            <a:ext cx="1881360" cy="3313080"/>
          </a:xfrm>
          <a:custGeom>
            <a:avLst/>
            <a:gdLst>
              <a:gd name="textAreaLeft" fmla="*/ 91800 w 1881360"/>
              <a:gd name="textAreaRight" fmla="*/ 1789560 w 1881360"/>
              <a:gd name="textAreaTop" fmla="*/ 91800 h 3313080"/>
              <a:gd name="textAreaBottom" fmla="*/ 3221280 h 3313080"/>
            </a:gdLst>
            <a:ahLst/>
            <a:rect l="textAreaLeft" t="textAreaTop" r="textAreaRight" b="textAreaBottom"/>
            <a:pathLst>
              <a:path w="21600" h="38035">
                <a:moveTo>
                  <a:pt x="3600" y="0"/>
                </a:moveTo>
                <a:arcTo wR="3600" hR="3600" stAng="16200000" swAng="-5400000"/>
                <a:lnTo>
                  <a:pt x="0" y="34435"/>
                </a:lnTo>
                <a:arcTo wR="3600" hR="3600" stAng="10800000" swAng="-5400000"/>
                <a:lnTo>
                  <a:pt x="18000" y="380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Legge n. 92/20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i riforma mdl promozione apprendimento permanente e realizzazione di un sistema nazionale di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627280" y="1773360"/>
            <a:ext cx="2521080" cy="4464000"/>
          </a:xfrm>
          <a:custGeom>
            <a:avLst/>
            <a:gdLst>
              <a:gd name="textAreaLeft" fmla="*/ 122760 w 2521080"/>
              <a:gd name="textAreaRight" fmla="*/ 2398320 w 2521080"/>
              <a:gd name="textAreaTop" fmla="*/ 122760 h 4464000"/>
              <a:gd name="textAreaBottom" fmla="*/ 4341240 h 4464000"/>
            </a:gdLst>
            <a:ahLst/>
            <a:rect l="textAreaLeft" t="textAreaTop" r="textAreaRight" b="textAreaBottom"/>
            <a:pathLst>
              <a:path w="21600" h="38244">
                <a:moveTo>
                  <a:pt x="3600" y="0"/>
                </a:moveTo>
                <a:arcTo wR="3600" hR="3600" stAng="16200000" swAng="-5400000"/>
                <a:lnTo>
                  <a:pt x="0" y="34644"/>
                </a:lnTo>
                <a:arcTo wR="3600" hR="3600" stAng="10800000" swAng="-5400000"/>
                <a:lnTo>
                  <a:pt x="18000" y="3824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ecreto Legislativo n. 13/2013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avente ad oggetto la Definizione delle norme generali e dei livelli essenziali delle prestazioni per l'individuazione e validazione degli apprendimenti non formali e informali e degli standard minimi di servizio del sistema nazionale di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435640" y="1557360"/>
            <a:ext cx="3240000" cy="4751280"/>
          </a:xfrm>
          <a:custGeom>
            <a:avLst/>
            <a:gdLst>
              <a:gd name="textAreaLeft" fmla="*/ 158040 w 3240000"/>
              <a:gd name="textAreaRight" fmla="*/ 3081960 w 3240000"/>
              <a:gd name="textAreaTop" fmla="*/ 158040 h 4751280"/>
              <a:gd name="textAreaBottom" fmla="*/ 4593240 h 4751280"/>
            </a:gdLst>
            <a:ahLst/>
            <a:rect l="textAreaLeft" t="textAreaTop" r="textAreaRight" b="textAreaBottom"/>
            <a:pathLst>
              <a:path w="21600" h="31674">
                <a:moveTo>
                  <a:pt x="3600" y="0"/>
                </a:moveTo>
                <a:arcTo wR="3600" hR="3600" stAng="16200000" swAng="-5400000"/>
                <a:lnTo>
                  <a:pt x="0" y="28074"/>
                </a:lnTo>
                <a:arcTo wR="3600" hR="3600" stAng="10800000" swAng="-5400000"/>
                <a:lnTo>
                  <a:pt x="18000" y="3167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ccordi siglati a dicembre 2012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- su apprendimento permanente, IFTS, EQF, Orientamento, Certificazione che disegnano un quadro di riferimento coerente e sottolineano l’intenzione delle regioni di promuovere un sistema fondato sull’integrazione dei servizi per il cittadi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995640" y="595008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1403280" y="2133360"/>
            <a:ext cx="712944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D. Lgs. individua due linee di intervento che vedono il Gruppo Tecnico costituito da MPLS, ISFOL, Tecnostruttura e Regioni/Province Autonome,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 cui la Regione Toscana,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pegnato nell’ambito della definizione d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1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velli essenziali delle prestazioni e standard minimi di servizio del sistema nazionale di certificazione delle competenze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716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9883800"/>
                <a:tab algn="l" pos="10333080"/>
                <a:tab algn="l" pos="1078236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pertorio nazionale dei titoli di istruzione e formazione e delle qualificazioni professional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sistema toscano nell’ambito del quadro nazio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50920" y="3429000"/>
            <a:ext cx="1008000" cy="6476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800000"/>
          </a:solidFill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39640" y="90792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717480">
              <a:lnSpc>
                <a:spcPct val="100000"/>
              </a:lnSpc>
              <a:tabLst>
                <a:tab algn="l" pos="0"/>
                <a:tab algn="l" pos="717480"/>
                <a:tab algn="l" pos="1631880"/>
                <a:tab algn="l" pos="2546280"/>
                <a:tab algn="l" pos="3460680"/>
                <a:tab algn="l" pos="4375080"/>
                <a:tab algn="l" pos="5289480"/>
                <a:tab algn="l" pos="6203880"/>
                <a:tab algn="l" pos="7118280"/>
                <a:tab algn="l" pos="8032680"/>
                <a:tab algn="l" pos="8947080"/>
                <a:tab algn="l" pos="9861480"/>
                <a:tab algn="l" pos="10775880"/>
                <a:tab algn="l" pos="10782360"/>
              </a:tabLst>
            </a:pPr>
            <a:r>
              <a:rPr b="0" lang="it-IT" sz="1800" spc="-1" strike="noStrike">
                <a:solidFill>
                  <a:srgbClr val="c00000"/>
                </a:solidFill>
                <a:latin typeface="Arial"/>
                <a:ea typeface="Arial"/>
              </a:rPr>
              <a:t>La Regione Toscana svolge il ruolo di coordinamento dei lavori della IX Commissione Istruzione, Formazione e Lavoro ed ha contribuito alla costruzione di un sistema nazionale di certif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"/>
          <p:cNvSpPr/>
          <p:nvPr/>
        </p:nvSpPr>
        <p:spPr>
          <a:xfrm>
            <a:off x="395280" y="1413000"/>
            <a:ext cx="8462880" cy="1280520"/>
          </a:xfrm>
          <a:prstGeom prst="rect">
            <a:avLst/>
          </a:prstGeom>
          <a:solidFill>
            <a:srgbClr val="f2f2f2"/>
          </a:solidFill>
          <a:ln cap="sq" w="3240">
            <a:solidFill>
              <a:srgbClr val="c00000"/>
            </a:solidFill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it-IT" sz="1600" spc="-1" strike="noStrike">
                <a:solidFill>
                  <a:srgbClr val="c00000"/>
                </a:solidFill>
                <a:latin typeface="Arial"/>
              </a:rPr>
              <a:t>“</a:t>
            </a:r>
            <a:r>
              <a:rPr b="1" i="1" lang="it-IT" sz="1600" spc="-1" strike="noStrike">
                <a:solidFill>
                  <a:srgbClr val="c00000"/>
                </a:solidFill>
                <a:latin typeface="Arial"/>
              </a:rPr>
              <a:t>Perseguire la crescita della qualità e dell’efficienza dei servizi offerti mediante la costruzione di un sistema regionale delle competenze e dell’orientamento, come condizione per l’esercizio del diritto all’apprendimento durante tutto l’arco della vita</a:t>
            </a:r>
            <a:r>
              <a:rPr b="0" i="1" lang="it-IT" sz="1600" spc="-1" strike="noStrike">
                <a:solidFill>
                  <a:srgbClr val="c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Fonte: Piano di Indirizzo Generale Integrato, delibera C.R. n.93 del 20/09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019240" y="304920"/>
            <a:ext cx="510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95280" y="33336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2" name=""/>
          <p:cNvCxnSpPr/>
          <p:nvPr/>
        </p:nvCxnSpPr>
        <p:spPr>
          <a:xfrm flipV="1">
            <a:off x="244080" y="105264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393" name=""/>
          <p:cNvSpPr/>
          <p:nvPr/>
        </p:nvSpPr>
        <p:spPr>
          <a:xfrm>
            <a:off x="324000" y="4581360"/>
            <a:ext cx="21700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levato grado di “diversificazione e flessibilità dei percorsi formativi al fine di rispondere ai bisogni individuali e sviluppare le attitudini individuali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24000" y="3429000"/>
            <a:ext cx="208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4f81bd"/>
                </a:solidFill>
                <a:uFillTx/>
                <a:latin typeface="Arial"/>
              </a:rPr>
              <a:t>FAVORIRE LA PERSONALIZZAZIONE DEI PERCORSI FORMA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71640" y="3429000"/>
            <a:ext cx="30225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e46c0a"/>
                </a:solidFill>
                <a:uFillTx/>
                <a:latin typeface="Arial"/>
              </a:rPr>
              <a:t>CONSENTIRE IL DIALOGO E L’INTEGRAZIONE TRA I DIVERSI SISTE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700360" y="4437000"/>
            <a:ext cx="33224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l sistema delle competenze rende possibili i percorsi formativi individuali attraverso i diversi sistemi della formazione, dell’istruzione, dell’educazione non formale, rendendo effettivamente possibili i passaggi dall’uno all’altro e favorendo l’incontro tra domanda ed offerta nell’ambito dei servizi al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84720" y="3429000"/>
            <a:ext cx="252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 u="sng">
                <a:solidFill>
                  <a:srgbClr val="00b050"/>
                </a:solidFill>
                <a:uFillTx/>
                <a:latin typeface="Arial"/>
              </a:rPr>
              <a:t>ASSICURARE A CITTADINI ED IMPRESE UN SISTEMA TRASPAR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6012000" y="4365720"/>
            <a:ext cx="29638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ttraverso la declinazione del sistema mediante il quale è possibile accrescere la qualità dei servizi per l’impiego e la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rasparenz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delle certificazioni superando l’attuale proliferazione di profili e qualifiche e garantendo maggiore mobilità orizzontale e vertic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95280" y="2924280"/>
            <a:ext cx="8424720" cy="264240"/>
          </a:xfrm>
          <a:prstGeom prst="rect">
            <a:avLst/>
          </a:prstGeom>
          <a:solidFill>
            <a:srgbClr val="c00000"/>
          </a:solidFill>
          <a:ln cap="sq" w="3240">
            <a:solidFill>
              <a:srgbClr val="c00000"/>
            </a:solidFill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Arial"/>
              </a:rPr>
              <a:t>OBIETTIVI DEL SISTEMA REGIONALE DELLE COMPET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6975360" y="6448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60360" y="11592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2" name=""/>
          <p:cNvCxnSpPr/>
          <p:nvPr/>
        </p:nvCxnSpPr>
        <p:spPr>
          <a:xfrm flipV="1">
            <a:off x="209160" y="68436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03" name=""/>
          <p:cNvSpPr/>
          <p:nvPr/>
        </p:nvSpPr>
        <p:spPr>
          <a:xfrm>
            <a:off x="504720" y="2349360"/>
            <a:ext cx="8639280" cy="180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96720" y="6761160"/>
            <a:ext cx="8639280" cy="144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96720" y="5753160"/>
            <a:ext cx="8639280" cy="144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003640" y="1341360"/>
            <a:ext cx="3240360" cy="73332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Regolamento n. 47/R del 2003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Regolamento di esecuzione della L.R. n. 32/2002 e s.m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96720" y="4313160"/>
            <a:ext cx="8639280" cy="1800"/>
          </a:xfrm>
          <a:prstGeom prst="line">
            <a:avLst/>
          </a:prstGeom>
          <a:ln cap="sq" w="9360">
            <a:solidFill>
              <a:srgbClr val="be4b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627280" y="2637000"/>
            <a:ext cx="3816360" cy="137160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LIBERA GIUNTA n. 532/2009 e s.m.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Approvazione del Disciplinare per  l’attuazione del sistema regionale delle competenze previsto dal Regolamento di esecuzione della L.R. 32/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AVVIO SISTEMA A PARTIRE DAL 01/07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05840" y="2513160"/>
            <a:ext cx="1116000" cy="5760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848720" y="3665520"/>
            <a:ext cx="1116000" cy="5745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234200" y="2513160"/>
            <a:ext cx="216000" cy="21564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27960" y="3089160"/>
            <a:ext cx="1116000" cy="576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ecret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approv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448400" y="3056040"/>
            <a:ext cx="216000" cy="21564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38920" y="3592440"/>
            <a:ext cx="216000" cy="216000"/>
          </a:xfrm>
          <a:prstGeom prst="ellipse">
            <a:avLst/>
          </a:prstGeom>
          <a:solidFill>
            <a:srgbClr val="c00000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6659640" y="2565360"/>
            <a:ext cx="506160" cy="16225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2700360" y="4437000"/>
            <a:ext cx="1942920" cy="1006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n.3519 /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rovazione dei costi spettanti ai componenti del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missione d'e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859280" y="4437000"/>
            <a:ext cx="1800360" cy="10065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11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stituzione de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itato Tecnic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er l’aggiornamento del R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77080" y="4437000"/>
            <a:ext cx="2087640" cy="11890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  <a:ea typeface="MS Gothic"/>
              </a:rPr>
              <a:t>DECRETO 1375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pprovata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cedura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er la presentazione di proposte di modifica/integrazione del RRF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24000" y="1197000"/>
            <a:ext cx="4537080" cy="946440"/>
          </a:xfrm>
          <a:prstGeom prst="rect">
            <a:avLst/>
          </a:prstGeom>
          <a:noFill/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L.R. n. 32/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MS Gothic"/>
              </a:rPr>
              <a:t>Testo unico della normativa della Regione Toscana in materia di educazione, istruzione, orientamento, formazione professionale e lavoro e s.m.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250920" y="2852640"/>
            <a:ext cx="2233440" cy="936720"/>
          </a:xfrm>
          <a:custGeom>
            <a:avLst/>
            <a:gdLst>
              <a:gd name="textAreaLeft" fmla="*/ 132840 w 2233440"/>
              <a:gd name="textAreaRight" fmla="*/ 2100600 w 2233440"/>
              <a:gd name="textAreaTop" fmla="*/ 205920 h 936720"/>
              <a:gd name="textAreaBottom" fmla="*/ 730800 h 93672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9308" y="4747"/>
                </a:lnTo>
                <a:lnTo>
                  <a:pt x="19308" y="0"/>
                </a:lnTo>
                <a:lnTo>
                  <a:pt x="21600" y="10800"/>
                </a:lnTo>
                <a:lnTo>
                  <a:pt x="19308" y="21600"/>
                </a:lnTo>
                <a:lnTo>
                  <a:pt x="19308" y="16853"/>
                </a:lnTo>
                <a:lnTo>
                  <a:pt x="0" y="16853"/>
                </a:lnTo>
                <a:lnTo>
                  <a:pt x="1285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Disciplinare SRC e inserimento Figure nel Reperto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50920" y="4484520"/>
            <a:ext cx="2305080" cy="960480"/>
          </a:xfrm>
          <a:custGeom>
            <a:avLst/>
            <a:gdLst>
              <a:gd name="textAreaLeft" fmla="*/ 136800 w 2305080"/>
              <a:gd name="textAreaRight" fmla="*/ 2168280 w 2305080"/>
              <a:gd name="textAreaTop" fmla="*/ 210960 h 960480"/>
              <a:gd name="textAreaBottom" fmla="*/ 749520 h 96048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9308" y="4747"/>
                </a:lnTo>
                <a:lnTo>
                  <a:pt x="19308" y="0"/>
                </a:lnTo>
                <a:lnTo>
                  <a:pt x="21600" y="10800"/>
                </a:lnTo>
                <a:lnTo>
                  <a:pt x="19308" y="21600"/>
                </a:lnTo>
                <a:lnTo>
                  <a:pt x="19308" y="16853"/>
                </a:lnTo>
                <a:lnTo>
                  <a:pt x="0" y="16853"/>
                </a:lnTo>
                <a:lnTo>
                  <a:pt x="1285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Modifiche normativa di gest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50920" y="5805360"/>
            <a:ext cx="1584360" cy="792360"/>
          </a:xfrm>
          <a:custGeom>
            <a:avLst/>
            <a:gdLst>
              <a:gd name="textAreaLeft" fmla="*/ 138960 w 1584360"/>
              <a:gd name="textAreaRight" fmla="*/ 1445400 w 1584360"/>
              <a:gd name="textAreaTop" fmla="*/ 173880 h 792360"/>
              <a:gd name="textAreaBottom" fmla="*/ 618480 h 792360"/>
            </a:gdLst>
            <a:ahLst/>
            <a:rect l="textAreaLeft" t="textAreaTop" r="textAreaRight" b="textAreaBottom"/>
            <a:pathLst>
              <a:path w="21600" h="21600">
                <a:moveTo>
                  <a:pt x="0" y="4747"/>
                </a:moveTo>
                <a:lnTo>
                  <a:pt x="18216" y="4747"/>
                </a:lnTo>
                <a:lnTo>
                  <a:pt x="18216" y="0"/>
                </a:lnTo>
                <a:lnTo>
                  <a:pt x="21600" y="10800"/>
                </a:lnTo>
                <a:lnTo>
                  <a:pt x="18216" y="21600"/>
                </a:lnTo>
                <a:lnTo>
                  <a:pt x="18216" y="16853"/>
                </a:lnTo>
                <a:lnTo>
                  <a:pt x="0" y="16853"/>
                </a:lnTo>
                <a:lnTo>
                  <a:pt x="1897" y="10800"/>
                </a:lnTo>
                <a:lnTo>
                  <a:pt x="0" y="4747"/>
                </a:lnTo>
                <a:close/>
              </a:path>
            </a:pathLst>
          </a:cu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16200000"/>
          </a:gradFill>
          <a:ln cap="sq" w="9360">
            <a:solidFill>
              <a:srgbClr val="000000"/>
            </a:solidFill>
            <a:miter/>
          </a:ln>
          <a:effectLst>
            <a:outerShdw dist="74769" dir="938534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Schemi e mod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979640" y="595008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FORMULAR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27672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VERBAL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ESAM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7200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ATTESTAT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QUALIF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6728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CERTIFICATO 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COMPETENZ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169040" y="5969160"/>
            <a:ext cx="1224000" cy="576000"/>
          </a:xfrm>
          <a:prstGeom prst="foldedCorner">
            <a:avLst>
              <a:gd name="adj" fmla="val 12500"/>
            </a:avLst>
          </a:prstGeom>
          <a:solidFill>
            <a:srgbClr val="376092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CHIARAZI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900" spc="-1" strike="noStrike">
                <a:solidFill>
                  <a:srgbClr val="ffffff"/>
                </a:solidFill>
                <a:latin typeface="Arial"/>
              </a:rPr>
              <a:t>APPRENDIMENT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197520" y="765000"/>
            <a:ext cx="27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o stato di attuazione del S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9" name=""/>
          <p:cNvGraphicFramePr/>
          <p:nvPr/>
        </p:nvGraphicFramePr>
        <p:xfrm>
          <a:off x="2843280" y="2565360"/>
          <a:ext cx="5976720" cy="2771640"/>
        </p:xfrm>
        <a:graphic>
          <a:graphicData uri="http://schemas.openxmlformats.org/drawingml/2006/table">
            <a:tbl>
              <a:tblPr/>
              <a:tblGrid>
                <a:gridCol w="1392120"/>
                <a:gridCol w="4584600"/>
              </a:tblGrid>
              <a:tr h="6634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Mass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ella procedura di revisione e manutenzione degli standard professionali contenuti nel RRFP per il settore lapid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5540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Firen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nell’utilizzo del repertorio per l’incontro domanda - offerta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Grosse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i </a:t>
                      </a:r>
                      <a:r>
                        <a:rPr b="1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un dispositivo di validazione e di certificazione delle competenze </a:t>
                      </a: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el settore del turismo e della ristor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1200" spc="-1" strike="noStrike">
                          <a:solidFill>
                            <a:srgbClr val="c00000"/>
                          </a:solidFill>
                          <a:latin typeface="Arial"/>
                          <a:ea typeface="Arial"/>
                        </a:rPr>
                        <a:t>Provincia di Arez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572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erimentazione della procedura di revisione e manutenzione degli standard professionali contenuti nel RRFP nel settore oraf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c00000"/>
                      </a:solidFill>
                    </a:lnL>
                    <a:lnR w="720">
                      <a:solidFill>
                        <a:srgbClr val="c00000"/>
                      </a:solidFill>
                    </a:lnR>
                    <a:lnT w="720">
                      <a:solidFill>
                        <a:srgbClr val="c00000"/>
                      </a:solidFill>
                    </a:lnT>
                    <a:lnB w="72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2019240" y="304920"/>
            <a:ext cx="51055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1" name=""/>
          <p:cNvCxnSpPr/>
          <p:nvPr/>
        </p:nvCxnSpPr>
        <p:spPr>
          <a:xfrm flipV="1">
            <a:off x="244080" y="1052640"/>
            <a:ext cx="153000" cy="79585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32" name=""/>
          <p:cNvSpPr/>
          <p:nvPr/>
        </p:nvSpPr>
        <p:spPr>
          <a:xfrm>
            <a:off x="684360" y="1557360"/>
            <a:ext cx="792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600" spc="-1" strike="noStrike">
                <a:solidFill>
                  <a:srgbClr val="c00000"/>
                </a:solidFill>
                <a:latin typeface="Arial"/>
              </a:rPr>
              <a:t>Le sperimentazioni per l’attuazione del Sistema Regionale delle Compet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5280" y="333360"/>
            <a:ext cx="7956720" cy="504720"/>
          </a:xfrm>
          <a:custGeom>
            <a:avLst/>
            <a:gdLst>
              <a:gd name="textAreaLeft" fmla="*/ 0 w 7956720"/>
              <a:gd name="textAreaRight" fmla="*/ 7957080 w 795672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4" name=""/>
          <p:cNvGrpSpPr/>
          <p:nvPr/>
        </p:nvGrpSpPr>
        <p:grpSpPr>
          <a:xfrm>
            <a:off x="0" y="2421000"/>
            <a:ext cx="2744640" cy="2995560"/>
            <a:chOff x="0" y="2421000"/>
            <a:chExt cx="2744640" cy="2995560"/>
          </a:xfrm>
        </p:grpSpPr>
        <p:pic>
          <p:nvPicPr>
            <p:cNvPr id="435" name="" descr=""/>
            <p:cNvPicPr/>
            <p:nvPr/>
          </p:nvPicPr>
          <p:blipFill>
            <a:blip r:embed="rId1"/>
            <a:stretch/>
          </p:blipFill>
          <p:spPr>
            <a:xfrm>
              <a:off x="0" y="2421000"/>
              <a:ext cx="2744640" cy="2995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6" name="" descr=""/>
            <p:cNvPicPr/>
            <p:nvPr/>
          </p:nvPicPr>
          <p:blipFill>
            <a:blip r:embed="rId2"/>
            <a:stretch/>
          </p:blipFill>
          <p:spPr>
            <a:xfrm>
              <a:off x="154080" y="2440080"/>
              <a:ext cx="284040" cy="31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7" name="" descr=""/>
            <p:cNvPicPr/>
            <p:nvPr/>
          </p:nvPicPr>
          <p:blipFill>
            <a:blip r:embed="rId3"/>
            <a:stretch/>
          </p:blipFill>
          <p:spPr>
            <a:xfrm>
              <a:off x="1452600" y="4383000"/>
              <a:ext cx="2840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8" name="" descr=""/>
            <p:cNvPicPr/>
            <p:nvPr/>
          </p:nvPicPr>
          <p:blipFill>
            <a:blip r:embed="rId4"/>
            <a:stretch/>
          </p:blipFill>
          <p:spPr>
            <a:xfrm>
              <a:off x="2028960" y="3402000"/>
              <a:ext cx="284040" cy="312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9" name="" descr=""/>
            <p:cNvPicPr/>
            <p:nvPr/>
          </p:nvPicPr>
          <p:blipFill>
            <a:blip r:embed="rId5"/>
            <a:stretch/>
          </p:blipFill>
          <p:spPr>
            <a:xfrm>
              <a:off x="1593720" y="3112920"/>
              <a:ext cx="284400" cy="31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0" name=""/>
          <p:cNvSpPr/>
          <p:nvPr/>
        </p:nvSpPr>
        <p:spPr>
          <a:xfrm>
            <a:off x="3924360" y="3716280"/>
            <a:ext cx="5005440" cy="93672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1" name=""/>
          <p:cNvGrpSpPr/>
          <p:nvPr/>
        </p:nvGrpSpPr>
        <p:grpSpPr>
          <a:xfrm>
            <a:off x="3840120" y="3103560"/>
            <a:ext cx="1461960" cy="1424160"/>
            <a:chOff x="3840120" y="3103560"/>
            <a:chExt cx="1461960" cy="1424160"/>
          </a:xfrm>
        </p:grpSpPr>
        <p:pic>
          <p:nvPicPr>
            <p:cNvPr id="442" name="" descr=""/>
            <p:cNvPicPr/>
            <p:nvPr/>
          </p:nvPicPr>
          <p:blipFill>
            <a:blip r:embed="rId1"/>
            <a:stretch/>
          </p:blipFill>
          <p:spPr>
            <a:xfrm>
              <a:off x="3840120" y="3103560"/>
              <a:ext cx="1461960" cy="1424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"/>
            <p:cNvSpPr/>
            <p:nvPr/>
          </p:nvSpPr>
          <p:spPr>
            <a:xfrm>
              <a:off x="4214880" y="3813120"/>
              <a:ext cx="712800" cy="69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3492360" y="2781360"/>
            <a:ext cx="2159280" cy="276480"/>
          </a:xfrm>
          <a:prstGeom prst="rect">
            <a:avLst/>
          </a:prstGeom>
          <a:solidFill>
            <a:srgbClr val="1f497d"/>
          </a:solidFill>
          <a:ln cap="sq"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FORM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3924360" y="3954600"/>
            <a:ext cx="1295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700360" y="4622760"/>
            <a:ext cx="1727280" cy="459000"/>
          </a:xfrm>
          <a:prstGeom prst="rect">
            <a:avLst/>
          </a:pr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859280" y="4622760"/>
            <a:ext cx="1728720" cy="641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STANDARD DI RICONOSCIMENTO E CERTIFICAZI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273880" y="6448320"/>
            <a:ext cx="762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79280" y="2781360"/>
            <a:ext cx="2376720" cy="33624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77933c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pertorio Regionale delle Figure Professiona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24 schede descrittive di settori economici regional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irca 270 schede descrittive di figure professionali (ciascuna completa di riferimenti ATECO, ISCO, ISTAT Professioni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irca 1100 Aree di Attività, circa 5.000 Conoscenze, circa 5.000 Capacità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procedure standard per la gestione e l’implementazione del Repertor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59640" y="2781360"/>
            <a:ext cx="2376360" cy="327492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953735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DI RICONOSCIMENTO E CERTIF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tandard per i processi di certificazione delle competenze e di validazione delle esperi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i processi di certificazio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Wingdings" charset="2"/>
              <a:buChar char="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i processi di riconoscimento e validazione dell’esperienza non formale/informale anche ai fini del rilascio di qualifiche/certific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981000"/>
            <a:ext cx="5473440" cy="14400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1f497d"/>
            </a:solidFill>
            <a:custDash>
              <a:ds d="100000" sp="100000"/>
            </a:custDash>
            <a:miter/>
          </a:ln>
          <a:effectLst>
            <a:outerShdw dist="81487" dir="16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ANDARD FORMATIV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ctr">
              <a:tabLst>
                <a:tab algn="l" pos="0"/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tandard per i percorsi di formazione professiona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per l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gettazio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i percorsi in relazione agli obiettivi di apprendimento in uscita, misurati sui livelli EQF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relativi ai contenuti per quanto attiene 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key competence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recepimento Raccomandazione dicembre 2006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-189000" algn="just">
              <a:buClr>
                <a:srgbClr val="000000"/>
              </a:buClr>
              <a:buFont typeface="Arial"/>
              <a:buChar char="•"/>
              <a:tabLst>
                <a:tab algn="l" pos="190440"/>
                <a:tab algn="l" pos="1104840"/>
                <a:tab algn="l" pos="2019240"/>
                <a:tab algn="l" pos="2933640"/>
                <a:tab algn="l" pos="3848040"/>
                <a:tab algn="l" pos="4762440"/>
                <a:tab algn="l" pos="5676840"/>
                <a:tab algn="l" pos="6591240"/>
                <a:tab algn="l" pos="7505640"/>
                <a:tab algn="l" pos="8420040"/>
                <a:tab algn="l" pos="9334440"/>
                <a:tab algn="l" pos="1024884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ercor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ifferenziati per “filiere” forma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2" name=""/>
          <p:cNvCxnSpPr>
            <a:stCxn id="444" idx="1"/>
            <a:endCxn id="451" idx="2"/>
          </p:cNvCxnSpPr>
          <p:nvPr/>
        </p:nvCxnSpPr>
        <p:spPr>
          <a:xfrm flipV="1">
            <a:off x="2413080" y="1923840"/>
            <a:ext cx="1080000" cy="498960"/>
          </a:xfrm>
          <a:prstGeom prst="bentConnector3">
            <a:avLst>
              <a:gd name="adj1" fmla="val 49983"/>
            </a:avLst>
          </a:prstGeom>
          <a:ln cap="sq" w="9360">
            <a:solidFill>
              <a:srgbClr val="1f497d"/>
            </a:solidFill>
            <a:miter/>
          </a:ln>
        </p:spPr>
      </p:cxnSp>
      <p:cxnSp>
        <p:nvCxnSpPr>
          <p:cNvPr id="453" name=""/>
          <p:cNvCxnSpPr>
            <a:stCxn id="446" idx="2"/>
            <a:endCxn id="449" idx="2"/>
          </p:cNvCxnSpPr>
          <p:nvPr/>
        </p:nvCxnSpPr>
        <p:spPr>
          <a:xfrm flipV="1" rot="10800000">
            <a:off x="308880" y="5081400"/>
            <a:ext cx="1062720" cy="2196000"/>
          </a:xfrm>
          <a:prstGeom prst="bentConnector3">
            <a:avLst>
              <a:gd name="adj1" fmla="val 49983"/>
            </a:avLst>
          </a:prstGeom>
          <a:ln cap="sq" w="9360">
            <a:solidFill>
              <a:srgbClr val="4f6228"/>
            </a:solidFill>
            <a:miter/>
          </a:ln>
        </p:spPr>
      </p:cxnSp>
      <p:cxnSp>
        <p:nvCxnSpPr>
          <p:cNvPr id="454" name=""/>
          <p:cNvCxnSpPr>
            <a:stCxn id="447" idx="2"/>
            <a:endCxn id="450" idx="2"/>
          </p:cNvCxnSpPr>
          <p:nvPr/>
        </p:nvCxnSpPr>
        <p:spPr>
          <a:xfrm>
            <a:off x="4933440" y="5264280"/>
            <a:ext cx="793080" cy="212472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953735"/>
            </a:solidFill>
            <a:miter/>
          </a:ln>
        </p:spPr>
      </p:cxnSp>
      <p:sp>
        <p:nvSpPr>
          <p:cNvPr id="455" name=""/>
          <p:cNvSpPr/>
          <p:nvPr/>
        </p:nvSpPr>
        <p:spPr>
          <a:xfrm>
            <a:off x="3995640" y="692280"/>
            <a:ext cx="11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I tr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4932360" y="4437000"/>
            <a:ext cx="1646280" cy="1079640"/>
          </a:xfrm>
          <a:prstGeom prst="ellipse">
            <a:avLst/>
          </a:prstGeom>
          <a:noFill/>
          <a:ln cap="sq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89000"/>
            <a:ext cx="7956360" cy="504720"/>
          </a:xfrm>
          <a:custGeom>
            <a:avLst/>
            <a:gdLst>
              <a:gd name="textAreaLeft" fmla="*/ 0 w 7956360"/>
              <a:gd name="textAreaRight" fmla="*/ 7956720 w 795636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915" y="0"/>
                </a:lnTo>
                <a:lnTo>
                  <a:pt x="21600" y="10800"/>
                </a:lnTo>
                <a:lnTo>
                  <a:pt x="2091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nti normative e costruzione del Sistema Regional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8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59" name=""/>
          <p:cNvSpPr/>
          <p:nvPr/>
        </p:nvSpPr>
        <p:spPr>
          <a:xfrm>
            <a:off x="250920" y="2193840"/>
            <a:ext cx="3678120" cy="276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just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Certificazione delle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79280" y="981000"/>
            <a:ext cx="864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541440"/>
                <a:tab algn="l" pos="1084320"/>
                <a:tab algn="l" pos="1627200"/>
                <a:tab algn="l" pos="2170080"/>
                <a:tab algn="l" pos="2712960"/>
                <a:tab algn="l" pos="3255840"/>
                <a:tab algn="l" pos="3798720"/>
                <a:tab algn="l" pos="4343400"/>
                <a:tab algn="l" pos="4884840"/>
                <a:tab algn="l" pos="5427720"/>
                <a:tab algn="l" pos="5970600"/>
                <a:tab algn="l" pos="6513480"/>
                <a:tab algn="l" pos="7056360"/>
                <a:tab algn="l" pos="7599240"/>
                <a:tab algn="l" pos="8142120"/>
                <a:tab algn="l" pos="8686800"/>
                <a:tab algn="l" pos="9228240"/>
                <a:tab algn="l" pos="9771120"/>
                <a:tab algn="l" pos="10314000"/>
                <a:tab algn="l" pos="1085688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ertificazione delle competenze è svolta  dai                                       su richiesta del singolo individuo relativamente ai              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  per i quali  l’individuo intenda ottenere un                                     spendibile nel sistema dell’educazione e dei servizi al lavor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3440" y="1268280"/>
            <a:ext cx="3348000" cy="33660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nuclei di competenza acquisiti e verifica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516720" y="1341360"/>
            <a:ext cx="1474920" cy="25236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ttestato form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3" name=""/>
          <p:cNvCxnSpPr>
            <a:stCxn id="461" idx="3"/>
            <a:endCxn id="464" idx="0"/>
          </p:cNvCxnSpPr>
          <p:nvPr/>
        </p:nvCxnSpPr>
        <p:spPr>
          <a:xfrm flipV="1" rot="10800000">
            <a:off x="2125080" y="1436400"/>
            <a:ext cx="1386000" cy="613440"/>
          </a:xfrm>
          <a:prstGeom prst="bentConnector3">
            <a:avLst>
              <a:gd name="adj1" fmla="val 49987"/>
            </a:avLst>
          </a:prstGeom>
          <a:ln cap="sq" w="28440">
            <a:solidFill>
              <a:srgbClr val="9bbb59"/>
            </a:solidFill>
            <a:miter/>
          </a:ln>
        </p:spPr>
      </p:cxnSp>
      <p:sp>
        <p:nvSpPr>
          <p:cNvPr id="465" name=""/>
          <p:cNvSpPr/>
          <p:nvPr/>
        </p:nvSpPr>
        <p:spPr>
          <a:xfrm>
            <a:off x="3564000" y="1052640"/>
            <a:ext cx="1511280" cy="288720"/>
          </a:xfrm>
          <a:prstGeom prst="rect">
            <a:avLst/>
          </a:prstGeom>
          <a:noFill/>
          <a:ln cap="sq"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soggetti prep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662360" y="2060640"/>
            <a:ext cx="2124360" cy="276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ctr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Attestato di qualif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877080" y="2060640"/>
            <a:ext cx="2124000" cy="459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2880" indent="-455400" algn="just">
              <a:spcBef>
                <a:spcPts val="751"/>
              </a:spcBef>
              <a:tabLst>
                <a:tab algn="l" pos="0"/>
                <a:tab algn="l" pos="542880"/>
                <a:tab algn="l" pos="1457280"/>
                <a:tab algn="l" pos="2371680"/>
                <a:tab algn="l" pos="3286080"/>
                <a:tab algn="l" pos="4200480"/>
                <a:tab algn="l" pos="5114880"/>
                <a:tab algn="l" pos="6029280"/>
                <a:tab algn="l" pos="6943680"/>
                <a:tab algn="l" pos="7858080"/>
                <a:tab algn="l" pos="8772480"/>
                <a:tab algn="l" pos="9686880"/>
                <a:tab algn="l" pos="106012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</a:rPr>
              <a:t>Certificato di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662360" y="2349360"/>
            <a:ext cx="2124360" cy="118908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just">
              <a:spcBef>
                <a:spcPts val="751"/>
              </a:spcBef>
              <a:tabLst>
                <a:tab algn="l" pos="0"/>
                <a:tab algn="l" pos="7128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tific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ut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le Unità di competenze associate alle Aree di Attività che compongono una Figura del Repertori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877080" y="2349360"/>
            <a:ext cx="2124000" cy="10065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1280" algn="just">
              <a:spcBef>
                <a:spcPts val="751"/>
              </a:spcBef>
              <a:tabLst>
                <a:tab algn="l" pos="0"/>
                <a:tab algn="l" pos="71280"/>
                <a:tab algn="l" pos="985680"/>
                <a:tab algn="l" pos="1900080"/>
                <a:tab algn="l" pos="2814480"/>
                <a:tab algn="l" pos="3728880"/>
                <a:tab algn="l" pos="4643280"/>
                <a:tab algn="l" pos="5557680"/>
                <a:tab algn="l" pos="6472080"/>
                <a:tab algn="l" pos="7386480"/>
                <a:tab algn="l" pos="8300880"/>
                <a:tab algn="l" pos="9215280"/>
                <a:tab algn="l" pos="1012968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ertificazione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a o più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Unità di competenze associate ad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a o più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Aree di Attività repertoriate nel Repertori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645080" y="3645000"/>
            <a:ext cx="4392720" cy="1008000"/>
          </a:xfrm>
          <a:prstGeom prst="rect">
            <a:avLst/>
          </a:prstGeom>
          <a:noFill/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prove d’esame devono essere finalizzate a verificare il possesso d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Unità di Competenz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ovvero la capacità del candidato, attraverso una prova di valutazione di realizzare le performance associate al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ree di Attiv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ui le Unità di Competenze oggetto di certificazione sono rifer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179280" y="5013360"/>
            <a:ext cx="8785440" cy="166680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ommissioni d’esam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ono composte da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referente provinciale, 2 esperti di settore e referente dell’agenzia formativ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 le prove di valutazione sono progettate con l’ausilio dell’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sperto di valutazione e certif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iscritto in apposito Albo regio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2554200"/>
            <a:ext cx="3678120" cy="19191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 attiva in esito a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prove di verifica e valutazio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delle competenze realizza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conclusione di percorso formativo realizzato secondo gli standard regionali per i percorsi formativi (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ià a regime dal 2009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800000"/>
              </a:buClr>
              <a:buFont typeface="Wingdings" charset="2"/>
              <a:buChar char="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 seguito di percorso di validazione di esperienza acquisita in contesti non formali/informali, nei quali siano state riconosciute e validate competenze riconducibili alle Unità di competenze standardizzate (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in fase di messa a regim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6080" y="649080"/>
            <a:ext cx="85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processo di certificazione delle competenze acquisite in contesti formali, non formali e inform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3440" y="1916280"/>
            <a:ext cx="4535640" cy="2881080"/>
          </a:xfrm>
          <a:prstGeom prst="rect">
            <a:avLst/>
          </a:prstGeom>
          <a:noFill/>
          <a:ln cap="sq" w="25560">
            <a:solidFill>
              <a:srgbClr val="1f497d"/>
            </a:solidFill>
            <a:miter/>
          </a:ln>
          <a:effectLst>
            <a:outerShdw dist="81487" dir="70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6" name=""/>
          <p:cNvCxnSpPr>
            <a:stCxn id="462" idx="2"/>
            <a:endCxn id="475" idx="0"/>
          </p:cNvCxnSpPr>
          <p:nvPr/>
        </p:nvCxnSpPr>
        <p:spPr>
          <a:xfrm flipV="1" rot="10800000">
            <a:off x="6520680" y="1593360"/>
            <a:ext cx="322920" cy="413640"/>
          </a:xfrm>
          <a:prstGeom prst="bentConnector3">
            <a:avLst>
              <a:gd name="adj1" fmla="val 50000"/>
            </a:avLst>
          </a:prstGeom>
          <a:ln cap="sq" w="28440">
            <a:solidFill>
              <a:srgbClr val="1f497d"/>
            </a:solidFill>
            <a:miter/>
          </a:ln>
        </p:spPr>
      </p:cxnSp>
      <p:sp>
        <p:nvSpPr>
          <p:cNvPr id="464" name=""/>
          <p:cNvSpPr/>
          <p:nvPr/>
        </p:nvSpPr>
        <p:spPr>
          <a:xfrm>
            <a:off x="179280" y="2049480"/>
            <a:ext cx="3892680" cy="2736720"/>
          </a:xfrm>
          <a:prstGeom prst="rect">
            <a:avLst/>
          </a:prstGeom>
          <a:noFill/>
          <a:ln cap="sq" w="25560">
            <a:solidFill>
              <a:srgbClr val="9bbb59"/>
            </a:solidFill>
            <a:miter/>
          </a:ln>
          <a:effectLst>
            <a:outerShdw dist="81487" dir="7075415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340000" y="6237360"/>
            <a:ext cx="4175280" cy="278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Oltre 700 esperti presenti nell’Elenco Reg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250920" y="5229360"/>
            <a:ext cx="8713800" cy="27864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200" spc="-1" strike="noStrike">
                <a:solidFill>
                  <a:srgbClr val="c00000"/>
                </a:solidFill>
                <a:latin typeface="Arial"/>
                <a:ea typeface="MS Gothic"/>
              </a:rPr>
              <a:t>I percorsi attivati dal 2009 ad oggi sono 884, di cui 319 per rilascio qualifica e 565 per rilascio certificato competen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3DFC10E-6F98-424D-BFFA-E1F2A97F6894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0" name=""/>
          <p:cNvCxnSpPr/>
          <p:nvPr/>
        </p:nvCxnSpPr>
        <p:spPr>
          <a:xfrm flipV="1">
            <a:off x="179280" y="764640"/>
            <a:ext cx="7920720" cy="15336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481" name=""/>
          <p:cNvSpPr/>
          <p:nvPr/>
        </p:nvSpPr>
        <p:spPr>
          <a:xfrm>
            <a:off x="2195640" y="82044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processo di validazione delle compet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179280" y="1341360"/>
            <a:ext cx="4032360" cy="287280"/>
          </a:xfrm>
          <a:custGeom>
            <a:avLst/>
            <a:gdLst>
              <a:gd name="textAreaLeft" fmla="*/ 0 w 4032360"/>
              <a:gd name="textAreaRight" fmla="*/ 4032720 w 40323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lnTo>
                  <a:pt x="770" y="10800"/>
                </a:lnTo>
                <a:close/>
              </a:path>
            </a:pathLst>
          </a:custGeom>
          <a:solidFill>
            <a:srgbClr val="7f7f7f"/>
          </a:solidFill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icostr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500720" y="1341360"/>
            <a:ext cx="4030560" cy="287280"/>
          </a:xfrm>
          <a:custGeom>
            <a:avLst/>
            <a:gdLst>
              <a:gd name="textAreaLeft" fmla="*/ 0 w 4030560"/>
              <a:gd name="textAreaRight" fmla="*/ 4030560 w 403056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30" y="0"/>
                </a:lnTo>
                <a:lnTo>
                  <a:pt x="21600" y="10800"/>
                </a:lnTo>
                <a:lnTo>
                  <a:pt x="20830" y="21600"/>
                </a:lnTo>
                <a:lnTo>
                  <a:pt x="0" y="21600"/>
                </a:lnTo>
                <a:lnTo>
                  <a:pt x="770" y="10800"/>
                </a:lnTo>
                <a:close/>
              </a:path>
            </a:pathLst>
          </a:custGeom>
          <a:solidFill>
            <a:srgbClr val="7f7f7f"/>
          </a:solidFill>
          <a:ln cap="sq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Valid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79280" y="1736640"/>
            <a:ext cx="3961080" cy="64152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icostruzione dell’esperienza  professionale maturata in contesti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non formali e inform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e delle competenze acquisi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572000" y="1736640"/>
            <a:ext cx="3960720" cy="4590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alidazione degli elementi emersi dalla ricostruzione da parte dell’amministrazione provinciale compet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21080" y="4381560"/>
            <a:ext cx="1763640" cy="903600"/>
          </a:xfrm>
          <a:prstGeom prst="foldedCorner">
            <a:avLst>
              <a:gd name="adj" fmla="val 23675"/>
            </a:avLst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accolta della documentazione in grado di testimoniare le esperienze maturate e ricostrui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87200" y="2500200"/>
            <a:ext cx="170820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MODALITA’ OPERATIV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2884320"/>
            <a:ext cx="4176720" cy="9309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c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Avvio della fase di ricostruzione dell’esperienza da parte dell’amministrazione provinciale (CPI);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c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Supporto di operatori in possesso di specifiche professionalità (orientatori di I e II Livello, etc.) al richiedente anche per la riconduzione delle competenze a quanto repertoriato nel RRF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rot="16200000">
            <a:off x="-168480" y="4723200"/>
            <a:ext cx="1008000" cy="40068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DOCUMENTI PRODOT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89120" y="4376880"/>
            <a:ext cx="1584360" cy="1194120"/>
          </a:xfrm>
          <a:prstGeom prst="foldedCorner">
            <a:avLst>
              <a:gd name="adj" fmla="val 16666"/>
            </a:avLst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i un proprio curricul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ossi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800000"/>
              </a:buClr>
              <a:buFont typeface="Wingdings" charset="2"/>
              <a:buChar char="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Elaborazione del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Libretto Formativo del Cittad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21440" y="2320920"/>
            <a:ext cx="316692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ESAME DELLE EVIDENZE DOCUM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2681280"/>
            <a:ext cx="4319640" cy="10983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L’esame è svolto al fine di individuare le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Unità di Competenze</a:t>
            </a:r>
            <a:r>
              <a:rPr b="1" lang="it-IT" sz="1100" spc="-1" strike="noStrike">
                <a:solidFill>
                  <a:srgbClr val="4f81bd"/>
                </a:solidFill>
                <a:latin typeface="Arial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tra quelle previste nel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Repertorio Regionale delle Figure professionali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, cui ricondurre le esperienze da validare. L’esame delle evidenze, effettuato dall’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amministrazione provinciale</a:t>
            </a:r>
            <a:r>
              <a:rPr b="1" lang="it-IT" sz="1100" spc="-1" strike="noStrike">
                <a:solidFill>
                  <a:srgbClr val="4f81bd"/>
                </a:solidFill>
                <a:latin typeface="Arial"/>
              </a:rPr>
              <a:t>,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può comportare un </a:t>
            </a:r>
            <a:r>
              <a:rPr b="1" lang="it-IT" sz="1100" spc="-1" strike="noStrike">
                <a:solidFill>
                  <a:srgbClr val="c00000"/>
                </a:solidFill>
                <a:latin typeface="Arial"/>
              </a:rPr>
              <a:t>colloquio tecnico</a:t>
            </a:r>
            <a:r>
              <a:rPr b="0" lang="it-IT" sz="1100" spc="-1" strike="noStrike">
                <a:solidFill>
                  <a:srgbClr val="000000"/>
                </a:solidFill>
                <a:latin typeface="Arial"/>
              </a:rPr>
              <a:t> con la persona che richiede la validazion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596360" y="4292640"/>
            <a:ext cx="1512720" cy="9309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Richiesta da parte dell’amministrazione provinciale di ulteriore </a:t>
            </a:r>
            <a:r>
              <a:rPr b="0" lang="it-IT" sz="1100" spc="-1" strike="noStrike">
                <a:solidFill>
                  <a:srgbClr val="c00000"/>
                </a:solidFill>
                <a:latin typeface="Calibri"/>
              </a:rPr>
              <a:t>approfondimento</a:t>
            </a:r>
            <a:r>
              <a:rPr b="1" lang="it-IT" sz="11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ella ricostruzi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594320" y="4292640"/>
            <a:ext cx="1512720" cy="1600560"/>
          </a:xfrm>
          <a:prstGeom prst="rect">
            <a:avLst/>
          </a:prstGeom>
          <a:noFill/>
          <a:ln cap="sq" w="9360">
            <a:solidFill>
              <a:srgbClr val="7f7f7f"/>
            </a:solidFill>
            <a:custDash>
              <a:ds d="100000" sp="100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100" spc="-1" strike="noStrike">
                <a:solidFill>
                  <a:srgbClr val="c00000"/>
                </a:solidFill>
                <a:latin typeface="Calibri"/>
              </a:rPr>
              <a:t>Validazione</a:t>
            </a:r>
            <a:r>
              <a:rPr b="1" lang="it-IT" sz="1100" spc="-1" strike="noStrike">
                <a:solidFill>
                  <a:srgbClr val="4f81bd"/>
                </a:solidFill>
                <a:latin typeface="Calibri"/>
              </a:rPr>
              <a:t> </a:t>
            </a: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delle competenze che risultano acquisite in base alla ricostruzione effettu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227640" y="4292640"/>
            <a:ext cx="122400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POSSIBILI ESIT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6" name=""/>
          <p:cNvCxnSpPr>
            <a:stCxn id="495" idx="2"/>
            <a:endCxn id="494" idx="3"/>
          </p:cNvCxnSpPr>
          <p:nvPr/>
        </p:nvCxnSpPr>
        <p:spPr>
          <a:xfrm flipV="1" rot="10800000">
            <a:off x="5473080" y="4539960"/>
            <a:ext cx="635760" cy="732600"/>
          </a:xfrm>
          <a:prstGeom prst="bentConnector3">
            <a:avLst>
              <a:gd name="adj1" fmla="val 49971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7" name=""/>
          <p:cNvCxnSpPr>
            <a:stCxn id="495" idx="2"/>
            <a:endCxn id="493" idx="1"/>
          </p:cNvCxnSpPr>
          <p:nvPr/>
        </p:nvCxnSpPr>
        <p:spPr>
          <a:xfrm>
            <a:off x="6538680" y="4539960"/>
            <a:ext cx="302040" cy="75780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8" name=""/>
          <p:cNvCxnSpPr>
            <a:stCxn id="493" idx="0"/>
            <a:endCxn id="491" idx="3"/>
          </p:cNvCxnSpPr>
          <p:nvPr/>
        </p:nvCxnSpPr>
        <p:spPr>
          <a:xfrm flipV="1">
            <a:off x="6506640" y="2445840"/>
            <a:ext cx="1848600" cy="3744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499" name=""/>
          <p:cNvCxnSpPr>
            <a:stCxn id="494" idx="2"/>
            <a:endCxn id="500" idx="1"/>
          </p:cNvCxnSpPr>
          <p:nvPr/>
        </p:nvCxnSpPr>
        <p:spPr>
          <a:xfrm flipV="1">
            <a:off x="4482720" y="5189040"/>
            <a:ext cx="870840" cy="102312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501" name=""/>
          <p:cNvCxnSpPr>
            <a:stCxn id="492" idx="2"/>
            <a:endCxn id="495" idx="0"/>
          </p:cNvCxnSpPr>
          <p:nvPr/>
        </p:nvCxnSpPr>
        <p:spPr>
          <a:xfrm>
            <a:off x="6221520" y="3781440"/>
            <a:ext cx="513360" cy="108720"/>
          </a:xfrm>
          <a:prstGeom prst="bentConnector3">
            <a:avLst>
              <a:gd name="adj1" fmla="val 49964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500" name=""/>
          <p:cNvSpPr/>
          <p:nvPr/>
        </p:nvSpPr>
        <p:spPr>
          <a:xfrm>
            <a:off x="6372360" y="4941720"/>
            <a:ext cx="1008000" cy="495720"/>
          </a:xfrm>
          <a:prstGeom prst="flowChartDocument">
            <a:avLst/>
          </a:prstGeom>
          <a:noFill/>
          <a:ln cap="sq"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cheda di validazi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572000" y="6033960"/>
            <a:ext cx="2521080" cy="703080"/>
          </a:xfrm>
          <a:prstGeom prst="rect">
            <a:avLst/>
          </a:prstGeom>
          <a:solidFill>
            <a:srgbClr val="eeece1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rtecipazione ad un percorso formativo di tipo formale, al fine di sviluppare le competenze mancanti necessarie all’acquisizione della qualif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36000" y="6033960"/>
            <a:ext cx="1657080" cy="703080"/>
          </a:xfrm>
          <a:prstGeom prst="rect">
            <a:avLst/>
          </a:prstGeom>
          <a:solidFill>
            <a:srgbClr val="eeece1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Sostenere l’esame per ottenere la certificazione delle competenze emerse dalla validazion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869000" y="5699160"/>
            <a:ext cx="380664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OPPORTUNITA’ A CONCLUSIONE DEL PROCES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79280" y="44280"/>
            <a:ext cx="7848720" cy="64800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648000"/>
              <a:gd name="textAreaBottom" fmla="*/ 64800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709" y="0"/>
                </a:lnTo>
                <a:lnTo>
                  <a:pt x="21600" y="10800"/>
                </a:lnTo>
                <a:lnTo>
                  <a:pt x="207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79280" y="3860640"/>
            <a:ext cx="4176720" cy="248400"/>
          </a:xfrm>
          <a:prstGeom prst="rect">
            <a:avLst/>
          </a:prstGeom>
          <a:solidFill>
            <a:srgbClr val="ffffff"/>
          </a:solidFill>
          <a:ln cap="sq"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000" spc="-1" strike="noStrike">
                <a:solidFill>
                  <a:srgbClr val="c00000"/>
                </a:solidFill>
                <a:latin typeface="Arial"/>
                <a:ea typeface="MS Gothic"/>
              </a:rPr>
              <a:t>Oltre 300 operatori formati nelle Province e nei S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7" name=""/>
          <p:cNvCxnSpPr>
            <a:stCxn id="488" idx="1"/>
            <a:endCxn id="506" idx="1"/>
          </p:cNvCxnSpPr>
          <p:nvPr/>
        </p:nvCxnSpPr>
        <p:spPr>
          <a:xfrm>
            <a:off x="178920" y="2714760"/>
            <a:ext cx="2520" cy="635760"/>
          </a:xfrm>
          <a:prstGeom prst="bentConnector3">
            <a:avLst>
              <a:gd name="adj1" fmla="val 50000"/>
            </a:avLst>
          </a:prstGeom>
          <a:ln cap="sq" w="9360">
            <a:solidFill>
              <a:srgbClr val="4a7ebb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324000" y="3284640"/>
            <a:ext cx="8569080" cy="865080"/>
          </a:xfrm>
          <a:prstGeom prst="rightArrow">
            <a:avLst>
              <a:gd name="adj1" fmla="val 50000"/>
              <a:gd name="adj2" fmla="val 49986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"/>
          <p:cNvCxnSpPr/>
          <p:nvPr/>
        </p:nvCxnSpPr>
        <p:spPr>
          <a:xfrm flipV="1">
            <a:off x="179280" y="691560"/>
            <a:ext cx="7920720" cy="153000"/>
          </a:xfrm>
          <a:prstGeom prst="bentConnector3">
            <a:avLst>
              <a:gd name="adj1" fmla="val 49997"/>
            </a:avLst>
          </a:prstGeom>
          <a:ln cap="sq" w="12600">
            <a:solidFill>
              <a:srgbClr val="000000"/>
            </a:solidFill>
            <a:miter/>
          </a:ln>
        </p:spPr>
      </p:cxnSp>
      <p:sp>
        <p:nvSpPr>
          <p:cNvPr id="510" name=""/>
          <p:cNvSpPr/>
          <p:nvPr/>
        </p:nvSpPr>
        <p:spPr>
          <a:xfrm>
            <a:off x="179280" y="44280"/>
            <a:ext cx="7848720" cy="576360"/>
          </a:xfrm>
          <a:custGeom>
            <a:avLst/>
            <a:gdLst>
              <a:gd name="textAreaLeft" fmla="*/ 0 w 7848720"/>
              <a:gd name="textAreaRight" fmla="*/ 7849080 w 7848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2050920" y="907560"/>
            <a:ext cx="49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Il Libretto Formativo del cittadino: il percor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2997360"/>
            <a:ext cx="36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400" spc="-1" strike="noStrike">
                <a:solidFill>
                  <a:srgbClr val="c00000"/>
                </a:solidFill>
                <a:latin typeface="Arial"/>
              </a:rPr>
              <a:t>Le fasi di attuazione in Tosc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287280" y="3429000"/>
            <a:ext cx="1886040" cy="555480"/>
            <a:chOff x="287280" y="3429000"/>
            <a:chExt cx="1886040" cy="555480"/>
          </a:xfrm>
        </p:grpSpPr>
        <p:sp>
          <p:nvSpPr>
            <p:cNvPr id="514" name=""/>
            <p:cNvSpPr/>
            <p:nvPr/>
          </p:nvSpPr>
          <p:spPr>
            <a:xfrm>
              <a:off x="287280" y="3429000"/>
              <a:ext cx="18860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12840" y="3456000"/>
              <a:ext cx="183492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1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eparatori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3549600" y="3429000"/>
            <a:ext cx="1884240" cy="555480"/>
            <a:chOff x="3549600" y="3429000"/>
            <a:chExt cx="1884240" cy="555480"/>
          </a:xfrm>
        </p:grpSpPr>
        <p:sp>
          <p:nvSpPr>
            <p:cNvPr id="517" name=""/>
            <p:cNvSpPr/>
            <p:nvPr/>
          </p:nvSpPr>
          <p:spPr>
            <a:xfrm>
              <a:off x="3549600" y="3429000"/>
              <a:ext cx="18842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75160" y="3456000"/>
              <a:ext cx="18334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2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Prima implementazi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"/>
          <p:cNvGrpSpPr/>
          <p:nvPr/>
        </p:nvGrpSpPr>
        <p:grpSpPr>
          <a:xfrm>
            <a:off x="6429240" y="3429000"/>
            <a:ext cx="1886040" cy="555480"/>
            <a:chOff x="6429240" y="3429000"/>
            <a:chExt cx="1886040" cy="555480"/>
          </a:xfrm>
        </p:grpSpPr>
        <p:sp>
          <p:nvSpPr>
            <p:cNvPr id="520" name=""/>
            <p:cNvSpPr/>
            <p:nvPr/>
          </p:nvSpPr>
          <p:spPr>
            <a:xfrm>
              <a:off x="6429240" y="3429000"/>
              <a:ext cx="1886040" cy="55548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454800" y="3456000"/>
              <a:ext cx="1835280" cy="50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280" rIns="53280" tIns="53280" bIns="5328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Fase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200" spc="-1" strike="noStrike">
                  <a:solidFill>
                    <a:srgbClr val="ffffff"/>
                  </a:solidFill>
                  <a:latin typeface="Arial"/>
                </a:rPr>
                <a:t>Messa a regim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3801960" y="3162240"/>
            <a:ext cx="1260720" cy="246240"/>
          </a:xfrm>
          <a:prstGeom prst="rect">
            <a:avLst/>
          </a:prstGeom>
          <a:solidFill>
            <a:srgbClr val="4f81bd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31 gennaio 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296040" y="3154320"/>
            <a:ext cx="2087640" cy="246240"/>
          </a:xfrm>
          <a:prstGeom prst="rect">
            <a:avLst/>
          </a:prstGeom>
          <a:solidFill>
            <a:srgbClr val="4f81bd"/>
          </a:solidFill>
          <a:ln cap="sq"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Arial"/>
              </a:rPr>
              <a:t>30 settembre 2011 – in cors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916360" y="1341360"/>
            <a:ext cx="5184720" cy="1366920"/>
          </a:xfrm>
          <a:prstGeom prst="roundRect">
            <a:avLst>
              <a:gd name="adj" fmla="val 16667"/>
            </a:avLst>
          </a:prstGeom>
          <a:solidFill>
            <a:srgbClr val="f2dc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DGR n. 1066 del 13.12.2010 approva gli “Indirizzi per la messa a sistema delle procedure di rilascio del libretto formativo del cittadin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39640" y="1628640"/>
            <a:ext cx="1835280" cy="592200"/>
            <a:chOff x="539640" y="1628640"/>
            <a:chExt cx="1835280" cy="592200"/>
          </a:xfrm>
        </p:grpSpPr>
        <p:sp>
          <p:nvSpPr>
            <p:cNvPr id="526" name=""/>
            <p:cNvSpPr/>
            <p:nvPr/>
          </p:nvSpPr>
          <p:spPr>
            <a:xfrm>
              <a:off x="539640" y="1628640"/>
              <a:ext cx="1835280" cy="592200"/>
            </a:xfrm>
            <a:prstGeom prst="roundRect">
              <a:avLst>
                <a:gd name="adj" fmla="val 16667"/>
              </a:avLst>
            </a:prstGeom>
            <a:solidFill>
              <a:srgbClr val="564242"/>
            </a:solidFill>
            <a:ln cap="sq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55480" y="1655640"/>
              <a:ext cx="1803600" cy="53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3040" rIns="23040" tIns="15120" bIns="1512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800" spc="-1" strike="noStrike">
                  <a:solidFill>
                    <a:srgbClr val="ffffff"/>
                  </a:solidFill>
                  <a:latin typeface="Arial"/>
                </a:rPr>
                <a:t>Indirizz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108000" y="4149720"/>
            <a:ext cx="2879640" cy="222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stituzione di due sottogruppi della Commissione Tripartita per la Certificazione delle competenz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disposizione del Sistema Informativo per il supporto alla compilazione e rilascio del Libretto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finizione degli indirizzi per la messa a regime del Libr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419640" y="4149720"/>
            <a:ext cx="2736720" cy="24382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ll’ambito delle politiche attive del Lavoro in contrasto alla crisi, da febbraio 2011, i lavoratori in CIG e mobilità in deroga già trattati, in quanto destinatari di politiche attive del lavoro, sono stati contattati dai Centri per l’Impiego al fine di usufruire del servizio di accompagnamento alla compilazione e rilascio del Libr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443640" y="4221000"/>
            <a:ext cx="2521080" cy="2225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ocesso progressivo per l’allargamento del Target per arrivare ad offrire il servizio a tutti i cittadini tosca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ilascio e costante aggiornamento del Libretto a tutti i cittadini toscani attraverso la rete dei Servizi per il Lavoro e dei soggetti che verranno abilit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1" name=""/>
          <p:cNvCxnSpPr/>
          <p:nvPr/>
        </p:nvCxnSpPr>
        <p:spPr>
          <a:xfrm flipV="1">
            <a:off x="244080" y="1052280"/>
            <a:ext cx="153000" cy="82303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000000"/>
            </a:solidFill>
            <a:miter/>
          </a:ln>
        </p:spPr>
      </p:cxnSp>
      <p:graphicFrame>
        <p:nvGraphicFramePr>
          <p:cNvPr id="532" name=""/>
          <p:cNvGraphicFramePr/>
          <p:nvPr/>
        </p:nvGraphicFramePr>
        <p:xfrm>
          <a:off x="1295280" y="2448000"/>
          <a:ext cx="2819520" cy="2809800"/>
        </p:xfrm>
        <a:graphic>
          <a:graphicData uri="http://schemas.openxmlformats.org/drawingml/2006/table">
            <a:tbl>
              <a:tblPr/>
              <a:tblGrid>
                <a:gridCol w="1524240"/>
                <a:gridCol w="1295280"/>
              </a:tblGrid>
              <a:tr h="492120"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vi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9212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ezz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.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35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to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7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31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is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6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24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vo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37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4460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a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3" name=""/>
          <p:cNvGraphicFramePr/>
          <p:nvPr/>
        </p:nvGraphicFramePr>
        <p:xfrm>
          <a:off x="4572000" y="2443320"/>
          <a:ext cx="2819520" cy="2811240"/>
        </p:xfrm>
        <a:graphic>
          <a:graphicData uri="http://schemas.openxmlformats.org/drawingml/2006/table">
            <a:tbl>
              <a:tblPr/>
              <a:tblGrid>
                <a:gridCol w="1523880"/>
                <a:gridCol w="1295640"/>
              </a:tblGrid>
              <a:tr h="475920"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Provinc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44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3056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mp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63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592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uc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ie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5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iren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76280"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rosse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17640" bIns="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4" name=""/>
          <p:cNvGraphicFramePr/>
          <p:nvPr/>
        </p:nvGraphicFramePr>
        <p:xfrm>
          <a:off x="1692360" y="5805360"/>
          <a:ext cx="5400720" cy="455760"/>
        </p:xfrm>
        <a:graphic>
          <a:graphicData uri="http://schemas.openxmlformats.org/drawingml/2006/table">
            <a:tbl>
              <a:tblPr/>
              <a:tblGrid>
                <a:gridCol w="2773440"/>
                <a:gridCol w="2627280"/>
              </a:tblGrid>
              <a:tr h="455760">
                <a:tc>
                  <a:txBody>
                    <a:bodyPr lIns="90000" rIns="90000" tIns="680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68040" bIns="46800" anchor="b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.83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504d"/>
                    </a:solidFill>
                  </a:tcPr>
                </a:tc>
              </a:tr>
            </a:tbl>
          </a:graphicData>
        </a:graphic>
      </p:graphicFrame>
      <p:sp>
        <p:nvSpPr>
          <p:cNvPr id="535" name=""/>
          <p:cNvSpPr/>
          <p:nvPr/>
        </p:nvSpPr>
        <p:spPr>
          <a:xfrm>
            <a:off x="250920" y="260280"/>
            <a:ext cx="7848360" cy="576360"/>
          </a:xfrm>
          <a:custGeom>
            <a:avLst/>
            <a:gdLst>
              <a:gd name="textAreaLeft" fmla="*/ 0 w 7848360"/>
              <a:gd name="textAreaRight" fmla="*/ 7848720 w 784836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807" y="0"/>
                </a:lnTo>
                <a:lnTo>
                  <a:pt x="21600" y="10800"/>
                </a:lnTo>
                <a:lnTo>
                  <a:pt x="2080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processo di validazione e certificazione delle compet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11280" y="136044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c00000"/>
                </a:solidFill>
                <a:latin typeface="Arial"/>
              </a:rPr>
              <a:t>Il Libretto Formativo del cittadino: la distribuzione territoriale dei Libretti erogati al gennaio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12:55:56Z</dcterms:created>
  <dc:creator>GCAVAGNA00</dc:creator>
  <dc:description/>
  <dc:language>en-US</dc:language>
  <cp:lastModifiedBy>Zoppi</cp:lastModifiedBy>
  <cp:lastPrinted>2013-12-09T15:19:35Z</cp:lastPrinted>
  <dcterms:modified xsi:type="dcterms:W3CDTF">2014-03-27T16:26:47Z</dcterms:modified>
  <cp:revision>222</cp:revision>
  <dc:subject/>
  <dc:title>Il sistema toscano delle competenze      Bari, 18 giugno 2012</dc:title>
</cp:coreProperties>
</file>