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48800"/>
            <a:ext cx="4991040" cy="374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37C7-8DE0-4ECC-A9DF-EABEFDF1EC1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B1E4-0871-4FB0-B333-43E5E41F12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F29-2DAB-477A-85A1-30E0E80DA3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524-8997-4068-8FCE-6CA12051E1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4694-7BDF-4DD0-B053-E10F096FA0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3246-69B2-4205-A985-4E433C5276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B3CA-F80C-40FD-9A9C-095A5E9BD8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4C2-1446-492F-952B-E63D711399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A0EC-4E78-4601-9D7E-9636E39627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23B-5E8C-428E-88EA-1484F11EB5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017-4BD6-4449-A57C-E8B249D0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DD5-0EBA-4544-9FDA-FDB9E0DB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64D-2965-45ED-9BCB-3E0664B6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666-ABC3-4534-AC1A-8CC50627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4A5-AB65-467B-AA8E-62DCBCDE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CBA-DD56-4167-8C38-B278D4E4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046-CDD8-4A10-8DA1-23C8FAE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D53-FD64-401D-8C84-70360EAF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F74-AA88-4097-B5C8-A05E9760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E78-909F-4D65-96FC-273CD614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3B0-2524-4DD5-B6C1-A253C6E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F4C-9F0D-4A89-A8E1-D448551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F022-0382-4D9F-BA69-8A3F4618F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9"/>
          <p:cNvGraphicFramePr/>
          <p:nvPr/>
        </p:nvGraphicFramePr>
        <p:xfrm>
          <a:off x="-252360" y="1197000"/>
          <a:ext cx="90000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197000"/>
                    <a:ext cx="9000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2"/>
          <p:cNvGrpSpPr/>
          <p:nvPr/>
        </p:nvGrpSpPr>
        <p:grpSpPr>
          <a:xfrm>
            <a:off x="7380360" y="1197000"/>
            <a:ext cx="1439640" cy="792000"/>
            <a:chOff x="7380360" y="1197000"/>
            <a:chExt cx="1439640" cy="792000"/>
          </a:xfrm>
        </p:grpSpPr>
        <p:pic>
          <p:nvPicPr>
            <p:cNvPr id="54" name="Picture 3" descr=""/>
            <p:cNvPicPr/>
            <p:nvPr/>
          </p:nvPicPr>
          <p:blipFill>
            <a:blip r:embed="rId4"/>
            <a:stretch/>
          </p:blipFill>
          <p:spPr>
            <a:xfrm>
              <a:off x="7380360" y="1197000"/>
              <a:ext cx="804600" cy="79200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55" name="Text Box 4"/>
            <p:cNvSpPr/>
            <p:nvPr/>
          </p:nvSpPr>
          <p:spPr>
            <a:xfrm>
              <a:off x="7719120" y="1294560"/>
              <a:ext cx="110088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ttangolo 9"/>
          <p:cNvSpPr/>
          <p:nvPr/>
        </p:nvSpPr>
        <p:spPr>
          <a:xfrm flipV="1" rot="10779000">
            <a:off x="7016760" y="1915200"/>
            <a:ext cx="176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Calibri"/>
              </a:rPr>
              <a:t>Autorità Portuale di Liv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0"/>
          <p:cNvSpPr/>
          <p:nvPr/>
        </p:nvSpPr>
        <p:spPr>
          <a:xfrm>
            <a:off x="179280" y="1413000"/>
            <a:ext cx="806472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"L'évolution des systèmes portuaires et les profils professionnels émergents" interviennent Francescalberto Debari et Sonia Avanzoni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dministration portuaire de Livour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L’evoluzione dei sistemi portuali e i profili professionali emergenti”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intervengono Francescalberto Debari e Sonia Avanzo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Autorità Portuale di Livor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Livorno, 9 Maggio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III Seminario del progetto “PER MARE. Azioni innovative per orientare ai mestieri del mare”  </a:t>
            </a:r>
            <a:r>
              <a:rPr b="1" i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finanziato dal P.O. Italia- Marittimo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2007-2013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G:\Ufficio - CentroStudi\SELENE\PROGETTI\PO_ITALIA_FRANCIA_MARITTIMO\PER_MARE\comunicazione\manuale_comunicazione\LOGO_MARE02.jpg"/>
          <p:cNvPicPr/>
          <p:nvPr/>
        </p:nvPicPr>
        <p:blipFill>
          <a:blip r:embed="rId5"/>
          <a:stretch/>
        </p:blipFill>
        <p:spPr>
          <a:xfrm>
            <a:off x="3276720" y="465300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Ufficio - CentroStudi\SELENE\PROGETTI\PO_ITALIA_FRANCIA_MARITTIMO\PER_MARE\comunicazione\manuale_comunicazione\Logo_Marittimo.jpg"/>
          <p:cNvPicPr/>
          <p:nvPr/>
        </p:nvPicPr>
        <p:blipFill>
          <a:blip r:embed="rId6"/>
          <a:stretch/>
        </p:blipFill>
        <p:spPr>
          <a:xfrm>
            <a:off x="2771640" y="0"/>
            <a:ext cx="2517840" cy="1343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eli0668\AppData\Local\Temp\ARCBF13\Slogan it.tif"/>
          <p:cNvPicPr/>
          <p:nvPr/>
        </p:nvPicPr>
        <p:blipFill>
          <a:blip r:embed="rId7"/>
          <a:stretch/>
        </p:blipFill>
        <p:spPr>
          <a:xfrm>
            <a:off x="-252360" y="0"/>
            <a:ext cx="2087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eli0668\AppData\Local\Temp\ARC8E52\Slogan fra.tif"/>
          <p:cNvPicPr/>
          <p:nvPr/>
        </p:nvPicPr>
        <p:blipFill>
          <a:blip r:embed="rId8"/>
          <a:stretch/>
        </p:blipFill>
        <p:spPr>
          <a:xfrm>
            <a:off x="6588000" y="115920"/>
            <a:ext cx="21970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54" name="CasellaDiTesto 3"/>
          <p:cNvSpPr/>
          <p:nvPr/>
        </p:nvSpPr>
        <p:spPr>
          <a:xfrm>
            <a:off x="0" y="126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EOPLE TRAINED  IN PORT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4"/>
          <p:cNvSpPr/>
          <p:nvPr/>
        </p:nvSpPr>
        <p:spPr>
          <a:xfrm>
            <a:off x="324000" y="2060640"/>
            <a:ext cx="842472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Induction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personnel trained : 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hours: 2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Safety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personnel trained :  2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hours: 10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dditiona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ergency Managemen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personnel trained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hours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"/>
          <p:cNvGrpSpPr/>
          <p:nvPr/>
        </p:nvGrpSpPr>
        <p:grpSpPr>
          <a:xfrm>
            <a:off x="8101080" y="260280"/>
            <a:ext cx="1439640" cy="770040"/>
            <a:chOff x="8101080" y="260280"/>
            <a:chExt cx="1439640" cy="770040"/>
          </a:xfrm>
        </p:grpSpPr>
        <p:pic>
          <p:nvPicPr>
            <p:cNvPr id="157" name="Picture 3" descr=""/>
            <p:cNvPicPr/>
            <p:nvPr/>
          </p:nvPicPr>
          <p:blipFill>
            <a:blip r:embed="rId2"/>
            <a:stretch/>
          </p:blipFill>
          <p:spPr>
            <a:xfrm>
              <a:off x="8101080" y="260280"/>
              <a:ext cx="804600" cy="7700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58" name="Text Box 4"/>
            <p:cNvSpPr/>
            <p:nvPr/>
          </p:nvSpPr>
          <p:spPr>
            <a:xfrm>
              <a:off x="8439840" y="355320"/>
              <a:ext cx="11008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Group 2"/>
          <p:cNvGrpSpPr/>
          <p:nvPr/>
        </p:nvGrpSpPr>
        <p:grpSpPr>
          <a:xfrm>
            <a:off x="8172360" y="333360"/>
            <a:ext cx="1440000" cy="768240"/>
            <a:chOff x="8172360" y="333360"/>
            <a:chExt cx="1440000" cy="768240"/>
          </a:xfrm>
        </p:grpSpPr>
        <p:pic>
          <p:nvPicPr>
            <p:cNvPr id="165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333360"/>
              <a:ext cx="804960" cy="7682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66" name="Text Box 4"/>
            <p:cNvSpPr/>
            <p:nvPr/>
          </p:nvSpPr>
          <p:spPr>
            <a:xfrm>
              <a:off x="8511120" y="428040"/>
              <a:ext cx="11012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ttangolo 7"/>
          <p:cNvSpPr/>
          <p:nvPr/>
        </p:nvSpPr>
        <p:spPr>
          <a:xfrm>
            <a:off x="1986120" y="134136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EOPLE TRAINED  IN PORT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042920" y="410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10"/>
          <p:cNvSpPr/>
          <p:nvPr/>
        </p:nvSpPr>
        <p:spPr>
          <a:xfrm>
            <a:off x="179280" y="2060640"/>
            <a:ext cx="896472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raining for young people (port training courses for diploma-holders / graduated/ unemployed people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number of personnel trained: 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number of hours: 63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tinuous tr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otal Number of personnel trained: 5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otal number of hours: 12.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63" name="Rettangolo 5"/>
          <p:cNvSpPr/>
          <p:nvPr/>
        </p:nvSpPr>
        <p:spPr>
          <a:xfrm>
            <a:off x="785880" y="12859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PORT TRAINING IN AN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INDUSTRIAL RELATIONS 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Diagramma 6" descr=""/>
          <p:cNvPicPr/>
          <p:nvPr/>
        </p:nvPicPr>
        <p:blipFill>
          <a:blip r:embed="rId2"/>
          <a:stretch/>
        </p:blipFill>
        <p:spPr>
          <a:xfrm>
            <a:off x="201600" y="1609560"/>
            <a:ext cx="8802720" cy="5248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66" name="Picture 3" descr=""/>
            <p:cNvPicPr/>
            <p:nvPr/>
          </p:nvPicPr>
          <p:blipFill>
            <a:blip r:embed="rId3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67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4"/>
          <p:cNvSpPr/>
          <p:nvPr/>
        </p:nvSpPr>
        <p:spPr>
          <a:xfrm>
            <a:off x="785880" y="12859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PORT TRAINING IN AN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INDUSTRIAL RELATIONS 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12400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76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77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Immagine 9" descr=""/>
          <p:cNvPicPr/>
          <p:nvPr/>
        </p:nvPicPr>
        <p:blipFill>
          <a:blip r:embed="rId5"/>
          <a:stretch/>
        </p:blipFill>
        <p:spPr>
          <a:xfrm>
            <a:off x="468360" y="1773360"/>
            <a:ext cx="792000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3132000" y="2637000"/>
            <a:ext cx="1800360" cy="576000"/>
          </a:xfrm>
          <a:prstGeom prst="rect">
            <a:avLst/>
          </a:prstGeom>
          <a:solidFill>
            <a:srgbClr val="76923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NITORING TRAINING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ttangolo 3"/>
          <p:cNvSpPr/>
          <p:nvPr/>
        </p:nvSpPr>
        <p:spPr>
          <a:xfrm>
            <a:off x="1020240" y="120492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WHY IS  PORT TRAINING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83" name="Ovale 6"/>
          <p:cNvSpPr/>
          <p:nvPr/>
        </p:nvSpPr>
        <p:spPr>
          <a:xfrm>
            <a:off x="468360" y="1700280"/>
            <a:ext cx="2735280" cy="1224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VELOPMENT OF THE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8"/>
          <p:cNvSpPr/>
          <p:nvPr/>
        </p:nvSpPr>
        <p:spPr>
          <a:xfrm>
            <a:off x="826920" y="3429000"/>
            <a:ext cx="2232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9"/>
          <p:cNvSpPr/>
          <p:nvPr/>
        </p:nvSpPr>
        <p:spPr>
          <a:xfrm>
            <a:off x="1041480" y="34480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NG IN HUMAN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tangolo 10"/>
          <p:cNvSpPr/>
          <p:nvPr/>
        </p:nvSpPr>
        <p:spPr>
          <a:xfrm>
            <a:off x="5003640" y="1916280"/>
            <a:ext cx="2737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11"/>
          <p:cNvSpPr/>
          <p:nvPr/>
        </p:nvSpPr>
        <p:spPr>
          <a:xfrm>
            <a:off x="5072040" y="1928880"/>
            <a:ext cx="26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 TRAINING AND REQUALIFICATION  OF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12"/>
          <p:cNvSpPr/>
          <p:nvPr/>
        </p:nvSpPr>
        <p:spPr>
          <a:xfrm>
            <a:off x="5003640" y="3429000"/>
            <a:ext cx="392616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13"/>
          <p:cNvSpPr/>
          <p:nvPr/>
        </p:nvSpPr>
        <p:spPr>
          <a:xfrm>
            <a:off x="5072040" y="34290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 TRAINING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 improves the standards of professional competences to perform the task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stro perforato 14"/>
          <p:cNvSpPr/>
          <p:nvPr/>
        </p:nvSpPr>
        <p:spPr>
          <a:xfrm>
            <a:off x="2627280" y="5229360"/>
            <a:ext cx="3816360" cy="1439640"/>
          </a:xfrm>
          <a:prstGeom prst="flowChartPunchedTap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15"/>
          <p:cNvSpPr/>
          <p:nvPr/>
        </p:nvSpPr>
        <p:spPr>
          <a:xfrm>
            <a:off x="2771640" y="566100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 NEED TO BE COMPETITIVE AND INCREASE EMPLOY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ccia angolare in su 18"/>
          <p:cNvSpPr/>
          <p:nvPr/>
        </p:nvSpPr>
        <p:spPr>
          <a:xfrm rot="5400000">
            <a:off x="1403280" y="4869720"/>
            <a:ext cx="1295640" cy="718920"/>
          </a:xfrm>
          <a:custGeom>
            <a:avLst/>
            <a:gdLst/>
            <a:ahLst/>
            <a:rect l="l" t="t" r="r" b="b"/>
            <a:pathLst>
              <a:path w="1295400" h="719138">
                <a:moveTo>
                  <a:pt x="0" y="539354"/>
                </a:moveTo>
                <a:lnTo>
                  <a:pt x="1025723" y="539354"/>
                </a:lnTo>
                <a:lnTo>
                  <a:pt x="1025723" y="179785"/>
                </a:lnTo>
                <a:lnTo>
                  <a:pt x="935831" y="179785"/>
                </a:lnTo>
                <a:lnTo>
                  <a:pt x="1115616" y="0"/>
                </a:lnTo>
                <a:lnTo>
                  <a:pt x="1295400" y="179785"/>
                </a:lnTo>
                <a:lnTo>
                  <a:pt x="1205508" y="179785"/>
                </a:lnTo>
                <a:lnTo>
                  <a:pt x="1205508" y="719138"/>
                </a:lnTo>
                <a:lnTo>
                  <a:pt x="0" y="719138"/>
                </a:lnTo>
                <a:lnTo>
                  <a:pt x="0" y="53935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ccia in giù 19"/>
          <p:cNvSpPr/>
          <p:nvPr/>
        </p:nvSpPr>
        <p:spPr>
          <a:xfrm>
            <a:off x="1619280" y="299736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ccia in giù 20"/>
          <p:cNvSpPr/>
          <p:nvPr/>
        </p:nvSpPr>
        <p:spPr>
          <a:xfrm>
            <a:off x="6227640" y="299736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angolare bidirezionale 23"/>
          <p:cNvSpPr/>
          <p:nvPr/>
        </p:nvSpPr>
        <p:spPr>
          <a:xfrm>
            <a:off x="6875640" y="5084640"/>
            <a:ext cx="792000" cy="1081080"/>
          </a:xfrm>
          <a:custGeom>
            <a:avLst/>
            <a:gdLst/>
            <a:ahLst/>
            <a:rect l="l" t="t" r="r" b="b"/>
            <a:pathLst>
              <a:path w="792162" h="1081087">
                <a:moveTo>
                  <a:pt x="0" y="883047"/>
                </a:moveTo>
                <a:lnTo>
                  <a:pt x="198041" y="685006"/>
                </a:lnTo>
                <a:lnTo>
                  <a:pt x="198041" y="784026"/>
                </a:lnTo>
                <a:lnTo>
                  <a:pt x="495101" y="784026"/>
                </a:lnTo>
                <a:lnTo>
                  <a:pt x="495101" y="198041"/>
                </a:lnTo>
                <a:lnTo>
                  <a:pt x="396081" y="198041"/>
                </a:lnTo>
                <a:lnTo>
                  <a:pt x="594122" y="0"/>
                </a:lnTo>
                <a:lnTo>
                  <a:pt x="792162" y="198041"/>
                </a:lnTo>
                <a:lnTo>
                  <a:pt x="693142" y="198041"/>
                </a:lnTo>
                <a:lnTo>
                  <a:pt x="693142" y="982067"/>
                </a:lnTo>
                <a:lnTo>
                  <a:pt x="198041" y="982067"/>
                </a:lnTo>
                <a:lnTo>
                  <a:pt x="198041" y="1081087"/>
                </a:lnTo>
                <a:lnTo>
                  <a:pt x="0" y="88304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ccia in giù 24"/>
          <p:cNvSpPr/>
          <p:nvPr/>
        </p:nvSpPr>
        <p:spPr>
          <a:xfrm rot="14377800">
            <a:off x="3887640" y="2811240"/>
            <a:ext cx="288720" cy="1251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ccia in giù 25"/>
          <p:cNvSpPr/>
          <p:nvPr/>
        </p:nvSpPr>
        <p:spPr>
          <a:xfrm rot="17246400">
            <a:off x="3906720" y="3760560"/>
            <a:ext cx="287280" cy="124956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e 21"/>
          <p:cNvSpPr/>
          <p:nvPr/>
        </p:nvSpPr>
        <p:spPr>
          <a:xfrm>
            <a:off x="3181320" y="1603440"/>
            <a:ext cx="1701720" cy="5540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FRASTRUCTRUAL IMPROVE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e 22"/>
          <p:cNvSpPr/>
          <p:nvPr/>
        </p:nvSpPr>
        <p:spPr>
          <a:xfrm>
            <a:off x="3192480" y="2195640"/>
            <a:ext cx="1701720" cy="5540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ECHNOLOGIC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e 26"/>
          <p:cNvSpPr/>
          <p:nvPr/>
        </p:nvSpPr>
        <p:spPr>
          <a:xfrm>
            <a:off x="2305080" y="2771640"/>
            <a:ext cx="1701720" cy="5540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ROVED WORK ORGA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04" name="Picture 3" descr=""/>
            <p:cNvPicPr/>
            <p:nvPr/>
          </p:nvPicPr>
          <p:blipFill>
            <a:blip r:embed="rId10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05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6480" y="17640"/>
            <a:ext cx="9144000" cy="1196640"/>
          </a:xfrm>
          <a:prstGeom prst="rect">
            <a:avLst/>
          </a:prstGeom>
          <a:ln w="0">
            <a:noFill/>
          </a:ln>
        </p:spPr>
      </p:pic>
      <p:sp>
        <p:nvSpPr>
          <p:cNvPr id="107" name="Rettangolo 3"/>
          <p:cNvSpPr/>
          <p:nvPr/>
        </p:nvSpPr>
        <p:spPr>
          <a:xfrm>
            <a:off x="2786040" y="1214280"/>
            <a:ext cx="48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WHY PORT TRAI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Diagramma 4" descr=""/>
          <p:cNvPicPr/>
          <p:nvPr/>
        </p:nvPicPr>
        <p:blipFill>
          <a:blip r:embed="rId2"/>
          <a:stretch/>
        </p:blipFill>
        <p:spPr>
          <a:xfrm>
            <a:off x="1609560" y="1773360"/>
            <a:ext cx="6143760" cy="43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12" name="Picture 3" descr=""/>
            <p:cNvPicPr/>
            <p:nvPr/>
          </p:nvPicPr>
          <p:blipFill>
            <a:blip r:embed="rId5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13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ma 3" descr=""/>
          <p:cNvPicPr/>
          <p:nvPr/>
        </p:nvPicPr>
        <p:blipFill>
          <a:blip r:embed="rId2"/>
          <a:stretch/>
        </p:blipFill>
        <p:spPr>
          <a:xfrm>
            <a:off x="249120" y="1859040"/>
            <a:ext cx="8504280" cy="4633920"/>
          </a:xfrm>
          <a:prstGeom prst="rect">
            <a:avLst/>
          </a:prstGeom>
          <a:ln w="0">
            <a:noFill/>
          </a:ln>
        </p:spPr>
      </p:pic>
      <p:sp>
        <p:nvSpPr>
          <p:cNvPr id="116" name="Rettangolo 4"/>
          <p:cNvSpPr/>
          <p:nvPr/>
        </p:nvSpPr>
        <p:spPr>
          <a:xfrm>
            <a:off x="0" y="121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DEVISE A SYSTEM FOR TRAINING, CERTIFYING  AND VALIDATING PORT COMPE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20" name="Picture 3" descr=""/>
            <p:cNvPicPr/>
            <p:nvPr/>
          </p:nvPicPr>
          <p:blipFill>
            <a:blip r:embed="rId5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21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CasellaDiTesto 4"/>
          <p:cNvSpPr/>
          <p:nvPr/>
        </p:nvSpPr>
        <p:spPr>
          <a:xfrm>
            <a:off x="0" y="19890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RDINANCE N.28 22.10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2007 Livorno  Port Authority set about regulating vocational training activities through an ordinanc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fining and setting up basic training and re-training program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with the issue of a “passport” or “certified curriculum” authorizing people to work in th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rrying out the monitoring of port worker  professional expertise and skill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lated to  operational cycle activities in view of producing a yearly “Training Plan for the Port Sec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fining training contents, modalities and assessment criter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hrough guidelines on minimum skill standards required for each  task and/or activity carried out by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ttangolo 6"/>
          <p:cNvSpPr/>
          <p:nvPr/>
        </p:nvSpPr>
        <p:spPr>
          <a:xfrm>
            <a:off x="10800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DEVISE A SYSTEM FOR TRAINING, CERTIFYING  AND VALIDATING PORT COMPE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28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29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31" name="Diagramma 3" descr=""/>
          <p:cNvPicPr/>
          <p:nvPr/>
        </p:nvPicPr>
        <p:blipFill>
          <a:blip r:embed="rId2"/>
          <a:stretch/>
        </p:blipFill>
        <p:spPr>
          <a:xfrm>
            <a:off x="433440" y="1987560"/>
            <a:ext cx="8418600" cy="4608360"/>
          </a:xfrm>
          <a:prstGeom prst="rect">
            <a:avLst/>
          </a:prstGeom>
          <a:ln w="0">
            <a:noFill/>
          </a:ln>
        </p:spPr>
      </p:pic>
      <p:sp>
        <p:nvSpPr>
          <p:cNvPr id="132" name="Rettangolo 1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DEVISE A SYSTEM FOR TRAINING, CERTIFYING  AND VALIDATING PORT COMPE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2"/>
          <p:cNvGrpSpPr/>
          <p:nvPr/>
        </p:nvGrpSpPr>
        <p:grpSpPr>
          <a:xfrm>
            <a:off x="8244000" y="260280"/>
            <a:ext cx="1439640" cy="792360"/>
            <a:chOff x="8244000" y="260280"/>
            <a:chExt cx="1439640" cy="792360"/>
          </a:xfrm>
        </p:grpSpPr>
        <p:pic>
          <p:nvPicPr>
            <p:cNvPr id="136" name="Picture 3" descr=""/>
            <p:cNvPicPr/>
            <p:nvPr/>
          </p:nvPicPr>
          <p:blipFill>
            <a:blip r:embed="rId5"/>
            <a:stretch/>
          </p:blipFill>
          <p:spPr>
            <a:xfrm>
              <a:off x="8244000" y="260280"/>
              <a:ext cx="80460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37" name="Text Box 4"/>
            <p:cNvSpPr/>
            <p:nvPr/>
          </p:nvSpPr>
          <p:spPr>
            <a:xfrm>
              <a:off x="8582760" y="357840"/>
              <a:ext cx="110088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Immagine 9" descr=""/>
          <p:cNvPicPr/>
          <p:nvPr/>
        </p:nvPicPr>
        <p:blipFill>
          <a:blip r:embed="rId6"/>
          <a:stretch/>
        </p:blipFill>
        <p:spPr>
          <a:xfrm>
            <a:off x="623880" y="4005360"/>
            <a:ext cx="2279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Group 2"/>
          <p:cNvGrpSpPr/>
          <p:nvPr/>
        </p:nvGrpSpPr>
        <p:grpSpPr>
          <a:xfrm>
            <a:off x="8172360" y="333360"/>
            <a:ext cx="1440000" cy="768240"/>
            <a:chOff x="8172360" y="333360"/>
            <a:chExt cx="1440000" cy="768240"/>
          </a:xfrm>
        </p:grpSpPr>
        <p:pic>
          <p:nvPicPr>
            <p:cNvPr id="143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333360"/>
              <a:ext cx="804960" cy="7682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44" name="Text Box 4"/>
            <p:cNvSpPr/>
            <p:nvPr/>
          </p:nvSpPr>
          <p:spPr>
            <a:xfrm>
              <a:off x="8511120" y="428040"/>
              <a:ext cx="11012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4"/>
          <p:cNvSpPr/>
          <p:nvPr/>
        </p:nvSpPr>
        <p:spPr>
          <a:xfrm>
            <a:off x="1042920" y="410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971640" y="1844640"/>
            <a:ext cx="7416720" cy="609480"/>
          </a:xfrm>
          <a:prstGeom prst="flowChartProcess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RTIFICATION ” SYSTEM MOD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210960" y="2725560"/>
            <a:ext cx="3745080" cy="158436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UARANTEE QUALIT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 PROCES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MODALIT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OUT TRAINING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4140360" y="321300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5003640" y="2708280"/>
            <a:ext cx="3672000" cy="158436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CESS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ho, how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tinence, Coherenc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ffectiveness, Main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500040" y="4614840"/>
            <a:ext cx="3168720" cy="165564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UARANTEE QUALITY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IN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UTCOM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LLS &amp; 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4140360" y="508464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5003640" y="4508640"/>
            <a:ext cx="3672000" cy="172872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ERTIFICATION OF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finite &amp; fixed verific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cquired compet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-Effectiveness, Mainstream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7:29:19Z</dcterms:created>
  <dc:creator>formazione1</dc:creator>
  <dc:description/>
  <dc:language>en-US</dc:language>
  <cp:lastModifiedBy>Caturegli</cp:lastModifiedBy>
  <cp:lastPrinted>2014-03-31T07:47:48Z</cp:lastPrinted>
  <dcterms:modified xsi:type="dcterms:W3CDTF">2014-08-13T15:50:14Z</dcterms:modified>
  <cp:revision>57</cp:revision>
  <dc:subject/>
  <dc:title>Diapositiva 1</dc:title>
</cp:coreProperties>
</file>