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7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6272-A6C1-475B-8AC9-797F4AEBB3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’ importante ricordare che la professionalità dell’addetto di rampa si misura con la capacità di coordinar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otto bordo il lavoro di tutti gli operatori, tenendo conto che ognuno di loro ha le proprie esigenze e necessità che sono, per loro, sicuramente priorit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 sistema produt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'obiettivo comune a tutti gli operatori aeroportuali, quello in pratica di offrire servizi ai passeggeri, è raggiunto attraverso l'interazione di un insieme d’elementi in stretto rapporto tra loro: le risorse umane, i processi di produzione dei servizi, le norme di coordina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ll'efficienza e dall'efficacia delle interazioni tra queste tre componenti dipende la "qualità" del funzionamento del sistema compless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 "attori" presenti sulla scena dell'aeroporto sono diversi, e di diversa natura, dalla Società di gestione agli Enti di Stato, alle società d’assistenza aeroportuale, ai Vettori, alle aziende private, agli operatori del commer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vettore ha la propria codifica bi/tri letterale con la quale viene identificato (AZ,IG,LH, B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C85-B360-4BDE-A84A-89A325B2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AF9-21C6-4A46-916F-5A8D2159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C1E-32A3-416D-A490-664813D6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612-66F3-49A0-A671-8D5BBF88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3F4B-B6A1-4100-A298-DEBDAE8B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EBC0-084A-4751-A28C-91284113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2743-C1A0-49BA-A332-A6966E1A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74FE-0DB3-4BCF-8D90-2EBD5E9E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7184-5FA5-4F2C-BCE0-055B1380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7E10-299B-4F86-B876-D7992E88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DD22-28A8-45C7-AFCB-CC23D504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45E-177B-4770-9289-D5EB3600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367B-5948-40FA-B71A-D3290B0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CAA3-27D3-4359-96DE-8F15C99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C3BE-DCB8-48BB-8627-04F25D0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9172-5180-411D-AA35-258E60B3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C13-39BE-42D1-B86F-BD58EEAE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5AE-C3E4-4D50-A548-3B7F81D7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C47-1A25-4FBF-A0AD-8979951D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BF5-8967-48E0-A7FB-718FE85F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4A7-70A5-4777-AFDD-461B282D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EB2-A1EF-4F3C-AB07-411B91D5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501-6CB4-4CB4-BB4F-E2F1A0C8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0B4-C8A3-443D-9159-9EAF3B75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812-3ED4-42F0-A703-A4F429960C99}" type="slidenum">
              <a:rPr b="0" lang="it-I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D0C1-60E8-4918-A38D-AEB5FB4C9C30}" type="slidenum">
              <a:rPr b="0" lang="it-I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frm=1&amp;source=images&amp;cd=&amp;cad=rja&amp;docid=xVR0w0AvZGiU0M&amp;tbnid=Trp8UnWigdnHkM:&amp;ved=0CAUQjRw&amp;url=http%3A%2F%2Fwww.cargolaw.com%2F1999nightmare.html&amp;ei=-gWCUrfXGYa40QWM7oGgAg&amp;bvm=bv.56146854,d.d2k&amp;psig=AFQjCNHvM1OPvtf462OZMwxG3O9xx-kZ3g&amp;ust=138433931431011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frm=1&amp;source=images&amp;cd=&amp;cad=rja&amp;docid=u0MF1JCwqNqH_M&amp;tbnid=K2xucxt6N29oCM:&amp;ved=0CAUQjRw&amp;url=http%3A%2F%2Favsafetync.blogspot.com%2F2010%2F07%2Fground-operations-safety.html&amp;ei=UAaCUqzJDqev0QXwmIGYAg&amp;bvm=bv.56146854,d.d2k&amp;psig=AFQjCNFgpegvUnX0GOArWiMIiQ3EjnyA_w&amp;ust=138433938981846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268360" y="692280"/>
            <a:ext cx="466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GAERDYN S.p.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68360" y="692280"/>
            <a:ext cx="466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GAERDYN S.p.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16000" y="2997360"/>
            <a:ext cx="70581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età di Handling Aeroportu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79640" y="5229360"/>
            <a:ext cx="466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eroporto di Cagliari Elm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16000" y="2997360"/>
            <a:ext cx="70581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età di Handling Aeroportu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16000" y="2997360"/>
            <a:ext cx="70581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età di Handling Aeroportu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56000" y="260280"/>
            <a:ext cx="345600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76720" y="404640"/>
            <a:ext cx="1952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Hand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1700280"/>
            <a:ext cx="3600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1628640"/>
            <a:ext cx="3816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4640" y="1844640"/>
            <a:ext cx="2384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rea Passegge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435640" y="1773360"/>
            <a:ext cx="23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rea Ram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17" name=""/>
          <p:cNvSpPr/>
          <p:nvPr/>
        </p:nvSpPr>
        <p:spPr>
          <a:xfrm>
            <a:off x="605160" y="2948040"/>
            <a:ext cx="315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igliet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ccettazione Passegge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ccettazione Bagag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mbarc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sistenza Bagagli smarr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8120" y="2948040"/>
            <a:ext cx="428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sistenza Aeromobile in arr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sistenza Equipagg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arico e Scarico bagag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Pulizia aeromob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sistenza operazioni di riforn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Operazioni di bilanci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Operazioni di preparazione al dec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476280"/>
            <a:ext cx="863640" cy="936720"/>
          </a:xfrm>
          <a:custGeom>
            <a:avLst/>
            <a:gdLst>
              <a:gd name="textAreaLeft" fmla="*/ 0 w 863640"/>
              <a:gd name="textAreaRight" fmla="*/ 864000 w 863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372360" y="476280"/>
            <a:ext cx="792000" cy="863640"/>
          </a:xfrm>
          <a:custGeom>
            <a:avLst/>
            <a:gdLst>
              <a:gd name="textAreaLeft" fmla="*/ 360 w 792000"/>
              <a:gd name="textAreaRight" fmla="*/ 792720 w 792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132000" y="2781360"/>
            <a:ext cx="2664000" cy="1008000"/>
          </a:xfrm>
          <a:prstGeom prst="ellipse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64000" y="2997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ocietà di Handling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11280" y="1052640"/>
            <a:ext cx="1123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k-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92360" y="981000"/>
            <a:ext cx="1994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barc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88000" y="981000"/>
            <a:ext cx="20844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ntragg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659640" y="5084640"/>
            <a:ext cx="23018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tività di ram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16360" y="5661000"/>
            <a:ext cx="93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5445000"/>
            <a:ext cx="194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ti Aeroportual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4005360"/>
            <a:ext cx="172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e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2637000"/>
            <a:ext cx="172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quipagg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093080" y="285264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ssegge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860640"/>
            <a:ext cx="576360" cy="172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24360" y="3500280"/>
            <a:ext cx="165600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508720" y="1484280"/>
            <a:ext cx="180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00720" y="155736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835280" y="1628280"/>
            <a:ext cx="172872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2124000" y="2924280"/>
            <a:ext cx="935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560" y="3573360"/>
            <a:ext cx="12970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10920" y="3789360"/>
            <a:ext cx="151308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64000" y="2997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ocietà di Handling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71360"/>
            <a:ext cx="856908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55640" y="3068640"/>
            <a:ext cx="74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........qualcuno sa dirmi che cos'è un aeroporto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5640" y="3068640"/>
            <a:ext cx="74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........qualcuno sa dirmi che cos'è un aeroporto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l sistema aeroportua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os’è un aeroporto? sistema sociale complesso, in cui una pluralità d'individui vivono ed interagiscono tra loro. La finalità di questo sistema, è quella di erogare servizi a coloro che ne sono gli utilizzatori, (i passeggeri e le compagnie aeree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'aeroporto è inoltre inserito in un sistema sociale più ampio: il territorio, al qual è legato organicamente da rapporti e scambi di varia natur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l sistema aeroportua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6265800" cy="1222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71640" y="3284640"/>
            <a:ext cx="3600720" cy="136836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03640" y="364500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eropor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242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ti di Sta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75640" y="2278080"/>
            <a:ext cx="187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pagnie Aer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093080" y="5300640"/>
            <a:ext cx="187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Handl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9280" y="5084640"/>
            <a:ext cx="237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età di gest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907640" y="2852280"/>
            <a:ext cx="1008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84720" y="2924280"/>
            <a:ext cx="1224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4508640"/>
            <a:ext cx="1081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834920" y="4508640"/>
            <a:ext cx="1152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419640" y="5516640"/>
            <a:ext cx="230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vizi va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4797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l sistema aeroportuale: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Le Compagnie Aere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ppresentano i soggetti principali per i quali il sistema fornisce i serviz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o a qualche anno fa svolgevano la loro attività in regime di autoproduzi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ggi con la nascita delle società di assistenza a terra, operanti in quasi tutti gli aeroporti, le compagnie aeree hanno focalizzato il loro business nel solo trasporto di passeggeri e merc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l sistema aeroportuale: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Società di Gesti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e per gestire gli aeroporti in regime di concessione, curano in particolar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’erogazione dei servizi centralizzati rivolti a passeggeri, merci e aeromobili, mediante il coordinamento delle attività di scalo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progettazione, la realizzazione e la manutenzione delle strutture, degli impianti e delle aree aeroportuali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gestione e lo sviluppo delle attività commerciali presenti in aerostazione, direttamente o tramite terz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Il sistema aeroportuale: 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Handl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i di assistenza a terra altamente specializzati, cui le compagnie aeree affidano, in tutto o in parte, l’espletamento dei servizi in nome e per proprio cont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oste da personale altamente qualificato e basate sulla flessibilità degli  orari di lavoro e delle mansioni, sono fondamentali per lo sviluppo e la produttività di ogni singolo vettore assisti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16360" y="981000"/>
            <a:ext cx="3816360" cy="1224000"/>
          </a:xfrm>
          <a:prstGeom prst="ellipse">
            <a:avLst/>
          </a:prstGeom>
          <a:solidFill>
            <a:srgbClr val="00ffff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3500280"/>
            <a:ext cx="302436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61080" y="3645000"/>
            <a:ext cx="3382920" cy="1512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4000" y="1268280"/>
            <a:ext cx="2638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ndl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1280" y="393372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tto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84720" y="4076640"/>
            <a:ext cx="26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ssegge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79280" y="2133720"/>
            <a:ext cx="1871640" cy="1295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276640"/>
            <a:ext cx="1800000" cy="1296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4292640"/>
            <a:ext cx="2592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30760" y="2144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95120" y="250524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70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132372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740720" y="5237280"/>
            <a:ext cx="1152360" cy="981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56000" y="357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619280" y="90792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????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08280"/>
            <a:ext cx="820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Quali sono secondo voi i servizi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he svolge la società di Handling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835280" y="530064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????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8:44:20Z</dcterms:created>
  <dc:creator>martinomoreddu</dc:creator>
  <dc:description/>
  <dc:language>en-US</dc:language>
  <cp:lastModifiedBy>Caturegli</cp:lastModifiedBy>
  <dcterms:modified xsi:type="dcterms:W3CDTF">2014-01-13T09:29:45Z</dcterms:modified>
  <cp:revision>7</cp:revision>
  <dc:subject/>
  <dc:title>Il sistema aeroportuale</dc:title>
</cp:coreProperties>
</file>