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7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444B3-7499-4C4F-9BE3-26141356676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’ importante ricordare che la professionalità dell’addetto di rampa si misura con la capacità di coordinar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otto bordo il lavoro di tutti gli operatori, tenendo conto che ognuno di loro ha le proprie esigenze e necessità che sono, per loro, sicuramente prioritar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l sistema produt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'obiettivo comune a tutti gli operatori aeroportuali, quello in pratica di offrire servizi ai passeggeri, è raggiunto attraverso l'interazione di un insieme d’elementi in stretto rapporto tra loro: le risorse umane, i processi di produzione dei servizi, le norme di coordinam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ll'efficienza e dall'efficacia delle interazioni tra queste tre componenti dipende la "qualità" del funzionamento del sistema complessi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i "attori" presenti sulla scena dell'aeroporto sono diversi, e di diversa natura, dalla Società di gestione agli Enti di Stato, alle società d’assistenza aeroportuale, ai Vettori, alle aziende private, agli operatori del commer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gni vettore ha la propria codifica bi/tri letterale con la quale viene identificato (AZ,IG,LH, B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F833-AAD2-4F2D-9A46-F2D53FBE5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3BED-9172-4A7C-BD03-C822DADE2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7B09-D5C9-4D7E-B773-DF6653961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CCDD-8648-4581-977E-967040EE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624E7-E01C-4210-B5EB-D8544116A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44CED-4C6B-4998-AF8A-38EEC2BF4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E4B9-9D77-4404-A9FD-A06084C5F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FA288-CF04-4D57-9397-FE993185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D8FC5-50F7-4566-A53E-FBF1609D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0054-2A03-4051-9958-63FDD87F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C6BC7-B865-425C-BA1E-DAAF7AD20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A716-6896-42B3-94A6-F8D879F9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200C9-0CDB-4E6F-AEE1-B5D73550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6D738-27B4-43D4-BE3A-740903C38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7383F-A780-4E2D-B873-67DF2345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15602-E56E-49CA-A5D7-E7AF78C38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35B38-EC57-45C0-AC05-455520E7C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1780-089C-4F39-A5D9-9AF63DB7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07CB-379E-49A2-8000-204A1148D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D004-8E95-4011-8E2C-A7DBEC8D9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0AD3-14AE-4FFD-BDDE-E82483773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E166-94BE-4B4E-941D-B25A1FA9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8DCA-4FA7-42ED-85A1-F7CF41FE7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FBBE-9B8F-4C00-AE6D-2EB00263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3B2C-0488-4F26-8CFC-E11EC380B43F}" type="slidenum">
              <a:rPr b="0" lang="it-IT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3A44-B7C7-4502-8D5D-6E5043314415}" type="slidenum">
              <a:rPr b="0" lang="it-IT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frm=1&amp;source=images&amp;cd=&amp;cad=rja&amp;docid=xVR0w0AvZGiU0M&amp;tbnid=Trp8UnWigdnHkM:&amp;ved=0CAUQjRw&amp;url=http%3A%2F%2Fwww.cargolaw.com%2F1999nightmare.html&amp;ei=-gWCUrfXGYa40QWM7oGgAg&amp;bvm=bv.56146854,d.d2k&amp;psig=AFQjCNHvM1OPvtf462OZMwxG3O9xx-kZ3g&amp;ust=1384339314310111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google.it/url?sa=i&amp;rct=j&amp;q=&amp;esrc=s&amp;frm=1&amp;source=images&amp;cd=&amp;cad=rja&amp;docid=u0MF1JCwqNqH_M&amp;tbnid=K2xucxt6N29oCM:&amp;ved=0CAUQjRw&amp;url=http%3A%2F%2Favsafetync.blogspot.com%2F2010%2F07%2Fground-operations-safety.html&amp;ei=UAaCUqzJDqev0QXwmIGYAg&amp;bvm=bv.56146854,d.d2k&amp;psig=AFQjCNFgpegvUnX0GOArWiMIiQ3EjnyA_w&amp;ust=1384339389818461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2268360" y="692280"/>
            <a:ext cx="4667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OGAERDYN S.p.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2268360" y="692280"/>
            <a:ext cx="4667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OGAERDYN S.p.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116000" y="2997360"/>
            <a:ext cx="70581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ocietà di Handling Aeroportu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979640" y="5229360"/>
            <a:ext cx="4667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eroporto di Cagliari Elma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16000" y="2997360"/>
            <a:ext cx="70581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ocietà di Handling Aeroportu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116000" y="2997360"/>
            <a:ext cx="705816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ocietà di Handling Aeroportual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2556000" y="260280"/>
            <a:ext cx="3456000" cy="936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276720" y="404640"/>
            <a:ext cx="19526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Handle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213" name=""/>
          <p:cNvSpPr/>
          <p:nvPr/>
        </p:nvSpPr>
        <p:spPr>
          <a:xfrm>
            <a:off x="179280" y="1700280"/>
            <a:ext cx="3600720" cy="792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72000" y="1628640"/>
            <a:ext cx="3816360" cy="79236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74640" y="1844640"/>
            <a:ext cx="2384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Area Passegger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435640" y="1773360"/>
            <a:ext cx="2384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Area Ramp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217" name=""/>
          <p:cNvSpPr/>
          <p:nvPr/>
        </p:nvSpPr>
        <p:spPr>
          <a:xfrm>
            <a:off x="605160" y="2948040"/>
            <a:ext cx="3155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Biglietteri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Accettazione Passegger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Accettazione Bagag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Imbarch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Assistenza Bagagli smarrit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8120" y="2948040"/>
            <a:ext cx="4280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Assistenza Aeromobile in arriv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Assistenza Equipagg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Carico e Scarico bagag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Pulizia aeromobil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Assistenza operazioni di riforni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Operazioni di bilanciamen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ookman Old Style"/>
              </a:rPr>
              <a:t>Operazioni di preparazione al deco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547640" y="476280"/>
            <a:ext cx="863640" cy="936720"/>
          </a:xfrm>
          <a:custGeom>
            <a:avLst/>
            <a:gdLst>
              <a:gd name="textAreaLeft" fmla="*/ 0 w 863640"/>
              <a:gd name="textAreaRight" fmla="*/ 864000 w 86364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6372360" y="476280"/>
            <a:ext cx="792000" cy="863640"/>
          </a:xfrm>
          <a:custGeom>
            <a:avLst/>
            <a:gdLst>
              <a:gd name="textAreaLeft" fmla="*/ 360 w 792000"/>
              <a:gd name="textAreaRight" fmla="*/ 792720 w 7920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3132000" y="2781360"/>
            <a:ext cx="2664000" cy="1008000"/>
          </a:xfrm>
          <a:prstGeom prst="ellipse">
            <a:avLst/>
          </a:prstGeom>
          <a:solidFill>
            <a:srgbClr val="003b7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3564000" y="299736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ccff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ocietà di Handling</a:t>
            </a:r>
            <a:endParaRPr b="0" lang="en-US" sz="1800" spc="1" strike="noStrike">
              <a:ln w="9360">
                <a:solidFill>
                  <a:srgbClr val="66ccff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11280" y="1052640"/>
            <a:ext cx="11239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k-i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3492360" y="981000"/>
            <a:ext cx="199404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mbarch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588000" y="981000"/>
            <a:ext cx="208440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entraggi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659640" y="5084640"/>
            <a:ext cx="23018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ttività di ramp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716360" y="5661000"/>
            <a:ext cx="935280" cy="4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Fue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24000" y="5445000"/>
            <a:ext cx="1944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ti Aeroportual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50920" y="4005360"/>
            <a:ext cx="1728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ater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24000" y="2637000"/>
            <a:ext cx="1726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quipagg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7093080" y="2852640"/>
            <a:ext cx="1584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ssegger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32" name=""/>
          <p:cNvSpPr/>
          <p:nvPr/>
        </p:nvSpPr>
        <p:spPr>
          <a:xfrm>
            <a:off x="4572000" y="3860640"/>
            <a:ext cx="576360" cy="1729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724360" y="3500280"/>
            <a:ext cx="1656000" cy="1513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796000" y="3213000"/>
            <a:ext cx="115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5508720" y="1484280"/>
            <a:ext cx="180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500720" y="1557360"/>
            <a:ext cx="0" cy="1224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1835280" y="1628280"/>
            <a:ext cx="172872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 flipV="1">
            <a:off x="2124000" y="2924280"/>
            <a:ext cx="935280" cy="288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050560" y="3573360"/>
            <a:ext cx="1297080" cy="647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410920" y="3789360"/>
            <a:ext cx="151308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564000" y="2997360"/>
            <a:ext cx="187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ccff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Società di Handling</a:t>
            </a:r>
            <a:endParaRPr b="0" lang="en-US" sz="1800" spc="1" strike="noStrike">
              <a:ln w="9360">
                <a:solidFill>
                  <a:srgbClr val="66ccff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0920" y="171360"/>
            <a:ext cx="8569080" cy="63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5520" y="46080"/>
            <a:ext cx="89884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324000" y="620640"/>
            <a:ext cx="856908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755640" y="3068640"/>
            <a:ext cx="748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........qualcuno sa dirmi che cos'è un aeroporto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755640" y="3068640"/>
            <a:ext cx="748836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man Old Style"/>
              </a:rPr>
              <a:t>........qualcuno sa dirmi che cos'è un aeroporto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Il sistema aeroportual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50560" y="1699920"/>
            <a:ext cx="8713800" cy="51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Cos’è un aeroporto? sistema sociale complesso, in cui una pluralità d'individui vivono ed interagiscono tra loro. La finalità di questo sistema, è quella di erogare servizi a coloro che ne sono gli utilizzatori, (i passeggeri e le compagnie aeree)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'aeroporto è inoltre inserito in un sistema sociale più ampio: il territorio, al qual è legato organicamente da rapporti e scambi di varia natur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Il sistema aeroportuale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619280" y="1197000"/>
            <a:ext cx="6265800" cy="12222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2771640" y="3284640"/>
            <a:ext cx="3600720" cy="1368360"/>
          </a:xfrm>
          <a:prstGeom prst="ellipse">
            <a:avLst/>
          </a:prstGeom>
          <a:noFill/>
          <a:ln w="507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203640" y="364500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Aeropor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4000" y="2421000"/>
            <a:ext cx="201600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ti di Sta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75640" y="2278080"/>
            <a:ext cx="1873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Compagnie Aere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7093080" y="5300640"/>
            <a:ext cx="187164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Handl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79280" y="5084640"/>
            <a:ext cx="237672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ocietà di gestion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1907640" y="2852280"/>
            <a:ext cx="1008360" cy="576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6084720" y="2924280"/>
            <a:ext cx="122400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227640" y="4508640"/>
            <a:ext cx="1081080" cy="57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834920" y="4508640"/>
            <a:ext cx="115236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3419640" y="5516640"/>
            <a:ext cx="230472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Servizi var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86" name=""/>
          <p:cNvSpPr/>
          <p:nvPr/>
        </p:nvSpPr>
        <p:spPr>
          <a:xfrm>
            <a:off x="4500720" y="4797360"/>
            <a:ext cx="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l sistema aeroportuale: 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Le Compagnie Aere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1916280"/>
            <a:ext cx="91440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appresentano i soggetti principali per i quali il sistema fornisce i serviz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no a qualche anno fa svolgevano la loro attività in regime di autoproduzion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ggi con la nascita delle società di assistenza a terra, operanti in quasi tutti gli aeroporti, le compagnie aeree hanno focalizzato il loro business nel solo trasporto di passeggeri e merci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Il sistema aeroportuale: </a:t>
            </a:r>
            <a:br>
              <a:rPr sz="4000"/>
            </a:br>
            <a:r>
              <a:rPr b="1" lang="en-US" sz="4000" spc="-1" strike="noStrike">
                <a:solidFill>
                  <a:srgbClr val="ccecff"/>
                </a:solidFill>
                <a:latin typeface="Arial"/>
              </a:rPr>
              <a:t>Società di Gestione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ate per gestire gli aeroporti in regime di concessione, curano in particolar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’erogazione dei servizi centralizzati rivolti a passeggeri, merci e aeromobili, mediante il coordinamento delle attività di scalo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 progettazione, la realizzazione e la manutenzione delle strutture, degli impianti e delle aree aeroportuali;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 gestione e lo sviluppo delle attività commerciali presenti in aerostazione, direttamente o tramite terzi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Il sistema aeroportuale: </a:t>
            </a:r>
            <a:br>
              <a:rPr sz="4000"/>
            </a:br>
            <a:r>
              <a:rPr b="1" lang="it-IT" sz="4000" spc="-1" strike="noStrike">
                <a:solidFill>
                  <a:srgbClr val="ccecff"/>
                </a:solidFill>
                <a:latin typeface="Arial"/>
              </a:rPr>
              <a:t>Handler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nti di assistenza a terra altamente specializzati, cui le compagnie aeree affidano, in tutto o in parte, l’espletamento dei servizi in nome e per proprio conto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poste da personale altamente qualificato e basate sulla flessibilità degli  orari di lavoro e delle mansioni, sono fondamentali per lo sviluppo e la produttività di ogni singolo vettore assisti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916360" y="981000"/>
            <a:ext cx="3816360" cy="1224000"/>
          </a:xfrm>
          <a:prstGeom prst="ellipse">
            <a:avLst/>
          </a:prstGeom>
          <a:solidFill>
            <a:srgbClr val="00ffff"/>
          </a:solidFill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3500280"/>
            <a:ext cx="3024360" cy="151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61080" y="3645000"/>
            <a:ext cx="3382920" cy="15127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3564000" y="1268280"/>
            <a:ext cx="2638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Handler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11280" y="3933720"/>
            <a:ext cx="2158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Vettor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084720" y="4076640"/>
            <a:ext cx="266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Passegger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1979280" y="2133720"/>
            <a:ext cx="1871640" cy="129528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51640" y="2276640"/>
            <a:ext cx="1800000" cy="129672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4292640"/>
            <a:ext cx="2592360" cy="0"/>
          </a:xfrm>
          <a:prstGeom prst="line">
            <a:avLst/>
          </a:prstGeom>
          <a:ln w="507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30760" y="214488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495120" y="250524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70760" y="36576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Tahoma"/>
              </a:rPr>
              <a:t>clie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50920" y="5157720"/>
            <a:ext cx="1323720" cy="1295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7740720" y="5237280"/>
            <a:ext cx="1152360" cy="9810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556000" y="357336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619280" y="907920"/>
            <a:ext cx="540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???????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68360" y="2708280"/>
            <a:ext cx="820908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Quali sono secondo voi i servizi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che svolge la società di Handling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1835280" y="5300640"/>
            <a:ext cx="540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???????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08:44:20Z</dcterms:created>
  <dc:creator>martinomoreddu</dc:creator>
  <dc:description/>
  <dc:language>en-US</dc:language>
  <cp:lastModifiedBy>Caturegli</cp:lastModifiedBy>
  <dcterms:modified xsi:type="dcterms:W3CDTF">2014-01-13T09:29:45Z</dcterms:modified>
  <cp:revision>7</cp:revision>
  <dc:subject/>
  <dc:title>Il sistema aeroportuale</dc:title>
</cp:coreProperties>
</file>