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67A-E10A-4A03-80AE-04532E4A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34E-8106-4299-86C7-64283587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FF5-C7F8-4B1C-909A-21961C20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88D-E713-451A-83E5-72209945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845-D7CB-423E-AF44-D346080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703-BDE7-464D-82F3-E3895E4F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F0C-2F6F-4013-A8BB-AB98F219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10B-E812-490D-9386-2C2EAD69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555-F232-4E90-B4BC-625D127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709-2B69-489B-99C6-A3CAF3F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7A7-BA17-4BB8-A2F7-ED5B33B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B68-949A-40DC-ACEC-A0F7E27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7CE-F4F1-40D7-A2B1-CADC7936C4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33"/>
                </a:solidFill>
                <a:latin typeface="Arial"/>
              </a:rPr>
              <a:t>Aéroport: la logistique des marchand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6868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14300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’aéro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’aéroport constitue un élément d’importance fondamentale en tant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entre d’échange entre mode de transport routier et système aér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’éroport est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un point de raccordement entre le moyen terrestre (réseau routier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réseau ferroviaire) et le système aé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un centre de services, car il fourni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es services nécessaires aux passagers et aux marchandises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documentation d’embarquement/débarquement, contrôle des pass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et des marchand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143000"/>
            <a:ext cx="8610480" cy="5181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e transport aérien: réglementation et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e transport aérien est reglé p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a Convention di Varsovie 1929 (et succéssives modifications du protocole de l'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19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a Convention de Montrea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réglementations determinées par l’ IATA (International Air Transport Assoc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es conventions et réglementations, pour être applicable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ontraignantes, doivent être specifiquement indiquées sur l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de trans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066680"/>
            <a:ext cx="8610480" cy="47732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IR WAYBILL (AW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atteste l‘existance du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contrat de transport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et répresente le bullettin d’expéd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certifié d’assurance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pour les dommages causés aux marchandises transpor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facture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pour le paiement des frais de transport (indique le frêt aérie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document douanier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, car il doit être presenté aux autorités douaniè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il est émis en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3 copies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(copie transporteur/copie expéditeur/copie destinatair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2025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20254b"/>
                </a:solidFill>
                <a:latin typeface="Arial"/>
                <a:ea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n’est pas negotiable: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le destinataire des marchandises ne doit pas obligatoirement posseder le document afin de pouvoir retirer la marchand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doit toujours voyager avec les marchandises </a:t>
            </a:r>
            <a:r>
              <a:rPr b="0" lang="it-IT" sz="17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“à bord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n’est pas representatif: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permet de disposer de la marchandise même si on ne possède pas le titre original. Il suffit de demontrer qu’on est les destinataire de la marchand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66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1066680"/>
            <a:ext cx="8610480" cy="37213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HOUSE AIRWAYBILL (HAW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l a le mêmes caractéristique qu’un AW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l s’agit du document emis par le groupagiste (un expeditionneur-transporteur qui rassemble des petites quantités de marchandise provenant de différents expéditeurs et directes vers le même aéroport de dest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e groupagiste émit un HAWB pour chaque expédition faisant partie du même grou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  <a:ea typeface="Arial"/>
              </a:rPr>
              <a:t>dans les HAWB l’expéditeur sera le groupagiste, qui devient le transporteur contractuel, tandis que le destinataire sera son correspondant à dest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066680"/>
            <a:ext cx="8610480" cy="56955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es marchand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Les marchandises peuvent être transporté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- par des avions dediés au transport des marchandises </a:t>
            </a:r>
            <a:r>
              <a:rPr b="0" lang="it-IT" sz="19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Carg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par des avions passag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Différentes tipologies des marchandises transporté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marchandises pour le fonctionnement de l’aéro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ièces de rechange (pneus, sièges, moteurs et leurs parties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marchandises objet d’expédition parmi entreprises et les particu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medicaments, échantillons biologiques, 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resse, produit postaux et banc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cadav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anim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fl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al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roduits péris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066680"/>
            <a:ext cx="8458200" cy="5001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a chaîne logi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Arial"/>
              </a:rPr>
              <a:t>marchandises en 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présentation de la liste des marchandises en 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charge des marchandises de l’avion (à l’intérieur du circuit douan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ntroduction en dépô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doua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hargement sur camion pour la livr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Arial"/>
              </a:rPr>
              <a:t>marchandises en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ntroduction en dépô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ontrôle des marchandises aux rayon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douanement à l’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présentation de la liste des marchand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hargement des marchandises sur l’av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1488960"/>
            <a:ext cx="776772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flipH="1" rot="10800000">
            <a:off x="0" y="5152680"/>
            <a:ext cx="9144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1:26:21Z</dcterms:created>
  <dc:creator> p</dc:creator>
  <dc:description/>
  <dc:language>en-US</dc:language>
  <cp:lastModifiedBy>Caturegli</cp:lastModifiedBy>
  <dcterms:modified xsi:type="dcterms:W3CDTF">2014-01-13T09:29:15Z</dcterms:modified>
  <cp:revision>44</cp:revision>
  <dc:subject/>
  <dc:title>Presentazione di PowerPoint</dc:title>
</cp:coreProperties>
</file>