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E833-7740-4739-8DB3-75C26DAB8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D70-B39B-4700-8CA6-26BBBAD5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6F1AC-B615-4DAB-80E4-45DE4A5C4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1CCE-02E7-46E4-82BD-7D38176C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D133-D5F8-4628-89D7-5AEC321D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9AAD-AB40-45F1-AD65-C3171933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392F-F6CA-44F4-8493-43DD2BC97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507D-E741-4131-98D0-F99ADFF53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D61D-828C-47AE-9CA4-FD40043B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9E7C-7660-4FCD-A5C5-46A652C4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C901-2608-455E-BDB8-E00E5CBD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C23-75A8-4575-A10C-802B3BFC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DAF7-A2DD-49ED-98C9-1A34C838D7B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04920" y="15238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333333"/>
                </a:solidFill>
                <a:latin typeface="Arial"/>
              </a:rPr>
              <a:t>Aéroport: la logistique des marchand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28600" y="2971800"/>
            <a:ext cx="8686800" cy="38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143000"/>
            <a:ext cx="861048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’aéro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’aéroport constitue un élément d’importance fondamentale en tant 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centre d’échange entre mode de transport routier et système aérie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’éroport est donc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un point de raccordement entre le moyen terrestre (réseau routier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réseau ferroviaire) et le système aéri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un centre de services, car il fourni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es services nécessaires aux passagers et aux marchandises, 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documentation d’embarquement/débarquement, contrôle des passag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et des marchandi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28600" y="1143000"/>
            <a:ext cx="8610480" cy="5181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e transport aérien: réglementation et doc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Le transport aérien est reglé pa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la Convention di Varsovie 1929 (et succéssives modifications du protocole de l'A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195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la Convention de Montreal 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réglementations determinées par l’ IATA (International Air Transport Associ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Ces conventions et réglementations, pour être applicable 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contraignantes, doivent être specifiquement indiquées sur le docu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de transp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28600" y="1066680"/>
            <a:ext cx="8610480" cy="477324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IR WAYBILL (AW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atteste l‘existance du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contrat de transport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et répresente le bullettin d’expédition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certifié d’assurance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pour les dommages causés aux marchandises transporté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facture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pour le paiement des frais de transport (indique le frêt aérien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document douanier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, car il doit être presenté aux autorités douanièr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il est émis en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</a:rPr>
              <a:t>3 copies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</a:rPr>
              <a:t> (copie transporteur/copie expéditeur/copie destinataire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2025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700" spc="-1" strike="noStrike">
                <a:solidFill>
                  <a:srgbClr val="20254b"/>
                </a:solidFill>
                <a:latin typeface="Arial"/>
                <a:ea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il n’est pas negotiable: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le destinataire des marchandises ne doit pas obligatoirement posseder le document afin de pouvoir retirer la marchand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doit toujours voyager avec les marchandises </a:t>
            </a:r>
            <a:r>
              <a:rPr b="0" lang="it-IT" sz="17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 “à bord”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1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il n’est pas representatif: </a:t>
            </a:r>
            <a:r>
              <a:rPr b="0" lang="it-IT" sz="1700" spc="-1" strike="noStrike">
                <a:solidFill>
                  <a:srgbClr val="333333"/>
                </a:solidFill>
                <a:latin typeface="Arial"/>
                <a:ea typeface="Arial"/>
              </a:rPr>
              <a:t>il permet de disposer de la marchandise même si on ne possède pas le titre original. Il suffit de demontrer qu’on est les destinataire de la marchandis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666880" y="1066680"/>
            <a:ext cx="3946680" cy="55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228600" y="1066680"/>
            <a:ext cx="8610480" cy="372132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HOUSE AIRWAYBILL (HAWB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l a le mêmes caractéristique qu’un AWB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l s’agit du document emis par le groupagiste (un expeditionneur-transporteur qui rassemble des petites quantités de marchandise provenant de différents expéditeurs et directes vers le même aéroport de destin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le groupagiste émit un HAWB pour chaque expédition faisant partie du même grou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  <a:ea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  <a:ea typeface="Arial"/>
              </a:rPr>
              <a:t>dans les HAWB l’expéditeur sera le groupagiste, qui devient le transporteur contractuel, tandis que le destinataire sera son correspondant à destin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920" y="1066680"/>
            <a:ext cx="8610480" cy="569556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es marchandi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Les marchandises peuvent être transporté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- par des avions dediés au transport des marchandises </a:t>
            </a:r>
            <a:r>
              <a:rPr b="0" lang="it-IT" sz="1900" spc="-1" strike="noStrike">
                <a:solidFill>
                  <a:srgbClr val="333333"/>
                </a:solidFill>
                <a:latin typeface="Wingdings"/>
                <a:ea typeface="Wingdings"/>
              </a:rPr>
              <a:t>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Carg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par des avions passag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Différentes tipologies des marchandises transporté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marchandises pour le fonctionnement de l’aéro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Pièces de rechange (pneus, sièges, moteurs et leurs parties etc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marchandises objet d’expédition parmi entreprises et les particulier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medicaments, échantillons biologiques, plas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presse, produit postaux et bancai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cadav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animau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fleu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ali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produits périssa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80880" y="1066680"/>
            <a:ext cx="8458200" cy="5001480"/>
          </a:xfrm>
          <a:prstGeom prst="rect">
            <a:avLst/>
          </a:prstGeom>
          <a:solidFill>
            <a:srgbClr val="f9f9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La chaîne logis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Arial"/>
              </a:rPr>
              <a:t>marchandises en im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présentation de la liste des marchandises en entré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décharge des marchandises de l’avion (à l’intérieur du circuit douan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ntroduction en dépô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dédouan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chargement sur camion pour la livrais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Arial"/>
              </a:rPr>
              <a:t>marchandises en ex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introduction en dépô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contrôle des marchandises aux rayons 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stock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dédouanement à l’ex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présentation de la liste des marchandi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6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●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chargement des marchandises sur l’av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004760" y="2986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carta-plasped_head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3652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1371600" y="1488960"/>
            <a:ext cx="7767720" cy="1025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 flipH="1" rot="10800000">
            <a:off x="0" y="5152680"/>
            <a:ext cx="9144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1:26:21Z</dcterms:created>
  <dc:creator> p</dc:creator>
  <dc:description/>
  <dc:language>en-US</dc:language>
  <cp:lastModifiedBy>Caturegli</cp:lastModifiedBy>
  <dcterms:modified xsi:type="dcterms:W3CDTF">2014-01-13T09:29:15Z</dcterms:modified>
  <cp:revision>44</cp:revision>
  <dc:subject/>
  <dc:title>Presentazione di PowerPoint</dc:title>
</cp:coreProperties>
</file>