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B2E8-FBDA-43C0-B759-C455C9BD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A561-F809-4AD4-9B4C-FB08B833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F393-B8FB-466F-B740-ACC48A6D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F7F2-D4B3-408F-BFC1-F264E6EE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C6EB-634E-4A30-8FDA-C259A4B1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3B2-EE04-43E0-AA8B-DD354A55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219D-75B4-428C-9F1D-5F684F2A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0716-8422-45CA-9903-B0FA5393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0EBA-710C-4C54-A079-9C0BEC95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E481-B9FC-4A95-9FF2-64F0ACEE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6BD4-84C8-4E83-BD01-C3BEAA36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89D-34BC-4442-97D4-2A36C39F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845A-39C1-4B1D-BEDA-463B7B7252F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GIONE AUTONOMA DELLA SARDEGNA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SSESSORATO DEL LAVORO, FORMAZIONE PROFESSIONALE,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OPERAZIONE E SICUREZZA SOCIALE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RVIZIO DELLA GOVERNANCE DELLA FORMAZIONE PROFESSIONAL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’Avviso Maciste e altri interventi della Regione Sardeg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1000080" cy="649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"/>
          <p:cNvPicPr/>
          <p:nvPr/>
        </p:nvPicPr>
        <p:blipFill>
          <a:blip r:embed="rId2"/>
          <a:stretch/>
        </p:blipFill>
        <p:spPr>
          <a:xfrm>
            <a:off x="6948360" y="549360"/>
            <a:ext cx="1152720" cy="799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" descr=""/>
          <p:cNvPicPr/>
          <p:nvPr/>
        </p:nvPicPr>
        <p:blipFill>
          <a:blip r:embed="rId3"/>
          <a:stretch/>
        </p:blipFill>
        <p:spPr>
          <a:xfrm>
            <a:off x="3348000" y="620640"/>
            <a:ext cx="2160720" cy="863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villasimius_sardegna"/>
          <p:cNvPicPr/>
          <p:nvPr/>
        </p:nvPicPr>
        <p:blipFill>
          <a:blip r:embed="rId4"/>
          <a:stretch/>
        </p:blipFill>
        <p:spPr>
          <a:xfrm>
            <a:off x="179280" y="5445000"/>
            <a:ext cx="16002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000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s typologies d’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. parcours de formation visant à obtenir la qualification professionnel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. recherches et étude de marché finalisés à la définition des perspectives d’entreprise liées au domaine de référen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. services d’orientations et bilan des compétenc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. parcours pour la création d’entreprise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villasimius_sardegna"/>
          <p:cNvPicPr/>
          <p:nvPr/>
        </p:nvPicPr>
        <p:blipFill>
          <a:blip r:embed="rId1"/>
          <a:stretch/>
        </p:blipFill>
        <p:spPr>
          <a:xfrm>
            <a:off x="179280" y="5445000"/>
            <a:ext cx="16002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ior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rea M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ntieristica navale e da diporto, Logistica portuale,Turismo del m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villasimius_sardegna"/>
          <p:cNvPicPr/>
          <p:nvPr/>
        </p:nvPicPr>
        <p:blipFill>
          <a:blip r:embed="rId1"/>
          <a:stretch/>
        </p:blipFill>
        <p:spPr>
          <a:xfrm>
            <a:off x="179280" y="5516640"/>
            <a:ext cx="160020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io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ecteur 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antiers navals e de plaisance, Logistique portuaire, Tourisme mari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villasimius_sardegna"/>
          <p:cNvPicPr/>
          <p:nvPr/>
        </p:nvPicPr>
        <p:blipFill>
          <a:blip r:embed="rId1"/>
          <a:stretch/>
        </p:blipFill>
        <p:spPr>
          <a:xfrm>
            <a:off x="179280" y="5516640"/>
            <a:ext cx="160020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riteri di valutazione dei proge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abbisogni rilevati, motivazioni dell’intervento, obiettivi generali dell'operazione, coerenza delle argomentazioni proposte e descrizione degli impatti attes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igure professionali relative agli ambiti professionali indicati quali prioritari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biettivi dell’attività formativa, coerenza e articolazione dei moduli del percorso formativ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erenza delle attività di stage rispetto all’intervento progettato, organismo ospitante e attività svolte nel corso dello stag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odalità di accertamento in ingresso dei requisiti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scrizione dettagliata delle azioni diverse dall’attività formativa e coerenza delle stesse con l’attività formativ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odalità e strumenti di monitoraggio dell’andamento dell’intervento in termini di efficacia ed efficienz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novatività e pari opportunità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guatezza delle risorse umane impeg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guatezza delle risorse logistiche e strumenta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villasimius_sardegna"/>
          <p:cNvPicPr/>
          <p:nvPr/>
        </p:nvPicPr>
        <p:blipFill>
          <a:blip r:embed="rId1"/>
          <a:stretch/>
        </p:blipFill>
        <p:spPr>
          <a:xfrm>
            <a:off x="179280" y="6237360"/>
            <a:ext cx="16002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28760" y="85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ritères évaluation des pro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esoins, motivation de l’intervention, objectifs générales, cohérence des argumentations proposées et description des impacts attendu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fils professionnels relatifs aux domaines identifiés comme prioritair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jectifs de l’activité formative, cohérence et articulation des modules du parcours de form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hérence des activités de stage par rapport à l’intervention planifié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odalité de control des qualité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cription des actions divers de l’activité formative et cohé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odalité et instruments de suivi et évaluation de l’action en termes d’efficacité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novation et égalité des chanc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équation des ressource humaines impliqué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équation des ressources logistique et instrumen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villasimius_sardegna"/>
          <p:cNvPicPr/>
          <p:nvPr/>
        </p:nvPicPr>
        <p:blipFill>
          <a:blip r:embed="rId1"/>
          <a:stretch/>
        </p:blipFill>
        <p:spPr>
          <a:xfrm>
            <a:off x="179280" y="6237360"/>
            <a:ext cx="16002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progetti finanzi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844640"/>
          <a:ext cx="8229600" cy="4456080"/>
        </p:xfrm>
        <a:graphic>
          <a:graphicData uri="http://schemas.openxmlformats.org/drawingml/2006/table">
            <a:tbl>
              <a:tblPr/>
              <a:tblGrid>
                <a:gridCol w="5072040"/>
                <a:gridCol w="3157560"/>
              </a:tblGrid>
              <a:tr h="466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nico del turismo del m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ncia di Carbonia - Iglesi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nico superiore per la gestione di porti turistic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o Torres, Sassar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nico per l'organizzazione e marketing del turismo sostenibile e accessibil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gliar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ccanico motorista nautico da dipor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lbia -Temp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tallatore - manutentore di impianti elettrici nautic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gliari -Orista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nico del turismo del dipor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simi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nico turistico del dipor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ncia di Carbonia - Iglesi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etto ai servizi di accoglienza ed assistenza ai viaggiatori (turisti diportisti con competenze di piccola manutenzione delle unità di diport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ncia di Cagliar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s projets finan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844640"/>
          <a:ext cx="8229600" cy="4456080"/>
        </p:xfrm>
        <a:graphic>
          <a:graphicData uri="http://schemas.openxmlformats.org/drawingml/2006/table">
            <a:tbl>
              <a:tblPr/>
              <a:tblGrid>
                <a:gridCol w="5072040"/>
                <a:gridCol w="3157560"/>
              </a:tblGrid>
              <a:tr h="466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ien du tourisme de la m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ncia di Carbonia - Iglesi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ien pour la gestion des ports touristiqu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o Torres, Sassar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ien pour l’organisation et marketing du tourisme durabl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gliar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canicien nautique de plaisanc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lbia -Temp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tallateur – agent de maintien des impiants électriques nautiqu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gliari -Orista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ien du tourisme de plaisa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simi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ien du tourisme de plaisa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ncia di Carbonia - Iglesi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éposé aux services d’accueille et assistance aux voyageurs (touristes de plaisance avec  compétences de petite manutention des unités de plaisance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ncia di Cagliar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vviso “Gente di ma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Regione Sardegna ha sviluppato azioni che consentono di incrementare l’occupabilità dei soggetti disoccupati iscritti al compartimento marittimo della “Gente di Mare” sostenendo la partecipazione ai corsi obbligatori, previsti dal D.P.R. 9 Maggio 2001, n. 324 e ss. mm. e ii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intervento dell’Avviso “Gente di mare”, pubblicato nel mese di giugno 2010, ha risposto quindi alla doppia esigenza, esplicitata nel POR Sardegna FSE 2007-2013, di rafforzare le competenze/conoscenze dei lavoratori in materia di sicurezza sul lavoro e di incrementare al contempo l’occupabilità nel settore maritti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ppel “Gente di ma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Région Sardaigne a développé des actions qui permettent d’augmenter l’employabilité des sujets chômeurs inscrits au compartiment maritime “Gente di Mare” en soutenant la participation aux cours obligatoires prévus par D.P.R. 9 Mai 2001, n. 324 et ss. mm. e ii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ntervention de l’appel “Gente di mare”, publié en juin 2010 a répondu à l’exigence, nommée dans le POR Sardaigne FSE 2007-2013 de renforcer les compétences/connaissances des travailleurs en matière de sécurité du travail et augmenter l’employabilité dans le secteur mari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Arial"/>
              </a:rPr>
              <a:t>Grazie per l’attenzione!</a:t>
            </a:r>
            <a:br>
              <a:rPr sz="5400"/>
            </a:br>
            <a:r>
              <a:rPr b="1" lang="it-IT" sz="5400" spc="-1" strike="noStrike">
                <a:solidFill>
                  <a:srgbClr val="000000"/>
                </a:solidFill>
                <a:latin typeface="Arial"/>
              </a:rPr>
              <a:t>Merci pour l’attention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9407472-suono-onomatopeico-di-un-tuffo-in-acqua"/>
          <p:cNvPicPr/>
          <p:nvPr/>
        </p:nvPicPr>
        <p:blipFill>
          <a:blip r:embed="rId1"/>
          <a:stretch/>
        </p:blipFill>
        <p:spPr>
          <a:xfrm>
            <a:off x="1116000" y="2421000"/>
            <a:ext cx="46083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GIONE AUTONOMA DELLA SARDEGNA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SSESSORATO DEL LAVORO, FORMAZIONE PROFESSIONALE,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OPERAZIONE E SICUREZZA SOCIALE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RVIZIO DELLA GOVERNANCE DELLA FORMAZIONE PROFESSIONAL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’Appel à proposition Maciste et autres interventions de la Région Sardai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1000080" cy="649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2"/>
          <a:stretch/>
        </p:blipFill>
        <p:spPr>
          <a:xfrm>
            <a:off x="6948360" y="549360"/>
            <a:ext cx="1152720" cy="79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3"/>
          <a:stretch/>
        </p:blipFill>
        <p:spPr>
          <a:xfrm>
            <a:off x="3348000" y="620640"/>
            <a:ext cx="2160720" cy="86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2" descr="villasimius_sardegna"/>
          <p:cNvPicPr/>
          <p:nvPr/>
        </p:nvPicPr>
        <p:blipFill>
          <a:blip r:embed="rId4"/>
          <a:stretch/>
        </p:blipFill>
        <p:spPr>
          <a:xfrm>
            <a:off x="179280" y="5445000"/>
            <a:ext cx="16002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’Avviso “Ma.Ci.S.T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5280" y="2108880"/>
            <a:ext cx="835344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Regione Autonoma della Sardegna, mediante Avviso pubblico cofinanziato dal Fondo Sociale Europeo, ha selezionato  i progetti delle Agenzie Formative accreditate, aventi ad oggetto interventi integrati per la formazione di adeguate professionalità nelle aree del Mare, del Cielo e Sole e della T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villasimius_sardegna"/>
          <p:cNvPicPr/>
          <p:nvPr/>
        </p:nvPicPr>
        <p:blipFill>
          <a:blip r:embed="rId1"/>
          <a:stretch/>
        </p:blipFill>
        <p:spPr>
          <a:xfrm>
            <a:off x="179280" y="5445000"/>
            <a:ext cx="16002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’Appel “Ma.Ci.S.T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95280" y="2291760"/>
            <a:ext cx="835344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Région Sardaigne, à travers l’appel à proposition cofinancé par le Fond Social Européen, a sélectionné les projets des Agences Formatives qui promeuvent des intervention pour la formation des professions dans le secteur de la mer, du ciel et de la ter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villasimius_sardegna"/>
          <p:cNvPicPr/>
          <p:nvPr/>
        </p:nvPicPr>
        <p:blipFill>
          <a:blip r:embed="rId1"/>
          <a:stretch/>
        </p:blipFill>
        <p:spPr>
          <a:xfrm>
            <a:off x="179280" y="5445000"/>
            <a:ext cx="16002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ris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47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are € 1.60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ielo e Sole € 1.30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rra € 1.30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otale € 4.20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villasimius_sardegna"/>
          <p:cNvPicPr/>
          <p:nvPr/>
        </p:nvPicPr>
        <p:blipFill>
          <a:blip r:embed="rId1"/>
          <a:stretch/>
        </p:blipFill>
        <p:spPr>
          <a:xfrm>
            <a:off x="179280" y="5445000"/>
            <a:ext cx="16002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s res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47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er € 1.60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iel et soleil € 1.30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rre € 1.30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otal € 4.20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villasimius_sardegna"/>
          <p:cNvPicPr/>
          <p:nvPr/>
        </p:nvPicPr>
        <p:blipFill>
          <a:blip r:embed="rId1"/>
          <a:stretch/>
        </p:blipFill>
        <p:spPr>
          <a:xfrm>
            <a:off x="179280" y="5445000"/>
            <a:ext cx="16002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soccupati/inoccupati, residenti in Sardegna, che abbiano compiuto la maggiore e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1763640" y="42372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destinat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villasimius_sardegna"/>
          <p:cNvPicPr/>
          <p:nvPr/>
        </p:nvPicPr>
        <p:blipFill>
          <a:blip r:embed="rId1"/>
          <a:stretch/>
        </p:blipFill>
        <p:spPr>
          <a:xfrm>
            <a:off x="179280" y="5445000"/>
            <a:ext cx="16002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omeurs, résidents en Sardaigne qui ont la maj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1763640" y="42372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s bénéfici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villasimius_sardegna"/>
          <p:cNvPicPr/>
          <p:nvPr/>
        </p:nvPicPr>
        <p:blipFill>
          <a:blip r:embed="rId1"/>
          <a:stretch/>
        </p:blipFill>
        <p:spPr>
          <a:xfrm>
            <a:off x="179280" y="5445000"/>
            <a:ext cx="16002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tipologie di a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. percorsi di formazione rivolti al conseguimento della qualificazione professiona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. ricerche e indagini di mercato finalizzate alla definizione delle prospettive imprenditoriali legate all’ambito di riferi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. servizi di orientamento e bilancio di competenz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. percorsi per la creazione d’impresa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villasimius_sardegna"/>
          <p:cNvPicPr/>
          <p:nvPr/>
        </p:nvPicPr>
        <p:blipFill>
          <a:blip r:embed="rId1"/>
          <a:stretch/>
        </p:blipFill>
        <p:spPr>
          <a:xfrm>
            <a:off x="179280" y="5445000"/>
            <a:ext cx="16002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2T09:02:24Z</dcterms:created>
  <dc:creator>dott efisio piciau</dc:creator>
  <dc:description/>
  <dc:language>en-US</dc:language>
  <cp:lastModifiedBy>Utente</cp:lastModifiedBy>
  <dcterms:modified xsi:type="dcterms:W3CDTF">2013-11-11T17:39:06Z</dcterms:modified>
  <cp:revision>1012</cp:revision>
  <dc:subject/>
  <dc:title>L’APPRENDISTATO</dc:title>
</cp:coreProperties>
</file>