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10234613" cy="7099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214D-A8A5-4986-AA0E-4E02A416A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D5A-073F-4CD9-8BA1-8EAFC0939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F39D-51D8-4ABF-B82A-6549553C9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F042-9BA9-4C44-B4E6-891A1A0D2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B282-8217-452D-BF9F-E281332B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9E40-739B-4B15-815A-96F688D2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D66F-53EE-4E4E-89E5-C8C119D8C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7201-3744-4696-BE67-21DAEAB2E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2485-E80D-4F8A-BAEF-D9EF477FB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D2C1-1FE7-4D21-88B8-CBC5D3BD6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8A563-FE05-41EF-B4D7-E14F6C8C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59EE-163D-46F7-AB72-8865BC868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B0781-04E8-4C0E-98AC-64522D7D73F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ONE AUTONOMA DELLA SARDEGNA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SSORATO DEL LAVORO, FORMAZIONE PROFESSIONALE,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OPERAZIONE E SICUREZZA SOCIAL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ZIO DELLA GOVERNANCE DELLA FORMAZIONE PROFESSION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vviso Maciste e altri interventi della Regione Sardeg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000080" cy="64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2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152720" cy="799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"/>
          <p:cNvPicPr/>
          <p:nvPr/>
        </p:nvPicPr>
        <p:blipFill>
          <a:blip r:embed="rId3"/>
          <a:stretch/>
        </p:blipFill>
        <p:spPr>
          <a:xfrm>
            <a:off x="3348000" y="62064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2" descr="villasimius_sardegna"/>
          <p:cNvPicPr/>
          <p:nvPr/>
        </p:nvPicPr>
        <p:blipFill>
          <a:blip r:embed="rId4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500040" y="1285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es typologies d’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. parcours de formation visant à obtenir la qualification professionnel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b. recherches et étude de marché finalisés à la définition des perspectives d’entreprise liées au domaine de référenc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. services d’orientations et bilan des compétenc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. parcours pour la création d’entreprise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rior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rea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antieristica navale e da diporto, Logistica portuale,Turismo del m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516640"/>
            <a:ext cx="16002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Priori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Secteur 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antiers navals e de plaisance, Logistique portuaire, Tourisme mari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516640"/>
            <a:ext cx="1600200" cy="95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riteri di valutazione dei proget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bbisogni rilevati, motivazioni dell’intervento, obiettivi generali dell'operazione, coerenza delle argomentazioni proposte e descrizione degli impatti attesi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igure professionali relative agli ambiti professionali indicati quali prioritar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biettivi dell’attività formativa, coerenza e articolazione dei moduli del percorso formativ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erenza delle attività di stage rispetto all’intervento progettato, organismo ospitante e attività svolte nel corso dello stag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accertamento in ingresso dei requisit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escrizione dettagliata delle azioni diverse dall’attività formativa e coerenza delle stesse con l’attività formativ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e strumenti di monitoraggio dell’andamento dell’intervento in termini di efficacia ed efficienz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novatività e pari opportunità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guatezza delle risorse umane impegn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deguatezza delle risorse logistiche e strumenta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6237360"/>
            <a:ext cx="16002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Critères évaluation des proj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Besoins, motivation de l’intervention, objectifs générales, cohérence des argumentations proposées et description des impacts attendu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ofils professionnels relatifs aux domaines identifiés comme prioritair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bjectifs de l’activité formative, cohérence et articulation des modules du parcours de formation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ohérence des activités de stage par rapport à l’intervention planifié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alité de control des qualité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cription des actions divers de l’activité formative et cohé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odalité et instruments de suivi et évaluation de l’action en termes d’efficacité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novation et égalité des chanc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équation des ressource humaines impliqué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déquation des ressources logistique et instrument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6237360"/>
            <a:ext cx="1600200" cy="62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progetti finanzi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844640"/>
          <a:ext cx="8229600" cy="4456080"/>
        </p:xfrm>
        <a:graphic>
          <a:graphicData uri="http://schemas.openxmlformats.org/drawingml/2006/table">
            <a:tbl>
              <a:tblPr/>
              <a:tblGrid>
                <a:gridCol w="5072040"/>
                <a:gridCol w="3157560"/>
              </a:tblGrid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del turismo del mar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superiore per la gestione di porti turisti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o Torres, Sass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per l'organizzazione e marketing del turismo sostenibile e accessibil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canico motorista nautico da dipor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bia -Temp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latore - manutentore di impianti elettrici nautic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 -Orist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del turismo del dipor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simi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nico turistico del diport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ddetto ai servizi di accoglienza ed assistenza ai viaggiatori (turisti diportisti con competenze di piccola manutenzione delle unità di dipor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s projets financé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1844640"/>
          <a:ext cx="8229600" cy="4456080"/>
        </p:xfrm>
        <a:graphic>
          <a:graphicData uri="http://schemas.openxmlformats.org/drawingml/2006/table">
            <a:tbl>
              <a:tblPr/>
              <a:tblGrid>
                <a:gridCol w="5072040"/>
                <a:gridCol w="3157560"/>
              </a:tblGrid>
              <a:tr h="466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du tourisme de la me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pour la gestion des ports touristiq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orto Torres, Sass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pour l’organisation et marketing du tourisme durabl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ecanicien nautique de plaisanc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lbia -Tempi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6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stallateur – agent de maintien des impiants électriques nautique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gliari -Oristan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du tourisme de plais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illasimiu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chnicien du tourisme de plaisanc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rbonia - Iglesi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éposé aux services d’accueille et assistance aux voyageurs (touristes de plaisance avec  compétences de petite manutention des unités de plaisance)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3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ovincia di Cagliar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vviso “Gente di m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gione Sardegna ha sviluppato azioni che consentono di incrementare l’occupabilità dei soggetti disoccupati iscritti al compartimento marittimo della “Gente di Mare” sostenendo la partecipazione ai corsi obbligatori, previsti dal D.P.R. 9 Maggio 2001, n. 324 e ss. mm. e ii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’intervento dell’Avviso “Gente di mare”, pubblicato nel mese di giugno 2010, ha risposto quindi alla doppia esigenza, esplicitata nel POR Sardegna FSE 2007-2013, di rafforzare le competenze/conoscenze dei lavoratori in materia di sicurezza sul lavoro e di incrementare al contempo l’occupabilità nel settore maritt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el “Gente di mar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gion Sardaigne a développé des actions qui permettent d’augmenter l’employabilité des sujets chômeurs inscrits au compartiment maritime “Gente di Mare” en soutenant la participation aux cours obligatoires prévus par D.P.R. 9 Mai 2001, n. 324 et ss. mm. e ii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intervention de l’appel “Gente di mare”, publié en juin 2010 a répondu à l’exigence, nommée dans le POR Sardaigne FSE 2007-2013 de renforcer les compétences/connaissances des travailleurs en matière de sécurité du travail et augmenter l’employabilité dans le secteur mari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004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Grazie per l’attenzione!</a:t>
            </a:r>
            <a:br>
              <a:rPr sz="5400"/>
            </a:br>
            <a:r>
              <a:rPr b="1" lang="it-IT" sz="5400" spc="-1" strike="noStrike">
                <a:solidFill>
                  <a:srgbClr val="000000"/>
                </a:solidFill>
                <a:latin typeface="Arial"/>
              </a:rPr>
              <a:t>Merci pour l’attentio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9407472-suono-onomatopeico-di-un-tuffo-in-acqua"/>
          <p:cNvPicPr/>
          <p:nvPr/>
        </p:nvPicPr>
        <p:blipFill>
          <a:blip r:embed="rId1"/>
          <a:stretch/>
        </p:blipFill>
        <p:spPr>
          <a:xfrm>
            <a:off x="1116000" y="2421000"/>
            <a:ext cx="4608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REGIONE AUTONOMA DELLA SARDEGNA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SSESSORATO DEL LAVORO, FORMAZIONE PROFESSIONALE,</a:t>
            </a: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OPERAZIONE E SICUREZZA SOCIALE</a:t>
            </a:r>
            <a:br>
              <a:rPr sz="1600"/>
            </a:br>
            <a:br>
              <a:rPr sz="1600"/>
            </a:b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SERVIZIO DELLA GOVERNANCE DELLA FORMAZIONE PROFESSIONALE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56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ppel à proposition Maciste et autres interventions de la Région Sardaig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1000080" cy="649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2" descr=""/>
          <p:cNvPicPr/>
          <p:nvPr/>
        </p:nvPicPr>
        <p:blipFill>
          <a:blip r:embed="rId2"/>
          <a:stretch/>
        </p:blipFill>
        <p:spPr>
          <a:xfrm>
            <a:off x="6948360" y="549360"/>
            <a:ext cx="1152720" cy="79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6" descr=""/>
          <p:cNvPicPr/>
          <p:nvPr/>
        </p:nvPicPr>
        <p:blipFill>
          <a:blip r:embed="rId3"/>
          <a:stretch/>
        </p:blipFill>
        <p:spPr>
          <a:xfrm>
            <a:off x="3348000" y="620640"/>
            <a:ext cx="2160720" cy="86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2" descr="villasimius_sardegna"/>
          <p:cNvPicPr/>
          <p:nvPr/>
        </p:nvPicPr>
        <p:blipFill>
          <a:blip r:embed="rId4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vviso “Ma.Ci.S.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5280" y="2108880"/>
            <a:ext cx="8353440" cy="26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Regione Autonoma della Sardegna, mediante Avviso pubblico cofinanziato dal Fondo Sociale Europeo, ha selezionato  i progetti delle Agenzie Formative accreditate, aventi ad oggetto interventi integrati per la formazione di adeguate professionalità nelle aree del Mare, del Cielo e Sole e della T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’Appel “Ma.Ci.S.Te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5"/>
          <p:cNvSpPr/>
          <p:nvPr/>
        </p:nvSpPr>
        <p:spPr>
          <a:xfrm>
            <a:off x="395280" y="2291760"/>
            <a:ext cx="8353440" cy="22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61196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a Région Sardaigne, à travers l’appel à proposition cofinancé par le Fond Social Européen, a sélectionné les projets des Agences Formatives qui promeuvent des intervention pour la formation des professions dans le secteur de la mer, du ciel et de la ter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risor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e € 1.6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elo e Sole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a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e € 4.2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s res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55280" y="1600200"/>
            <a:ext cx="747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r € 1.6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iel et soleil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erre € 1.3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Total € 4.200.0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soccupati/inoccupati, residenti in Sardegna, che abbiano compiuto la maggiore e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1763640" y="42372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 destinata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0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homeurs, résidents en Sardaigne qui ont la major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763640" y="423720"/>
            <a:ext cx="69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s bénéficia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0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28760" y="1071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 tipologie di azio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. percorsi di formazione rivolti al conseguimento della qualificazione professional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b. ricerche e indagini di mercato finalizzate alla definizione delle prospettive imprenditoriali legate all’ambito di riferiment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. servizi di orientamento e bilancio di competen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. percorsi per la creazione d’impresa</a:t>
            </a: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6" descr="villasimius_sardegna"/>
          <p:cNvPicPr/>
          <p:nvPr/>
        </p:nvPicPr>
        <p:blipFill>
          <a:blip r:embed="rId1"/>
          <a:stretch/>
        </p:blipFill>
        <p:spPr>
          <a:xfrm>
            <a:off x="179280" y="5445000"/>
            <a:ext cx="160020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2T09:02:24Z</dcterms:created>
  <dc:creator>dott efisio piciau</dc:creator>
  <dc:description/>
  <dc:language>en-US</dc:language>
  <cp:lastModifiedBy>Utente</cp:lastModifiedBy>
  <dcterms:modified xsi:type="dcterms:W3CDTF">2013-11-11T17:39:06Z</dcterms:modified>
  <cp:revision>1012</cp:revision>
  <dc:subject/>
  <dc:title>L’APPRENDISTATO</dc:title>
</cp:coreProperties>
</file>