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2CF-0365-4736-B344-E08C6405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BAB-71D7-4E27-85B7-4CD960C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DCA-9A2A-49DB-99A6-A7D695F8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FD4-CA69-4879-9211-F3D09FA3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A857-57FA-42EF-8117-F0E2A353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BE16-2446-476C-A589-84D64221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11E2-813B-42CB-9E86-905E1A7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F607-8DBD-4FEA-83FB-E536CA7A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F73-1DBA-414C-A2EA-14F3F748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DC21-9A2C-4094-9EE0-FAAFEEC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E807-E868-4632-A6EC-2E450E4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161-745A-4B74-BA74-54EBBEB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7EBA-9530-43E0-BAB8-3F98862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3634-6AC2-46E6-8E13-A11B012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6B66-5D5B-4AEA-B907-9FAC1CF7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9CA9-612E-4F5A-8569-A4CACCCB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6E1-738D-4022-8827-960856FF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F3C-B54E-48F8-AE63-F2C354F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B4E-EB83-4443-892D-1B3512E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AE3-7B22-4208-AAA6-ADB920E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B0E-18DF-4864-9E7A-FDB895C2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DC4-142D-4F17-8DA8-F2C871B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3C5-12B5-41F9-810A-452ADCCF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95A-F3FD-4FAF-A2C9-52958D8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835320"/>
                  <a:gd name="textAreaBottom" fmla="*/ 6835680 h 68353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576-EB80-40C8-B921-2FC7D013535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A78-7CEB-4875-8D54-17A51DF316F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7100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219320" cy="772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714680" y="2286000"/>
            <a:ext cx="61340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1f497d"/>
                </a:solidFill>
                <a:latin typeface="Century Schoolbook"/>
              </a:rPr>
              <a:t>InnoNauTIC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2262240" cy="730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1523880" y="4419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                                  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mera di Commercio di Caglia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Verdana"/>
                <a:ea typeface="Times New Roman"/>
              </a:rPr>
              <a:t>Lo Skipper animatore è una figura professionale che unisce le capacità di conduzione del mezzo nautico alla conoscenza del patrimonio naturalistico e storico: il tutto a vantaggio dello sviluppo di un turismo alternativo.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490a8"/>
                </a:solidFill>
                <a:latin typeface="Verdana"/>
                <a:ea typeface="Times New Roman"/>
              </a:rPr>
              <a:t>Le Skipper animateur est une figure professionnelle qui unit les capacités de conduite des moyens nautiques avec la connaissance du patrimoine naturel et historique: tout à avantage du développement d’un tourisme di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Due corsi di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90a8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Studenti dell’Istituto Nautico                             Operatori del s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      “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Buccari” di Cagli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6"/>
          <a:stretch/>
        </p:blipFill>
        <p:spPr>
          <a:xfrm>
            <a:off x="3352680" y="358128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39625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8"/>
          <a:stretch/>
        </p:blipFill>
        <p:spPr>
          <a:xfrm>
            <a:off x="548640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9"/>
          <a:stretch/>
        </p:blipFill>
        <p:spPr>
          <a:xfrm>
            <a:off x="57913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"/>
          <p:cNvPicPr/>
          <p:nvPr/>
        </p:nvPicPr>
        <p:blipFill>
          <a:blip r:embed="rId10"/>
          <a:stretch/>
        </p:blipFill>
        <p:spPr>
          <a:xfrm>
            <a:off x="6095880" y="3657600"/>
            <a:ext cx="4572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19"/>
          <p:cNvGraphicFramePr/>
          <p:nvPr/>
        </p:nvGraphicFramePr>
        <p:xfrm>
          <a:off x="2514600" y="4800600"/>
          <a:ext cx="1822320" cy="17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800600"/>
                    <a:ext cx="18223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0"/>
          <p:cNvGraphicFramePr/>
          <p:nvPr/>
        </p:nvGraphicFramePr>
        <p:xfrm>
          <a:off x="6248520" y="4495680"/>
          <a:ext cx="1844640" cy="2133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4495680"/>
                    <a:ext cx="1844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Deux cours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90a8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Elèves Etablissement Nautique                             Operateurs du sec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      “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Buccari” de Cagli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6"/>
          <a:stretch/>
        </p:blipFill>
        <p:spPr>
          <a:xfrm>
            <a:off x="3352680" y="358128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7"/>
          <a:stretch/>
        </p:blipFill>
        <p:spPr>
          <a:xfrm>
            <a:off x="39625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8"/>
          <a:stretch/>
        </p:blipFill>
        <p:spPr>
          <a:xfrm>
            <a:off x="548640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9"/>
          <a:stretch/>
        </p:blipFill>
        <p:spPr>
          <a:xfrm>
            <a:off x="57913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"/>
          <p:cNvPicPr/>
          <p:nvPr/>
        </p:nvPicPr>
        <p:blipFill>
          <a:blip r:embed="rId10"/>
          <a:stretch/>
        </p:blipFill>
        <p:spPr>
          <a:xfrm>
            <a:off x="6095880" y="3657600"/>
            <a:ext cx="4572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19"/>
          <p:cNvGraphicFramePr/>
          <p:nvPr/>
        </p:nvGraphicFramePr>
        <p:xfrm>
          <a:off x="2514600" y="4800600"/>
          <a:ext cx="1822320" cy="17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800600"/>
                    <a:ext cx="18223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0"/>
          <p:cNvGraphicFramePr/>
          <p:nvPr/>
        </p:nvGraphicFramePr>
        <p:xfrm>
          <a:off x="6248520" y="4495680"/>
          <a:ext cx="1844640" cy="2133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4495680"/>
                    <a:ext cx="1844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Informazioni generali sui cor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I corsi si sono svolti dall’ 8 al 24 otto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Ogni corso ha avuto la durata complessiva di 50 ore di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Hanno partecipato ai cor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20 studenti dell’Istituto Nautico “Bucca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30 operatori del se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Information générale sur les c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Les cours ont eu lieu du 8 au 24 Octo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Chaque cours est duré 50 heures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Ont pris partie aux co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20 élèves de l’Ecole Nautique “Bucca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30 operateurs du s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Materie dei cor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Biologia mari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sicologia di gruppo, comunicazione e team buil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omandante motorya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kipper sailingb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Lavoro sugli yacht - Caratteristiche e potenzia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Matières des c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Biologie mari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sychologie de group, communication et team buil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ommandant motoryach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kipper sailingb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mploi sur les yachts – caractéristiques et potentialit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biologia m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47" name="WordArt 9"/>
          <p:cNvSpPr txBox="1"/>
          <p:nvPr/>
        </p:nvSpPr>
        <p:spPr>
          <a:xfrm>
            <a:off x="1523880" y="4267080"/>
            <a:ext cx="2143080" cy="4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Cos'è la biologia marina..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248" name="WordArt 10"/>
          <p:cNvSpPr txBox="1"/>
          <p:nvPr/>
        </p:nvSpPr>
        <p:spPr>
          <a:xfrm rot="1582200">
            <a:off x="3048120" y="4419720"/>
            <a:ext cx="53244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Caratteristiche oceanografiche ed evoluzione del Mediterrane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2"/>
          <p:cNvSpPr txBox="1"/>
          <p:nvPr/>
        </p:nvSpPr>
        <p:spPr>
          <a:xfrm>
            <a:off x="6019920" y="5867280"/>
            <a:ext cx="2685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Introduzione all’ecologi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250" name="WordArt 13"/>
          <p:cNvSpPr txBox="1"/>
          <p:nvPr/>
        </p:nvSpPr>
        <p:spPr>
          <a:xfrm>
            <a:off x="1219320" y="2819520"/>
            <a:ext cx="4514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a catena trofica e relazioni tra organism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51" name="WordArt 14"/>
          <p:cNvSpPr txBox="1"/>
          <p:nvPr/>
        </p:nvSpPr>
        <p:spPr>
          <a:xfrm>
            <a:off x="4114800" y="3124080"/>
            <a:ext cx="4591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li animali marini e il loro ruolo ecologico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2" name="WordArt 15"/>
          <p:cNvSpPr txBox="1"/>
          <p:nvPr/>
        </p:nvSpPr>
        <p:spPr>
          <a:xfrm>
            <a:off x="1295280" y="5867280"/>
            <a:ext cx="40672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’incontro e lo studio dei cetacei in ma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3" name="WordArt 16"/>
          <p:cNvSpPr txBox="1"/>
          <p:nvPr/>
        </p:nvSpPr>
        <p:spPr>
          <a:xfrm>
            <a:off x="990720" y="5029200"/>
            <a:ext cx="51339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Cenni sulle caratteristiche fisico-chimiche del ma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54" name="WordArt 17"/>
          <p:cNvSpPr txBox="1"/>
          <p:nvPr/>
        </p:nvSpPr>
        <p:spPr>
          <a:xfrm>
            <a:off x="6705720" y="3733920"/>
            <a:ext cx="20286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L’ambiente mari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biologie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1285920" y="4267080"/>
            <a:ext cx="2381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C’est quoi la biologie marine..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262" name="WordArt 10"/>
          <p:cNvSpPr txBox="1"/>
          <p:nvPr/>
        </p:nvSpPr>
        <p:spPr>
          <a:xfrm rot="1582200">
            <a:off x="2862000" y="4376880"/>
            <a:ext cx="5481720" cy="66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Caracteristiques océanographiques et écolution de la Méditerranéenn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263" name="WordArt 12"/>
          <p:cNvSpPr txBox="1"/>
          <p:nvPr/>
        </p:nvSpPr>
        <p:spPr>
          <a:xfrm>
            <a:off x="6019920" y="5867280"/>
            <a:ext cx="2685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Introduction à l’écologi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219320" y="2819520"/>
            <a:ext cx="4514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a chaine trophique et relations entre organism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4114800" y="3124080"/>
            <a:ext cx="4591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es animaux marins et le role écologiqu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5"/>
          <p:cNvSpPr txBox="1"/>
          <p:nvPr/>
        </p:nvSpPr>
        <p:spPr>
          <a:xfrm>
            <a:off x="1295280" y="5867280"/>
            <a:ext cx="40672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a rencontre et l’étude des cétacés en m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7" name="WordArt 16"/>
          <p:cNvSpPr txBox="1"/>
          <p:nvPr/>
        </p:nvSpPr>
        <p:spPr>
          <a:xfrm>
            <a:off x="990720" y="5029200"/>
            <a:ext cx="51339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Caracteristiques physiques et chimiques de la m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17"/>
          <p:cNvSpPr txBox="1"/>
          <p:nvPr/>
        </p:nvSpPr>
        <p:spPr>
          <a:xfrm>
            <a:off x="6705720" y="3733920"/>
            <a:ext cx="20286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Le context mari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InnoNauTICs:</a:t>
            </a:r>
            <a:r>
              <a:rPr b="0" lang="it-IT" sz="2800" spc="-1" strike="noStrike" u="sng">
                <a:solidFill>
                  <a:srgbClr val="3366cc"/>
                </a:solidFill>
                <a:uFillTx/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rogetto di cooperazione trans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Obiettivo principale:</a:t>
            </a:r>
            <a:r>
              <a:rPr b="0" lang="it-IT" sz="2800" spc="-1" strike="noStrike">
                <a:solidFill>
                  <a:srgbClr val="003366"/>
                </a:solidFill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viluppo di una piattaforma on line per l'incontro diretto tra le imprese del settore ed i potenziali ute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www.nauticaleurop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psicologia di gruppo, comunicazione e team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0"/>
          <p:cNvSpPr txBox="1"/>
          <p:nvPr/>
        </p:nvSpPr>
        <p:spPr>
          <a:xfrm>
            <a:off x="1447920" y="2971800"/>
            <a:ext cx="2295360" cy="5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Definizione di grupp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75" name="WordArt 11"/>
          <p:cNvSpPr txBox="1"/>
          <p:nvPr/>
        </p:nvSpPr>
        <p:spPr>
          <a:xfrm>
            <a:off x="5867280" y="3048120"/>
            <a:ext cx="286704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Perché si formano i grupp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  <p:sp>
        <p:nvSpPr>
          <p:cNvPr id="276" name="WordArt 12"/>
          <p:cNvSpPr txBox="1"/>
          <p:nvPr/>
        </p:nvSpPr>
        <p:spPr>
          <a:xfrm>
            <a:off x="1905120" y="3733920"/>
            <a:ext cx="25527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 dinamiche di grupp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77" name="WordArt 13"/>
          <p:cNvSpPr txBox="1"/>
          <p:nvPr/>
        </p:nvSpPr>
        <p:spPr>
          <a:xfrm>
            <a:off x="5029200" y="3657600"/>
            <a:ext cx="39718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Il conflitto intragruppo e intergrupp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278" name="WordArt 14"/>
          <p:cNvSpPr txBox="1"/>
          <p:nvPr/>
        </p:nvSpPr>
        <p:spPr>
          <a:xfrm rot="21315000">
            <a:off x="1371600" y="4495680"/>
            <a:ext cx="634356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odalità per incentivare la collaborazione all’interno del grupp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279" name="WordArt 15"/>
          <p:cNvSpPr txBox="1"/>
          <p:nvPr/>
        </p:nvSpPr>
        <p:spPr>
          <a:xfrm rot="21517200">
            <a:off x="3124080" y="5028840"/>
            <a:ext cx="541044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Specifico psicologico del gruppo che si forma in barc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280" name="WordArt 16"/>
          <p:cNvSpPr txBox="1"/>
          <p:nvPr/>
        </p:nvSpPr>
        <p:spPr>
          <a:xfrm>
            <a:off x="1066680" y="5638680"/>
            <a:ext cx="37432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sa s’intende per comunicazi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81" name="WordArt 17"/>
          <p:cNvSpPr txBox="1"/>
          <p:nvPr/>
        </p:nvSpPr>
        <p:spPr>
          <a:xfrm>
            <a:off x="1447920" y="6400800"/>
            <a:ext cx="37051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li elementi della comunicazion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18"/>
          <p:cNvSpPr txBox="1"/>
          <p:nvPr/>
        </p:nvSpPr>
        <p:spPr>
          <a:xfrm rot="21291000">
            <a:off x="4267080" y="5866920"/>
            <a:ext cx="464832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Gli aspetti relazionali della comunicazi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psychologie de groupe, communication et team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88" name="WordArt 10"/>
          <p:cNvSpPr txBox="1"/>
          <p:nvPr/>
        </p:nvSpPr>
        <p:spPr>
          <a:xfrm>
            <a:off x="1447920" y="2971800"/>
            <a:ext cx="2295360" cy="5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Definition de group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11"/>
          <p:cNvSpPr txBox="1"/>
          <p:nvPr/>
        </p:nvSpPr>
        <p:spPr>
          <a:xfrm>
            <a:off x="5867280" y="3048120"/>
            <a:ext cx="286704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Pourquoi se forment les groupe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1905120" y="3733920"/>
            <a:ext cx="25527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s dinamiques de group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1" name="WordArt 13"/>
          <p:cNvSpPr txBox="1"/>
          <p:nvPr/>
        </p:nvSpPr>
        <p:spPr>
          <a:xfrm>
            <a:off x="5029200" y="3657600"/>
            <a:ext cx="39718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Le conflit inter et intra group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292" name="WordArt 14"/>
          <p:cNvSpPr txBox="1"/>
          <p:nvPr/>
        </p:nvSpPr>
        <p:spPr>
          <a:xfrm rot="21315000">
            <a:off x="1371600" y="4495680"/>
            <a:ext cx="634356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odalité pour favoriser la collaboration à l’intérieur du group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293" name="WordArt 15"/>
          <p:cNvSpPr txBox="1"/>
          <p:nvPr/>
        </p:nvSpPr>
        <p:spPr>
          <a:xfrm rot="21517200">
            <a:off x="3124080" y="5028840"/>
            <a:ext cx="541044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Psychologie de groupe qui se forme en bateau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294" name="WordArt 16"/>
          <p:cNvSpPr txBox="1"/>
          <p:nvPr/>
        </p:nvSpPr>
        <p:spPr>
          <a:xfrm>
            <a:off x="1066680" y="5638680"/>
            <a:ext cx="37432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 quoi il s’agit la communicatio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95" name="WordArt 17"/>
          <p:cNvSpPr txBox="1"/>
          <p:nvPr/>
        </p:nvSpPr>
        <p:spPr>
          <a:xfrm>
            <a:off x="1447920" y="6400800"/>
            <a:ext cx="37051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s élements de la communication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18"/>
          <p:cNvSpPr txBox="1"/>
          <p:nvPr/>
        </p:nvSpPr>
        <p:spPr>
          <a:xfrm rot="21291000">
            <a:off x="4289400" y="5779800"/>
            <a:ext cx="4648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Les aspects relationnelles de la communicatio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comandante motory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 rot="21010200">
            <a:off x="4952520" y="4266720"/>
            <a:ext cx="2828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mpetenze professional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 rot="21042000">
            <a:off x="2819520" y="5486400"/>
            <a:ext cx="2914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aratteristiche dello yach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04" name="WordArt 10"/>
          <p:cNvSpPr txBox="1"/>
          <p:nvPr/>
        </p:nvSpPr>
        <p:spPr>
          <a:xfrm rot="20976000">
            <a:off x="1676160" y="5181480"/>
            <a:ext cx="2028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Equipaggaiament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  <p:sp>
        <p:nvSpPr>
          <p:cNvPr id="305" name="WordArt 11"/>
          <p:cNvSpPr txBox="1"/>
          <p:nvPr/>
        </p:nvSpPr>
        <p:spPr>
          <a:xfrm rot="20759400">
            <a:off x="4572000" y="5562720"/>
            <a:ext cx="42768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Scelta delle rotte, dei porti e delle rad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 rot="20841600">
            <a:off x="1981080" y="4038120"/>
            <a:ext cx="3800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grammazione della navigazi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07" name="WordArt 13"/>
          <p:cNvSpPr txBox="1"/>
          <p:nvPr/>
        </p:nvSpPr>
        <p:spPr>
          <a:xfrm rot="21301200">
            <a:off x="1066680" y="2971440"/>
            <a:ext cx="7753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Porti e concentrazione delle strutture ricetttive delle località turistich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commandant motory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13" name="WordArt 8"/>
          <p:cNvSpPr txBox="1"/>
          <p:nvPr/>
        </p:nvSpPr>
        <p:spPr>
          <a:xfrm rot="21010200">
            <a:off x="4952520" y="4266720"/>
            <a:ext cx="2828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mpétences professionnell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14" name="WordArt 9"/>
          <p:cNvSpPr txBox="1"/>
          <p:nvPr/>
        </p:nvSpPr>
        <p:spPr>
          <a:xfrm rot="21042000">
            <a:off x="2819520" y="5486400"/>
            <a:ext cx="2914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aracteristiques du yach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15" name="WordArt 10"/>
          <p:cNvSpPr txBox="1"/>
          <p:nvPr/>
        </p:nvSpPr>
        <p:spPr>
          <a:xfrm rot="20976000">
            <a:off x="1676160" y="5181480"/>
            <a:ext cx="2028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Equipem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  <p:sp>
        <p:nvSpPr>
          <p:cNvPr id="316" name="WordArt 11"/>
          <p:cNvSpPr txBox="1"/>
          <p:nvPr/>
        </p:nvSpPr>
        <p:spPr>
          <a:xfrm rot="20759400">
            <a:off x="4572000" y="5562720"/>
            <a:ext cx="42768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Choix des routes, des port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2"/>
          <p:cNvSpPr txBox="1"/>
          <p:nvPr/>
        </p:nvSpPr>
        <p:spPr>
          <a:xfrm rot="20841600">
            <a:off x="1981080" y="4038120"/>
            <a:ext cx="3800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grammation de la navigatio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 rot="21301200">
            <a:off x="1066680" y="2971440"/>
            <a:ext cx="7753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Ports et concentration des structures des localités touristiqu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Skipper sailing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24" name="WordArt 8"/>
          <p:cNvSpPr txBox="1"/>
          <p:nvPr/>
        </p:nvSpPr>
        <p:spPr>
          <a:xfrm>
            <a:off x="2057400" y="2743200"/>
            <a:ext cx="5229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REAZIONE DI ITINERARI TURISTICI E NAUTIC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4343400" y="3962520"/>
            <a:ext cx="4162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elta della barca – tipologia – client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1676520" y="4267080"/>
            <a:ext cx="36478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rganizzazione itinerario – met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2209680" y="4724280"/>
            <a:ext cx="659160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Creazione itinerari turistici e nautici SUD e OVEST Sardeg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8" name="WordArt 12"/>
          <p:cNvSpPr txBox="1"/>
          <p:nvPr/>
        </p:nvSpPr>
        <p:spPr>
          <a:xfrm>
            <a:off x="1828800" y="3657600"/>
            <a:ext cx="6448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reazione itinerari turistici e nautici NORD e EST Sardeg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29" name="WordArt 13"/>
          <p:cNvSpPr txBox="1"/>
          <p:nvPr/>
        </p:nvSpPr>
        <p:spPr>
          <a:xfrm>
            <a:off x="914400" y="5029200"/>
            <a:ext cx="8020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ECNICHE DI ANIMAZIONE ED ORGANIZZAZIONE DEI SERVIZI TURISTIC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4"/>
          <p:cNvSpPr txBox="1"/>
          <p:nvPr/>
        </p:nvSpPr>
        <p:spPr>
          <a:xfrm>
            <a:off x="5334120" y="5791320"/>
            <a:ext cx="35146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mazione e titoli dello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5"/>
          <p:cNvSpPr txBox="1"/>
          <p:nvPr/>
        </p:nvSpPr>
        <p:spPr>
          <a:xfrm>
            <a:off x="2133720" y="6095880"/>
            <a:ext cx="378144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Metodologie e tecniche di animazion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6"/>
          <p:cNvSpPr txBox="1"/>
          <p:nvPr/>
        </p:nvSpPr>
        <p:spPr>
          <a:xfrm>
            <a:off x="2743200" y="6400800"/>
            <a:ext cx="26766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il rapporto con il client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6477120" y="6229440"/>
            <a:ext cx="21715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Equipaggiam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Skipper sailing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39" name="WordArt 8"/>
          <p:cNvSpPr txBox="1"/>
          <p:nvPr/>
        </p:nvSpPr>
        <p:spPr>
          <a:xfrm>
            <a:off x="2057400" y="2743200"/>
            <a:ext cx="5229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REATION DES ITINERAIRES TOURISTIQUES ET NAUTIQUE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40" name="WordArt 9"/>
          <p:cNvSpPr txBox="1"/>
          <p:nvPr/>
        </p:nvSpPr>
        <p:spPr>
          <a:xfrm>
            <a:off x="4343400" y="3962520"/>
            <a:ext cx="4162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hoix du bateau – typologie – tulisateu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1" name="WordArt 10"/>
          <p:cNvSpPr txBox="1"/>
          <p:nvPr/>
        </p:nvSpPr>
        <p:spPr>
          <a:xfrm>
            <a:off x="1676520" y="4267080"/>
            <a:ext cx="36478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rganisation itineraire – mét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42" name="WordArt 11"/>
          <p:cNvSpPr txBox="1"/>
          <p:nvPr/>
        </p:nvSpPr>
        <p:spPr>
          <a:xfrm>
            <a:off x="2209680" y="4724280"/>
            <a:ext cx="659160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Création itineraires touristiques et nautiques SUD et OUEST Sardaig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3" name="WordArt 12"/>
          <p:cNvSpPr txBox="1"/>
          <p:nvPr/>
        </p:nvSpPr>
        <p:spPr>
          <a:xfrm>
            <a:off x="1785960" y="3643200"/>
            <a:ext cx="644832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réation itineraires touristiques et nautiques NORT et EST Sardaig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3"/>
          <p:cNvSpPr txBox="1"/>
          <p:nvPr/>
        </p:nvSpPr>
        <p:spPr>
          <a:xfrm>
            <a:off x="914400" y="5029200"/>
            <a:ext cx="8020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HECNIQUES ANIMATION ET ORGANISATION DES SERVICES TOURISTIQUE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5334120" y="5791320"/>
            <a:ext cx="35146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mation du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133720" y="6095880"/>
            <a:ext cx="378144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Méthodologies et tecniques animatio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743200" y="6400800"/>
            <a:ext cx="26766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Le rapport avec le client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>
            <a:off x="6477120" y="6229440"/>
            <a:ext cx="21715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Equip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Lavoro sugli yacht - Caratteristiche e potenzi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54" name="WordArt 8"/>
          <p:cNvSpPr txBox="1"/>
          <p:nvPr/>
        </p:nvSpPr>
        <p:spPr>
          <a:xfrm rot="20414400">
            <a:off x="1752120" y="5409720"/>
            <a:ext cx="71056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L’equipaggio: i ruoli dello skipper, degli stewardess e dei marina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355" name="WordArt 9"/>
          <p:cNvSpPr txBox="1"/>
          <p:nvPr/>
        </p:nvSpPr>
        <p:spPr>
          <a:xfrm>
            <a:off x="5105520" y="3352680"/>
            <a:ext cx="28764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Il Curriculum dello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56" name="WordArt 10"/>
          <p:cNvSpPr txBox="1"/>
          <p:nvPr/>
        </p:nvSpPr>
        <p:spPr>
          <a:xfrm rot="20744400">
            <a:off x="1523880" y="4800600"/>
            <a:ext cx="55152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ratteristiche dei fondali marini del Mediterran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7" name="WordArt 11"/>
          <p:cNvSpPr txBox="1"/>
          <p:nvPr/>
        </p:nvSpPr>
        <p:spPr>
          <a:xfrm rot="20665800">
            <a:off x="1066680" y="3504960"/>
            <a:ext cx="67629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Caratteristiche naturali e culturali dei luoghi del Mediterran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Emploi sur yacht - Caracteristiques et potential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63" name="WordArt 8"/>
          <p:cNvSpPr txBox="1"/>
          <p:nvPr/>
        </p:nvSpPr>
        <p:spPr>
          <a:xfrm rot="20414400">
            <a:off x="1752120" y="5409720"/>
            <a:ext cx="71056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L’equipe: les roles du skipper, les stewardess et les marin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9"/>
          <p:cNvSpPr txBox="1"/>
          <p:nvPr/>
        </p:nvSpPr>
        <p:spPr>
          <a:xfrm>
            <a:off x="5105520" y="3352680"/>
            <a:ext cx="28764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Le Curriculum du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10"/>
          <p:cNvSpPr txBox="1"/>
          <p:nvPr/>
        </p:nvSpPr>
        <p:spPr>
          <a:xfrm rot="20744400">
            <a:off x="1523880" y="4800600"/>
            <a:ext cx="55152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racteristiques des fonds marins de la Méditerrané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11"/>
          <p:cNvSpPr txBox="1"/>
          <p:nvPr/>
        </p:nvSpPr>
        <p:spPr>
          <a:xfrm rot="20665800">
            <a:off x="1066680" y="3504960"/>
            <a:ext cx="67629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Caracteristiques naturelles et culturelles des lieux de la Méditerrané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5490a8"/>
                </a:solidFill>
                <a:uFillTx/>
                <a:latin typeface="Univers LT Std 57 Cn"/>
                <a:ea typeface="Times New Roman"/>
              </a:rPr>
              <a:t>Gli studenti dell’Istituto Nautico “Buccari” hanno svolto una lezione pratica di Skipper sailingbo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Documents and Settings\Utente1\Desktop\Innonautics\Pilot project\Foto\Foto barca\IMGP0211.JPG"/>
          <p:cNvPicPr/>
          <p:nvPr/>
        </p:nvPicPr>
        <p:blipFill>
          <a:blip r:embed="rId5"/>
          <a:stretch/>
        </p:blipFill>
        <p:spPr>
          <a:xfrm>
            <a:off x="175248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Utente1\Desktop\Innonautics\Pilot project\Foto\Foto barca\IMGP0213.JPG"/>
          <p:cNvPicPr/>
          <p:nvPr/>
        </p:nvPicPr>
        <p:blipFill>
          <a:blip r:embed="rId6"/>
          <a:stretch/>
        </p:blipFill>
        <p:spPr>
          <a:xfrm>
            <a:off x="5257800" y="3828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5490a8"/>
                </a:solidFill>
                <a:uFillTx/>
                <a:latin typeface="Univers LT Std 57 Cn"/>
                <a:ea typeface="Times New Roman"/>
              </a:rPr>
              <a:t>Les élèves de l’école “Buccari” ont suivi un cours pratique de skipper sailingbo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C:\Documents and Settings\Utente1\Desktop\Innonautics\Pilot project\Foto\Foto barca\IMGP0211.JPG"/>
          <p:cNvPicPr/>
          <p:nvPr/>
        </p:nvPicPr>
        <p:blipFill>
          <a:blip r:embed="rId5"/>
          <a:stretch/>
        </p:blipFill>
        <p:spPr>
          <a:xfrm>
            <a:off x="175248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Documents and Settings\Utente1\Desktop\Innonautics\Pilot project\Foto\Foto barca\IMGP0213.JPG"/>
          <p:cNvPicPr/>
          <p:nvPr/>
        </p:nvPicPr>
        <p:blipFill>
          <a:blip r:embed="rId6"/>
          <a:stretch/>
        </p:blipFill>
        <p:spPr>
          <a:xfrm>
            <a:off x="5257800" y="3828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InnoNauTICs:</a:t>
            </a:r>
            <a:r>
              <a:rPr b="0" lang="fo-FO" sz="2800" spc="-1" strike="noStrike" u="sng">
                <a:solidFill>
                  <a:srgbClr val="3366cc"/>
                </a:solidFill>
                <a:uFillTx/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rojet de coopération transn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Objectif principal:</a:t>
            </a:r>
            <a:r>
              <a:rPr b="0" lang="fo-FO" sz="2800" spc="-1" strike="noStrike">
                <a:solidFill>
                  <a:srgbClr val="003366"/>
                </a:solidFill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Développerment d’une plateforme online pour le croisement entre les entreprises du secteur et les utilisateurs potent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www.nauticaleurop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Lezione conclusiv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Utente1\Desktop\Innonautics\Pilot project\Foto\DSCN3965.JPG"/>
          <p:cNvPicPr/>
          <p:nvPr/>
        </p:nvPicPr>
        <p:blipFill>
          <a:blip r:embed="rId5"/>
          <a:stretch/>
        </p:blipFill>
        <p:spPr>
          <a:xfrm>
            <a:off x="2819520" y="2666880"/>
            <a:ext cx="5105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Cours fin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C:\Documents and Settings\Utente1\Desktop\Innonautics\Pilot project\Foto\DSCN3965.JPG"/>
          <p:cNvPicPr/>
          <p:nvPr/>
        </p:nvPicPr>
        <p:blipFill>
          <a:blip r:embed="rId5"/>
          <a:stretch/>
        </p:blipFill>
        <p:spPr>
          <a:xfrm>
            <a:off x="2819520" y="2666880"/>
            <a:ext cx="5105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I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, Industria e Navigazione di Mai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Governo delle isole Bale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OAN (Network delle Camere di Commercio per lo sviluppo delle Isole Gre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Oris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Heraklion (Cr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Osservatorio sul Turismo delle Isole Europee (O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Bastia (Cor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INSULEUR (Network delle Camere di Commercio delle Isole Europ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Les parte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, Industrie et Navigation de Mai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Gouvernement des iles Balé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OAN (Network des Chambres de Commerce pour le développement des Iles grecq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Oris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Heraklion (Crè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Observatoire sur Tourisme des Iles Européennes (O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Bastia (Cor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INSULEUR (Network des Chambres de Commerces des Iles européen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Le attivi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2060"/>
                </a:solidFill>
                <a:uFillTx/>
                <a:latin typeface="Univers LT Std 57 Cn"/>
                <a:ea typeface="Times New Roman"/>
              </a:rPr>
              <a:t>realizzazione di 4 progetti pil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1.</a:t>
            </a: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Formazione innovativa in ambito del turismo nautico (Camera di Commercio  di Caglia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2.</a:t>
            </a:r>
            <a:r>
              <a:rPr b="1" lang="it-IT" sz="1600" spc="-1" strike="noStrike">
                <a:solidFill>
                  <a:srgbClr val="5490a8"/>
                </a:solidFill>
                <a:latin typeface="Times New Roman"/>
                <a:ea typeface="Times New Roman"/>
              </a:rPr>
              <a:t>  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Incoraggiamento, assistenza e supporto alle imprese del settore nautico (EO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3.</a:t>
            </a:r>
            <a:r>
              <a:rPr b="1" lang="it-IT" sz="1600" spc="-1" strike="noStrike">
                <a:solidFill>
                  <a:srgbClr val="5490a8"/>
                </a:solidFill>
                <a:latin typeface="Times New Roman"/>
                <a:ea typeface="Times New Roman"/>
              </a:rPr>
              <a:t>  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cambi formativi per la formazione in barca a vela (Camera di Commercio di Herak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4.</a:t>
            </a:r>
            <a:r>
              <a:rPr b="1" lang="it-IT" sz="1600" spc="-1" strike="noStrike">
                <a:solidFill>
                  <a:srgbClr val="5490a8"/>
                </a:solidFill>
                <a:latin typeface="Times New Roman"/>
                <a:ea typeface="Times New Roman"/>
              </a:rPr>
              <a:t> 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Turismo ed archeologia subacquea: rotte blu lungo la costa della provincia di Oristano (Camera di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     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ommercio di Orista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Les activit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2060"/>
                </a:solidFill>
                <a:uFillTx/>
                <a:latin typeface="Univers LT Std 57 Cn"/>
                <a:ea typeface="Times New Roman"/>
              </a:rPr>
              <a:t>Réalisation 4 projets pil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Formation innovatrice en matière de tourisme nautique (Chambre de Commerce de Caglia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ncouragement, assistance et soutient aux entreprises du secteur nautique (EO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changes formatifs pour la formation en bateau à voile (Chambre de Commerce de Herak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Tourisme et archéologie sous-marine: route bleu de la cote de la province de Oristano (Chambre de Commerce de Oristan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La Camera di Commercio di Cagliari ha realizzato due corsi di formazione per la figura professionale 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it-IT" sz="3200" spc="-1" strike="noStrike">
                <a:solidFill>
                  <a:srgbClr val="003366"/>
                </a:solidFill>
                <a:latin typeface="Century Schoolbook"/>
              </a:rPr>
              <a:t>“</a:t>
            </a:r>
            <a:r>
              <a:rPr b="1" lang="it-IT" sz="3200" spc="-1" strike="noStrike">
                <a:solidFill>
                  <a:srgbClr val="003366"/>
                </a:solidFill>
                <a:latin typeface="Century Schoolbook"/>
              </a:rPr>
              <a:t>Skipper Animato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5"/>
          <a:stretch/>
        </p:blipFill>
        <p:spPr>
          <a:xfrm>
            <a:off x="4267080" y="44956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490a8"/>
                </a:solidFill>
                <a:latin typeface="Arial"/>
              </a:rPr>
              <a:t>La Chambre de Commerce de Cagliari a réalisé deux cours de formation pour le profil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fr-FR" sz="3200" spc="-1" strike="noStrike">
                <a:solidFill>
                  <a:srgbClr val="003366"/>
                </a:solidFill>
                <a:latin typeface="Century Schoolbook"/>
              </a:rPr>
              <a:t>“</a:t>
            </a:r>
            <a:r>
              <a:rPr b="1" lang="fr-FR" sz="3200" spc="-1" strike="noStrike">
                <a:solidFill>
                  <a:srgbClr val="003366"/>
                </a:solidFill>
                <a:latin typeface="Century Schoolbook"/>
              </a:rPr>
              <a:t>Skipper Animateu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5"/>
          <a:stretch/>
        </p:blipFill>
        <p:spPr>
          <a:xfrm>
            <a:off x="4267080" y="44956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7:51:43Z</dcterms:created>
  <dc:creator>Fabrizio Seu</dc:creator>
  <dc:description/>
  <dc:language>en-US</dc:language>
  <cp:lastModifiedBy>Utente</cp:lastModifiedBy>
  <dcterms:modified xsi:type="dcterms:W3CDTF">2013-11-12T15:46:51Z</dcterms:modified>
  <cp:revision>18</cp:revision>
  <dc:subject/>
  <dc:title>Presentazione di PowerPoint</dc:title>
</cp:coreProperties>
</file>