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wmf" ContentType="image/x-wmf"/>
  <Override PartName="/ppt/media/image12.jpeg" ContentType="image/jpeg"/>
  <Override PartName="/ppt/media/image6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png" ContentType="image/png"/>
  <Override PartName="/ppt/media/image10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CE5F-FF1F-49EE-BDB3-A310E99CC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55D7-F21D-4384-8608-078B65746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6770-B3B2-4ECD-BFE1-494FD6C94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37FF-34C4-4179-ABFF-EDCBEFC51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132B4-6E83-4E9F-8343-5B5FC209F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C2B0-90D1-497A-B94C-E50928D43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E3A8-CA0A-48EB-803D-B6621588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E803-0097-4C98-9A94-D075373C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39E96-0CC2-4439-B96E-8124EA294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622C-3C4E-4EDF-86B7-BC4049F4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4C6C1-F745-4C22-A2EB-877394872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DFC6-6E5F-4513-92F1-53291E221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6E112-76F3-4516-A931-EE1556FE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86D3-D9AD-4CCB-A7E7-76559A5B6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04C4A-B7C8-4916-9F52-1BDBF8C62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E8C5-5641-41F5-9E64-ADE124A46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0FE85-F2DE-4504-AB64-C7957B781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4ECF-1D5F-4CAA-837A-D465FC61E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6F31-BA19-4CD6-A337-32696F879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C7D6-20C2-4E80-BE36-E0A1CC25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0465-3780-432E-BD0D-9A825A622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E40D-36F5-4AD0-871B-5555977A1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93A4-7A5C-4D49-A382-8F4F5F754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A21D-A790-4B88-BCF2-2BFAF8097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41400" y="-4680"/>
              <a:ext cx="1012320" cy="6857640"/>
              <a:chOff x="41400" y="-4680"/>
              <a:chExt cx="1012320" cy="6857640"/>
            </a:xfrm>
          </p:grpSpPr>
          <p:sp>
            <p:nvSpPr>
              <p:cNvPr id="2" name="Freeform 4"/>
              <p:cNvSpPr/>
              <p:nvPr/>
            </p:nvSpPr>
            <p:spPr>
              <a:xfrm flipH="1">
                <a:off x="52920" y="-4680"/>
                <a:ext cx="987480" cy="683532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6835320"/>
                  <a:gd name="textAreaBottom" fmla="*/ 6835680 h 683532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 flipH="1">
                <a:off x="51480" y="1694880"/>
                <a:ext cx="987480" cy="50076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>
                <a:off x="53280" y="1285920"/>
                <a:ext cx="987480" cy="50292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502920"/>
                  <a:gd name="textAreaBottom" fmla="*/ 503280 h 50292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>
                <a:off x="53280" y="149400"/>
                <a:ext cx="987480" cy="30348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303480"/>
                  <a:gd name="textAreaBottom" fmla="*/ 303480 h 3034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 flipH="1">
                <a:off x="51480" y="987120"/>
                <a:ext cx="987480" cy="34848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348480"/>
                  <a:gd name="textAreaBottom" fmla="*/ 348840 h 3484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 flipH="1">
                <a:off x="53280" y="681120"/>
                <a:ext cx="987480" cy="43164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431640"/>
                  <a:gd name="textAreaBottom" fmla="*/ 432000 h 4316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 flipH="1">
                <a:off x="53640" y="372600"/>
                <a:ext cx="1000080" cy="374760"/>
              </a:xfrm>
              <a:custGeom>
                <a:avLst/>
                <a:gdLst>
                  <a:gd name="textAreaLeft" fmla="*/ 360 w 1000080"/>
                  <a:gd name="textAreaRight" fmla="*/ 1000800 w 1000080"/>
                  <a:gd name="textAreaTop" fmla="*/ 0 h 374760"/>
                  <a:gd name="textAreaBottom" fmla="*/ 375120 h 37476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>
                <a:off x="41760" y="3938040"/>
                <a:ext cx="987480" cy="49968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>
                <a:off x="43200" y="3534840"/>
                <a:ext cx="987480" cy="50076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>
                <a:off x="43560" y="2395800"/>
                <a:ext cx="987480" cy="30456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304560"/>
                  <a:gd name="textAreaBottom" fmla="*/ 304920 h 30456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>
                <a:off x="43200" y="3231360"/>
                <a:ext cx="987480" cy="34848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348480"/>
                  <a:gd name="textAreaBottom" fmla="*/ 348840 h 3484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 flipH="1">
                <a:off x="43200" y="2929320"/>
                <a:ext cx="987480" cy="42804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 flipH="1">
                <a:off x="43920" y="2617920"/>
                <a:ext cx="1000080" cy="375840"/>
              </a:xfrm>
              <a:custGeom>
                <a:avLst/>
                <a:gdLst>
                  <a:gd name="textAreaLeft" fmla="*/ 360 w 1000080"/>
                  <a:gd name="textAreaRight" fmla="*/ 1000800 w 100008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 flipH="1">
                <a:off x="48960" y="4969800"/>
                <a:ext cx="987120" cy="500760"/>
              </a:xfrm>
              <a:custGeom>
                <a:avLst/>
                <a:gdLst>
                  <a:gd name="textAreaLeft" fmla="*/ 360 w 987120"/>
                  <a:gd name="textAreaRight" fmla="*/ 987840 w 987120"/>
                  <a:gd name="textAreaTop" fmla="*/ 0 h 500760"/>
                  <a:gd name="textAreaBottom" fmla="*/ 501120 h 5007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 flipH="1">
                <a:off x="49680" y="4560480"/>
                <a:ext cx="987480" cy="50328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 flipH="1">
                <a:off x="41760" y="5668200"/>
                <a:ext cx="987480" cy="303120"/>
              </a:xfrm>
              <a:custGeom>
                <a:avLst/>
                <a:gdLst>
                  <a:gd name="textAreaLeft" fmla="*/ -360 w 987480"/>
                  <a:gd name="textAreaRight" fmla="*/ 987480 w 987480"/>
                  <a:gd name="textAreaTop" fmla="*/ 0 h 303120"/>
                  <a:gd name="textAreaBottom" fmla="*/ 303480 h 30312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 flipH="1" rot="16200000">
                <a:off x="362520" y="6185520"/>
                <a:ext cx="345960" cy="988920"/>
              </a:xfrm>
              <a:custGeom>
                <a:avLst/>
                <a:gdLst>
                  <a:gd name="textAreaLeft" fmla="*/ 0 w 345960"/>
                  <a:gd name="textAreaRight" fmla="*/ 345960 w 345960"/>
                  <a:gd name="textAreaTop" fmla="*/ 0 h 988920"/>
                  <a:gd name="textAreaBottom" fmla="*/ 989280 h 98892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flipH="1">
                <a:off x="41400" y="6201000"/>
                <a:ext cx="987120" cy="429480"/>
              </a:xfrm>
              <a:custGeom>
                <a:avLst/>
                <a:gdLst>
                  <a:gd name="textAreaLeft" fmla="*/ 360 w 987120"/>
                  <a:gd name="textAreaRight" fmla="*/ 987840 w 987120"/>
                  <a:gd name="textAreaTop" fmla="*/ 0 h 429480"/>
                  <a:gd name="textAreaBottom" fmla="*/ 429840 h 42948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flipH="1">
                <a:off x="41400" y="5891760"/>
                <a:ext cx="1000080" cy="375840"/>
              </a:xfrm>
              <a:custGeom>
                <a:avLst/>
                <a:gdLst>
                  <a:gd name="textAreaLeft" fmla="*/ 360 w 1000080"/>
                  <a:gd name="textAreaRight" fmla="*/ 1000800 w 100008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21" name="Freeform 23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>
                <a:gd name="textAreaLeft" fmla="*/ 360 w 6858000"/>
                <a:gd name="textAreaRight" fmla="*/ 6858720 w 68580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>
                <a:gd name="textAreaLeft" fmla="*/ -360 w 6856200"/>
                <a:gd name="textAreaRight" fmla="*/ 6856200 w 685620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DF5D-5DE9-486F-8D7C-9779AB64A6B9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Group 3"/>
            <p:cNvGrpSpPr/>
            <p:nvPr/>
          </p:nvGrpSpPr>
          <p:grpSpPr>
            <a:xfrm>
              <a:off x="-3240" y="2479680"/>
              <a:ext cx="9146880" cy="1014120"/>
              <a:chOff x="-3240" y="2479680"/>
              <a:chExt cx="9146880" cy="1014120"/>
            </a:xfrm>
          </p:grpSpPr>
          <p:sp>
            <p:nvSpPr>
              <p:cNvPr id="66" name="Freeform 4"/>
              <p:cNvSpPr/>
              <p:nvPr/>
            </p:nvSpPr>
            <p:spPr>
              <a:xfrm flipH="1" rot="5400000">
                <a:off x="4088880" y="-1575000"/>
                <a:ext cx="990720" cy="91188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9118800"/>
                  <a:gd name="textAreaBottom" fmla="*/ 9119160 h 9118800"/>
                </a:gdLst>
                <a:ahLst/>
                <a:rect l="textAreaLeft" t="textAreaTop" r="textAreaRight" b="textAreaBottom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7" name="Freeform 5"/>
              <p:cNvSpPr/>
              <p:nvPr/>
            </p:nvSpPr>
            <p:spPr>
              <a:xfrm flipH="1" rot="5400000">
                <a:off x="605088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8" name="Freeform 6"/>
              <p:cNvSpPr/>
              <p:nvPr/>
            </p:nvSpPr>
            <p:spPr>
              <a:xfrm flipH="1" rot="5400000">
                <a:off x="658980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9" name="Freeform 7"/>
              <p:cNvSpPr/>
              <p:nvPr/>
            </p:nvSpPr>
            <p:spPr>
              <a:xfrm flipH="1" rot="5400000">
                <a:off x="8241120" y="2782080"/>
                <a:ext cx="990720" cy="40428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0" name="Freeform 8"/>
              <p:cNvSpPr/>
              <p:nvPr/>
            </p:nvSpPr>
            <p:spPr>
              <a:xfrm flipH="1" rot="5400000">
                <a:off x="7094160" y="275112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1" name="Freeform 9"/>
              <p:cNvSpPr/>
              <p:nvPr/>
            </p:nvSpPr>
            <p:spPr>
              <a:xfrm flipH="1" rot="5400000">
                <a:off x="7446600" y="2697120"/>
                <a:ext cx="990720" cy="574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574200"/>
                  <a:gd name="textAreaBottom" fmla="*/ 574560 h 57420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2" name="Freeform 10"/>
              <p:cNvSpPr/>
              <p:nvPr/>
            </p:nvSpPr>
            <p:spPr>
              <a:xfrm flipH="1" rot="5400000">
                <a:off x="7890840" y="2742120"/>
                <a:ext cx="1003320" cy="4996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499680"/>
                  <a:gd name="textAreaBottom" fmla="*/ 500040 h 4996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3" name="Freeform 11"/>
              <p:cNvSpPr/>
              <p:nvPr/>
            </p:nvSpPr>
            <p:spPr>
              <a:xfrm flipH="1" rot="5400000">
                <a:off x="3054240" y="2643840"/>
                <a:ext cx="990360" cy="66780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667800"/>
                  <a:gd name="textAreaBottom" fmla="*/ 668160 h 6678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4" name="Freeform 12"/>
              <p:cNvSpPr/>
              <p:nvPr/>
            </p:nvSpPr>
            <p:spPr>
              <a:xfrm flipH="1" rot="5400000">
                <a:off x="3593520" y="264168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5" name="Freeform 13"/>
              <p:cNvSpPr/>
              <p:nvPr/>
            </p:nvSpPr>
            <p:spPr>
              <a:xfrm flipH="1" rot="5400000">
                <a:off x="5246280" y="2775600"/>
                <a:ext cx="990360" cy="40428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280"/>
                  <a:gd name="textAreaBottom" fmla="*/ 404640 h 40428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6" name="Freeform 14"/>
              <p:cNvSpPr/>
              <p:nvPr/>
            </p:nvSpPr>
            <p:spPr>
              <a:xfrm flipH="1" rot="5400000">
                <a:off x="4098960" y="2743200"/>
                <a:ext cx="990720" cy="4662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466200"/>
                  <a:gd name="textAreaBottom" fmla="*/ 466560 h 4662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7" name="Freeform 15"/>
              <p:cNvSpPr/>
              <p:nvPr/>
            </p:nvSpPr>
            <p:spPr>
              <a:xfrm flipH="1" rot="5400000">
                <a:off x="445248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8" name="Freeform 16"/>
              <p:cNvSpPr/>
              <p:nvPr/>
            </p:nvSpPr>
            <p:spPr>
              <a:xfrm flipH="1" rot="5400000">
                <a:off x="4893120" y="2731680"/>
                <a:ext cx="1003320" cy="50112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120"/>
                  <a:gd name="textAreaBottom" fmla="*/ 501480 h 50112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79" name="Freeform 17"/>
              <p:cNvSpPr/>
              <p:nvPr/>
            </p:nvSpPr>
            <p:spPr>
              <a:xfrm flipH="1" rot="5400000">
                <a:off x="1679760" y="2650320"/>
                <a:ext cx="990720" cy="66816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8160"/>
                  <a:gd name="textAreaBottom" fmla="*/ 668520 h 66816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0" name="Freeform 18"/>
              <p:cNvSpPr/>
              <p:nvPr/>
            </p:nvSpPr>
            <p:spPr>
              <a:xfrm flipH="1" rot="5400000">
                <a:off x="2218680" y="2649600"/>
                <a:ext cx="990720" cy="669600"/>
              </a:xfrm>
              <a:custGeom>
                <a:avLst/>
                <a:gdLst>
                  <a:gd name="textAreaLeft" fmla="*/ 360 w 990720"/>
                  <a:gd name="textAreaRight" fmla="*/ 991440 w 990720"/>
                  <a:gd name="textAreaTop" fmla="*/ 0 h 669600"/>
                  <a:gd name="textAreaBottom" fmla="*/ 669960 h 669600"/>
                </a:gdLst>
                <a:ahLst/>
                <a:rect l="textAreaLeft" t="textAreaTop" r="textAreaRight" b="textAreaBottom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1" name="Freeform 19"/>
              <p:cNvSpPr/>
              <p:nvPr/>
            </p:nvSpPr>
            <p:spPr>
              <a:xfrm flipH="1" rot="5400000">
                <a:off x="875160" y="2775240"/>
                <a:ext cx="990360" cy="40464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2" name="Freeform 20"/>
              <p:cNvSpPr/>
              <p:nvPr/>
            </p:nvSpPr>
            <p:spPr>
              <a:xfrm flipH="1">
                <a:off x="-3240" y="2479680"/>
                <a:ext cx="461520" cy="992160"/>
              </a:xfrm>
              <a:custGeom>
                <a:avLst/>
                <a:gdLst>
                  <a:gd name="textAreaLeft" fmla="*/ 360 w 461520"/>
                  <a:gd name="textAreaRight" fmla="*/ 462240 w 461520"/>
                  <a:gd name="textAreaTop" fmla="*/ 0 h 992160"/>
                  <a:gd name="textAreaBottom" fmla="*/ 992520 h 992160"/>
                </a:gdLst>
                <a:ahLst/>
                <a:rect l="textAreaLeft" t="textAreaTop" r="textAreaRight" b="textAreaBottom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3" name="Freeform 21"/>
              <p:cNvSpPr/>
              <p:nvPr/>
            </p:nvSpPr>
            <p:spPr>
              <a:xfrm flipH="1" rot="5400000">
                <a:off x="81000" y="2691360"/>
                <a:ext cx="990360" cy="572760"/>
              </a:xfrm>
              <a:custGeom>
                <a:avLst/>
                <a:gdLst>
                  <a:gd name="textAreaLeft" fmla="*/ -360 w 990360"/>
                  <a:gd name="textAreaRight" fmla="*/ 990360 w 990360"/>
                  <a:gd name="textAreaTop" fmla="*/ 0 h 572760"/>
                  <a:gd name="textAreaBottom" fmla="*/ 573120 h 572760"/>
                </a:gdLst>
                <a:ahLst/>
                <a:rect l="textAreaLeft" t="textAreaTop" r="textAreaRight" b="textAreaBottom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84" name="Freeform 22"/>
              <p:cNvSpPr/>
              <p:nvPr/>
            </p:nvSpPr>
            <p:spPr>
              <a:xfrm flipH="1" rot="5400000">
                <a:off x="521280" y="2731680"/>
                <a:ext cx="1003320" cy="501480"/>
              </a:xfrm>
              <a:custGeom>
                <a:avLst/>
                <a:gdLst>
                  <a:gd name="textAreaLeft" fmla="*/ -360 w 1003320"/>
                  <a:gd name="textAreaRight" fmla="*/ 1003320 w 1003320"/>
                  <a:gd name="textAreaTop" fmla="*/ 0 h 501480"/>
                  <a:gd name="textAreaBottom" fmla="*/ 501840 h 501480"/>
                </a:gdLst>
                <a:ahLst/>
                <a:rect l="textAreaLeft" t="textAreaTop" r="textAreaRight" b="textAreaBottom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4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sp>
          <p:nvSpPr>
            <p:cNvPr id="85" name="Freeform 23"/>
            <p:cNvSpPr/>
            <p:nvPr/>
          </p:nvSpPr>
          <p:spPr>
            <a:xfrm flipH="1">
              <a:off x="-3960" y="2438280"/>
              <a:ext cx="9145800" cy="654120"/>
            </a:xfrm>
            <a:custGeom>
              <a:avLst/>
              <a:gdLst>
                <a:gd name="textAreaLeft" fmla="*/ -360 w 9145800"/>
                <a:gd name="textAreaRight" fmla="*/ 9145800 w 9145800"/>
                <a:gd name="textAreaTop" fmla="*/ 0 h 654120"/>
                <a:gd name="textAreaBottom" fmla="*/ 654480 h 654120"/>
              </a:gdLst>
              <a:ahLst/>
              <a:rect l="textAreaLeft" t="textAreaTop" r="textAreaRight" b="textAreaBottom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86" name="Freeform 24"/>
            <p:cNvSpPr/>
            <p:nvPr/>
          </p:nvSpPr>
          <p:spPr>
            <a:xfrm flipH="1">
              <a:off x="-3960" y="3201840"/>
              <a:ext cx="9144360" cy="300240"/>
            </a:xfrm>
            <a:custGeom>
              <a:avLst/>
              <a:gdLst>
                <a:gd name="textAreaLeft" fmla="*/ -360 w 9144360"/>
                <a:gd name="textAreaRight" fmla="*/ 9144360 w 9144360"/>
                <a:gd name="textAreaTop" fmla="*/ 0 h 300240"/>
                <a:gd name="textAreaBottom" fmla="*/ 300600 h 300240"/>
              </a:gdLst>
              <a:ahLst/>
              <a:rect l="textAreaLeft" t="textAreaTop" r="textAreaRight" b="textAreaBottom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4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94C2-2330-458E-B3EF-700E225DB3BB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oleObject" Target="../embeddings/oleObject1.bin"/><Relationship Id="rId12" Type="http://schemas.openxmlformats.org/officeDocument/2006/relationships/image" Target="../media/image9.png"/><Relationship Id="rId13" Type="http://schemas.openxmlformats.org/officeDocument/2006/relationships/oleObject" Target="../embeddings/oleObject2.bin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"/>
          <p:cNvPicPr/>
          <p:nvPr/>
        </p:nvPicPr>
        <p:blipFill>
          <a:blip r:embed="rId1"/>
          <a:stretch/>
        </p:blipFill>
        <p:spPr>
          <a:xfrm>
            <a:off x="1295280" y="30492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"/>
          <p:cNvPicPr/>
          <p:nvPr/>
        </p:nvPicPr>
        <p:blipFill>
          <a:blip r:embed="rId2"/>
          <a:stretch/>
        </p:blipFill>
        <p:spPr>
          <a:xfrm>
            <a:off x="3124080" y="380880"/>
            <a:ext cx="1710000" cy="6922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"/>
          <p:cNvPicPr/>
          <p:nvPr/>
        </p:nvPicPr>
        <p:blipFill>
          <a:blip r:embed="rId3"/>
          <a:stretch/>
        </p:blipFill>
        <p:spPr>
          <a:xfrm>
            <a:off x="5257800" y="22860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"/>
          <p:cNvPicPr/>
          <p:nvPr/>
        </p:nvPicPr>
        <p:blipFill>
          <a:blip r:embed="rId4"/>
          <a:stretch/>
        </p:blipFill>
        <p:spPr>
          <a:xfrm>
            <a:off x="7086600" y="304920"/>
            <a:ext cx="1219320" cy="77292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10"/>
          <p:cNvSpPr/>
          <p:nvPr/>
        </p:nvSpPr>
        <p:spPr>
          <a:xfrm>
            <a:off x="1714680" y="2286000"/>
            <a:ext cx="613404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600" spc="-1" strike="noStrike">
                <a:solidFill>
                  <a:srgbClr val="1f497d"/>
                </a:solidFill>
                <a:latin typeface="Century Schoolbook"/>
              </a:rPr>
              <a:t>InnoNauTICs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5"/>
          <a:stretch/>
        </p:blipFill>
        <p:spPr>
          <a:xfrm>
            <a:off x="5486400" y="5029200"/>
            <a:ext cx="2262240" cy="7300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12"/>
          <p:cNvSpPr/>
          <p:nvPr/>
        </p:nvSpPr>
        <p:spPr>
          <a:xfrm>
            <a:off x="1523880" y="441972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                                    </a:t>
            </a:r>
            <a:r>
              <a:rPr b="0" lang="it-IT" sz="2400" spc="-1" strike="noStrike">
                <a:solidFill>
                  <a:srgbClr val="003366"/>
                </a:solidFill>
                <a:latin typeface="Times New Roman"/>
              </a:rPr>
              <a:t>Camera di Commercio di Cagliari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90a8"/>
                </a:solidFill>
                <a:latin typeface="Verdana"/>
                <a:ea typeface="Times New Roman"/>
              </a:rPr>
              <a:t>Lo Skipper animatore è una figura professionale che unisce le capacità di conduzione del mezzo nautico alla conoscenza del patrimonio naturalistico e storico: il tutto a vantaggio dello sviluppo di un turismo alternativo.</a:t>
            </a:r>
            <a:r>
              <a:rPr b="0" lang="it-IT" sz="3200" spc="-1" strike="noStrike">
                <a:solidFill>
                  <a:srgbClr val="000000"/>
                </a:solidFill>
                <a:latin typeface="Verdana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490a8"/>
                </a:solidFill>
                <a:latin typeface="Verdana"/>
                <a:ea typeface="Times New Roman"/>
              </a:rPr>
              <a:t>Le Skipper animateur est une figure professionnelle qui unit les capacités de conduite des moyens nautiques avec la connaissance du patrimoine naturel et historique: tout à avantage du développement d’un tourisme diver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90a8"/>
                </a:solidFill>
                <a:latin typeface="Arial"/>
              </a:rPr>
              <a:t>Due corsi di form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490a8"/>
                </a:solidFill>
                <a:latin typeface="Arial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490a8"/>
                </a:solidFill>
                <a:latin typeface="Arial"/>
              </a:rPr>
              <a:t>              </a:t>
            </a:r>
            <a:r>
              <a:rPr b="0" lang="it-IT" sz="1600" spc="-1" strike="noStrike">
                <a:solidFill>
                  <a:srgbClr val="5490a8"/>
                </a:solidFill>
                <a:latin typeface="Arial"/>
              </a:rPr>
              <a:t>Studenti dell’Istituto Nautico                             Operatori del setto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490a8"/>
                </a:solidFill>
                <a:latin typeface="Arial"/>
              </a:rPr>
              <a:t>                    “</a:t>
            </a:r>
            <a:r>
              <a:rPr b="0" lang="it-IT" sz="1600" spc="-1" strike="noStrike">
                <a:solidFill>
                  <a:srgbClr val="5490a8"/>
                </a:solidFill>
                <a:latin typeface="Arial"/>
              </a:rPr>
              <a:t>Buccari” di Caglia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"/>
          <p:cNvPicPr/>
          <p:nvPr/>
        </p:nvPicPr>
        <p:blipFill>
          <a:blip r:embed="rId5"/>
          <a:stretch/>
        </p:blipFill>
        <p:spPr>
          <a:xfrm>
            <a:off x="3657600" y="3200400"/>
            <a:ext cx="474840" cy="4748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9" descr=""/>
          <p:cNvPicPr/>
          <p:nvPr/>
        </p:nvPicPr>
        <p:blipFill>
          <a:blip r:embed="rId6"/>
          <a:stretch/>
        </p:blipFill>
        <p:spPr>
          <a:xfrm>
            <a:off x="3352680" y="3581280"/>
            <a:ext cx="474840" cy="47484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1" descr=""/>
          <p:cNvPicPr/>
          <p:nvPr/>
        </p:nvPicPr>
        <p:blipFill>
          <a:blip r:embed="rId7"/>
          <a:stretch/>
        </p:blipFill>
        <p:spPr>
          <a:xfrm>
            <a:off x="3962520" y="2819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3" descr=""/>
          <p:cNvPicPr/>
          <p:nvPr/>
        </p:nvPicPr>
        <p:blipFill>
          <a:blip r:embed="rId8"/>
          <a:stretch/>
        </p:blipFill>
        <p:spPr>
          <a:xfrm>
            <a:off x="5486400" y="2895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4" descr=""/>
          <p:cNvPicPr/>
          <p:nvPr/>
        </p:nvPicPr>
        <p:blipFill>
          <a:blip r:embed="rId9"/>
          <a:stretch/>
        </p:blipFill>
        <p:spPr>
          <a:xfrm>
            <a:off x="5791320" y="3276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5" descr=""/>
          <p:cNvPicPr/>
          <p:nvPr/>
        </p:nvPicPr>
        <p:blipFill>
          <a:blip r:embed="rId10"/>
          <a:stretch/>
        </p:blipFill>
        <p:spPr>
          <a:xfrm>
            <a:off x="6095880" y="3657600"/>
            <a:ext cx="45720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Object 19"/>
          <p:cNvGraphicFramePr/>
          <p:nvPr/>
        </p:nvGraphicFramePr>
        <p:xfrm>
          <a:off x="2514600" y="4800600"/>
          <a:ext cx="1822320" cy="173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3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4800600"/>
                    <a:ext cx="182232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20"/>
          <p:cNvGraphicFramePr/>
          <p:nvPr/>
        </p:nvGraphicFramePr>
        <p:xfrm>
          <a:off x="6248520" y="4495680"/>
          <a:ext cx="1844640" cy="2133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5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4495680"/>
                    <a:ext cx="18446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90a8"/>
                </a:solidFill>
                <a:latin typeface="Arial"/>
              </a:rPr>
              <a:t>Deux cours de 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490a8"/>
                </a:solidFill>
                <a:latin typeface="Arial"/>
              </a:rPr>
              <a:t>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490a8"/>
                </a:solidFill>
                <a:latin typeface="Arial"/>
              </a:rPr>
              <a:t>              </a:t>
            </a:r>
            <a:r>
              <a:rPr b="0" lang="it-IT" sz="1600" spc="-1" strike="noStrike">
                <a:solidFill>
                  <a:srgbClr val="5490a8"/>
                </a:solidFill>
                <a:latin typeface="Arial"/>
              </a:rPr>
              <a:t>Elèves Etablissement Nautique                             Operateurs du secteu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5490a8"/>
                </a:solidFill>
                <a:latin typeface="Arial"/>
              </a:rPr>
              <a:t>                    “</a:t>
            </a:r>
            <a:r>
              <a:rPr b="0" lang="it-IT" sz="1600" spc="-1" strike="noStrike">
                <a:solidFill>
                  <a:srgbClr val="5490a8"/>
                </a:solidFill>
                <a:latin typeface="Arial"/>
              </a:rPr>
              <a:t>Buccari” de Caglia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8" descr=""/>
          <p:cNvPicPr/>
          <p:nvPr/>
        </p:nvPicPr>
        <p:blipFill>
          <a:blip r:embed="rId5"/>
          <a:stretch/>
        </p:blipFill>
        <p:spPr>
          <a:xfrm>
            <a:off x="3657600" y="3200400"/>
            <a:ext cx="474840" cy="4748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9" descr=""/>
          <p:cNvPicPr/>
          <p:nvPr/>
        </p:nvPicPr>
        <p:blipFill>
          <a:blip r:embed="rId6"/>
          <a:stretch/>
        </p:blipFill>
        <p:spPr>
          <a:xfrm>
            <a:off x="3352680" y="3581280"/>
            <a:ext cx="474840" cy="4748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1" descr=""/>
          <p:cNvPicPr/>
          <p:nvPr/>
        </p:nvPicPr>
        <p:blipFill>
          <a:blip r:embed="rId7"/>
          <a:stretch/>
        </p:blipFill>
        <p:spPr>
          <a:xfrm>
            <a:off x="3962520" y="28195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3" descr=""/>
          <p:cNvPicPr/>
          <p:nvPr/>
        </p:nvPicPr>
        <p:blipFill>
          <a:blip r:embed="rId8"/>
          <a:stretch/>
        </p:blipFill>
        <p:spPr>
          <a:xfrm>
            <a:off x="5486400" y="2895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4" descr=""/>
          <p:cNvPicPr/>
          <p:nvPr/>
        </p:nvPicPr>
        <p:blipFill>
          <a:blip r:embed="rId9"/>
          <a:stretch/>
        </p:blipFill>
        <p:spPr>
          <a:xfrm>
            <a:off x="5791320" y="3276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5" descr=""/>
          <p:cNvPicPr/>
          <p:nvPr/>
        </p:nvPicPr>
        <p:blipFill>
          <a:blip r:embed="rId10"/>
          <a:stretch/>
        </p:blipFill>
        <p:spPr>
          <a:xfrm>
            <a:off x="6095880" y="3657600"/>
            <a:ext cx="457200" cy="457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7" name="Object 19"/>
          <p:cNvGraphicFramePr/>
          <p:nvPr/>
        </p:nvGraphicFramePr>
        <p:xfrm>
          <a:off x="2514600" y="4800600"/>
          <a:ext cx="1822320" cy="1738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8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514600" y="4800600"/>
                    <a:ext cx="182232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Object 20"/>
          <p:cNvGraphicFramePr/>
          <p:nvPr/>
        </p:nvGraphicFramePr>
        <p:xfrm>
          <a:off x="6248520" y="4495680"/>
          <a:ext cx="1844640" cy="2133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0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248520" y="4495680"/>
                    <a:ext cx="18446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Univers LT Std 57 Cn"/>
                <a:ea typeface="Times New Roman"/>
              </a:rPr>
              <a:t>Informazioni generali sui cor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90a8"/>
                </a:solidFill>
                <a:latin typeface="Arial"/>
              </a:rPr>
              <a:t>I corsi si sono svolti dall’ 8 al 24 ottobr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90a8"/>
                </a:solidFill>
                <a:latin typeface="Arial"/>
              </a:rPr>
              <a:t>Ogni corso ha avuto la durata complessiva di 50 ore di form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90a8"/>
                </a:solidFill>
                <a:latin typeface="Arial"/>
              </a:rPr>
              <a:t>Hanno partecipato ai cors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90a8"/>
                </a:solidFill>
                <a:latin typeface="Arial"/>
              </a:rPr>
              <a:t>20 studenti dell’Istituto Nautico “Buccar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5490a8"/>
                </a:solidFill>
                <a:latin typeface="Arial"/>
              </a:rPr>
              <a:t>30 operatori del set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Univers LT Std 57 Cn"/>
                <a:ea typeface="Times New Roman"/>
              </a:rPr>
              <a:t>Information générale sur les co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490a8"/>
                </a:solidFill>
                <a:latin typeface="Arial"/>
              </a:rPr>
              <a:t>Les cours ont eu lieu du 8 au 24 Octobre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490a8"/>
                </a:solidFill>
                <a:latin typeface="Arial"/>
              </a:rPr>
              <a:t>Chaque cours est duré 50 heures de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490a8"/>
                </a:solidFill>
                <a:latin typeface="Arial"/>
              </a:rPr>
              <a:t>Ont pris partie aux cour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490a8"/>
                </a:solidFill>
                <a:latin typeface="Arial"/>
              </a:rPr>
              <a:t>20 élèves de l’Ecole Nautique “Buccar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5490a8"/>
                </a:solidFill>
                <a:latin typeface="Arial"/>
              </a:rPr>
              <a:t>30 operateurs du sec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Univers LT Std 57 Cn"/>
                <a:ea typeface="Times New Roman"/>
              </a:rPr>
              <a:t>Materie dei cors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Biologia marin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Psicologia di gruppo, comunicazione e team buil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Comandante motoryach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Skipper sailingboa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Lavoro sugli yacht - Caratteristiche e potenzialit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Univers LT Std 57 Cn"/>
                <a:ea typeface="Times New Roman"/>
              </a:rPr>
              <a:t>Matières des cour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Biologie marin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Psychologie de group, communication et team buildin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Commandant motoryach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Skipper sailingboa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99c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Emploi sur les yachts – caractéristiques et potentialité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Programma biologia mar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sp>
        <p:nvSpPr>
          <p:cNvPr id="247" name="WordArt 9"/>
          <p:cNvSpPr txBox="1"/>
          <p:nvPr/>
        </p:nvSpPr>
        <p:spPr>
          <a:xfrm>
            <a:off x="1523880" y="4267080"/>
            <a:ext cx="2143080" cy="49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 Black"/>
              </a:rPr>
              <a:t>Cos'è la biologia marina...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 Black"/>
              <a:ea typeface="Arial Black"/>
            </a:endParaRPr>
          </a:p>
        </p:txBody>
      </p:sp>
      <p:sp>
        <p:nvSpPr>
          <p:cNvPr id="248" name="WordArt 10"/>
          <p:cNvSpPr txBox="1"/>
          <p:nvPr/>
        </p:nvSpPr>
        <p:spPr>
          <a:xfrm rot="1582200">
            <a:off x="3048120" y="4419720"/>
            <a:ext cx="5324400" cy="49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 Black"/>
              </a:rPr>
              <a:t>Caratteristiche oceanografiche ed evoluzione del Mediterraneo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 Black"/>
              <a:ea typeface="Arial Black"/>
            </a:endParaRPr>
          </a:p>
        </p:txBody>
      </p:sp>
      <p:sp>
        <p:nvSpPr>
          <p:cNvPr id="249" name="WordArt 12"/>
          <p:cNvSpPr txBox="1"/>
          <p:nvPr/>
        </p:nvSpPr>
        <p:spPr>
          <a:xfrm>
            <a:off x="6019920" y="5867280"/>
            <a:ext cx="26859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Introduzione all’ecologi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250" name="WordArt 13"/>
          <p:cNvSpPr txBox="1"/>
          <p:nvPr/>
        </p:nvSpPr>
        <p:spPr>
          <a:xfrm>
            <a:off x="1219320" y="2819520"/>
            <a:ext cx="451476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la catena trofica e relazioni tra organismi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251" name="WordArt 14"/>
          <p:cNvSpPr txBox="1"/>
          <p:nvPr/>
        </p:nvSpPr>
        <p:spPr>
          <a:xfrm>
            <a:off x="4114800" y="3124080"/>
            <a:ext cx="459108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gli animali marini e il loro ruolo ecologico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52" name="WordArt 15"/>
          <p:cNvSpPr txBox="1"/>
          <p:nvPr/>
        </p:nvSpPr>
        <p:spPr>
          <a:xfrm>
            <a:off x="1295280" y="5867280"/>
            <a:ext cx="406728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’incontro e lo studio dei cetacei in mar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53" name="WordArt 16"/>
          <p:cNvSpPr txBox="1"/>
          <p:nvPr/>
        </p:nvSpPr>
        <p:spPr>
          <a:xfrm>
            <a:off x="990720" y="5029200"/>
            <a:ext cx="513396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Cenni sulle caratteristiche fisico-chimiche del mar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254" name="WordArt 17"/>
          <p:cNvSpPr txBox="1"/>
          <p:nvPr/>
        </p:nvSpPr>
        <p:spPr>
          <a:xfrm>
            <a:off x="6705720" y="3733920"/>
            <a:ext cx="202860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L’ambiente marin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73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Programme biologie mar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sp>
        <p:nvSpPr>
          <p:cNvPr id="261" name="WordArt 9"/>
          <p:cNvSpPr txBox="1"/>
          <p:nvPr/>
        </p:nvSpPr>
        <p:spPr>
          <a:xfrm>
            <a:off x="1285920" y="4267080"/>
            <a:ext cx="2381040" cy="59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8000"/>
                </a:solidFill>
                <a:latin typeface="Arial Black"/>
              </a:rPr>
              <a:t>C’est quoi la biologie marine...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808000"/>
              </a:solidFill>
              <a:latin typeface="Arial Black"/>
              <a:ea typeface="Arial Black"/>
            </a:endParaRPr>
          </a:p>
        </p:txBody>
      </p:sp>
      <p:sp>
        <p:nvSpPr>
          <p:cNvPr id="262" name="WordArt 10"/>
          <p:cNvSpPr txBox="1"/>
          <p:nvPr/>
        </p:nvSpPr>
        <p:spPr>
          <a:xfrm rot="1582200">
            <a:off x="2862000" y="4376880"/>
            <a:ext cx="5481720" cy="66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 Black"/>
              </a:rPr>
              <a:t>Caracteristiques océanographiques et écolution de la Méditerranéenne</a:t>
            </a:r>
            <a:endParaRPr b="0" lang="en-US" sz="12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 Black"/>
              <a:ea typeface="Arial Black"/>
            </a:endParaRPr>
          </a:p>
        </p:txBody>
      </p:sp>
      <p:sp>
        <p:nvSpPr>
          <p:cNvPr id="263" name="WordArt 12"/>
          <p:cNvSpPr txBox="1"/>
          <p:nvPr/>
        </p:nvSpPr>
        <p:spPr>
          <a:xfrm>
            <a:off x="6019920" y="5867280"/>
            <a:ext cx="26859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cc"/>
                </a:solidFill>
                <a:latin typeface="Arial Black"/>
              </a:rPr>
              <a:t>Introduction à l’écologie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99cc"/>
              </a:solidFill>
              <a:latin typeface="Arial Black"/>
              <a:ea typeface="Arial Black"/>
            </a:endParaRPr>
          </a:p>
        </p:txBody>
      </p:sp>
      <p:sp>
        <p:nvSpPr>
          <p:cNvPr id="264" name="WordArt 13"/>
          <p:cNvSpPr txBox="1"/>
          <p:nvPr/>
        </p:nvSpPr>
        <p:spPr>
          <a:xfrm>
            <a:off x="1219320" y="2819520"/>
            <a:ext cx="451476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la chaine trophique et relations entre organismes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265" name="WordArt 14"/>
          <p:cNvSpPr txBox="1"/>
          <p:nvPr/>
        </p:nvSpPr>
        <p:spPr>
          <a:xfrm>
            <a:off x="4114800" y="3124080"/>
            <a:ext cx="459108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Les animaux marins et le role écologique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266" name="WordArt 15"/>
          <p:cNvSpPr txBox="1"/>
          <p:nvPr/>
        </p:nvSpPr>
        <p:spPr>
          <a:xfrm>
            <a:off x="1295280" y="5867280"/>
            <a:ext cx="406728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La rencontre et l’étude des cétacés en mer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267" name="WordArt 16"/>
          <p:cNvSpPr txBox="1"/>
          <p:nvPr/>
        </p:nvSpPr>
        <p:spPr>
          <a:xfrm>
            <a:off x="990720" y="5029200"/>
            <a:ext cx="5133960" cy="57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Caracteristiques physiques et chimiques de la mer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268" name="WordArt 17"/>
          <p:cNvSpPr txBox="1"/>
          <p:nvPr/>
        </p:nvSpPr>
        <p:spPr>
          <a:xfrm>
            <a:off x="6705720" y="3733920"/>
            <a:ext cx="202860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latin typeface="Arial Black"/>
              </a:rPr>
              <a:t>Le context marin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cc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InnoNauTICs:</a:t>
            </a:r>
            <a:r>
              <a:rPr b="0" lang="it-IT" sz="2800" spc="-1" strike="noStrike" u="sng">
                <a:solidFill>
                  <a:srgbClr val="3366cc"/>
                </a:solidFill>
                <a:uFillTx/>
                <a:latin typeface="Univers LT Std 57 C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progetto di cooperazione transnaz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Obiettivo principale:</a:t>
            </a:r>
            <a:r>
              <a:rPr b="0" lang="it-IT" sz="2800" spc="-1" strike="noStrike">
                <a:solidFill>
                  <a:srgbClr val="003366"/>
                </a:solidFill>
                <a:latin typeface="Univers LT Std 57 C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sviluppo di una piattaforma on line per l'incontro diretto tra le imprese del settore ed i potenziali utent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www.nauticaleurop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8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Programma psicologia di gruppo, comunicazione e team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sp>
        <p:nvSpPr>
          <p:cNvPr id="274" name="WordArt 10"/>
          <p:cNvSpPr txBox="1"/>
          <p:nvPr/>
        </p:nvSpPr>
        <p:spPr>
          <a:xfrm>
            <a:off x="1447920" y="2971800"/>
            <a:ext cx="2295360" cy="552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Definizione di grupp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275" name="WordArt 11"/>
          <p:cNvSpPr txBox="1"/>
          <p:nvPr/>
        </p:nvSpPr>
        <p:spPr>
          <a:xfrm>
            <a:off x="5867280" y="3048120"/>
            <a:ext cx="286704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 Black"/>
              </a:rPr>
              <a:t>Perché si formano i gruppi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 Black"/>
              <a:ea typeface="Arial Black"/>
            </a:endParaRPr>
          </a:p>
        </p:txBody>
      </p:sp>
      <p:sp>
        <p:nvSpPr>
          <p:cNvPr id="276" name="WordArt 12"/>
          <p:cNvSpPr txBox="1"/>
          <p:nvPr/>
        </p:nvSpPr>
        <p:spPr>
          <a:xfrm>
            <a:off x="1905120" y="3733920"/>
            <a:ext cx="255276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e dinamiche di grupp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77" name="WordArt 13"/>
          <p:cNvSpPr txBox="1"/>
          <p:nvPr/>
        </p:nvSpPr>
        <p:spPr>
          <a:xfrm>
            <a:off x="5029200" y="3657600"/>
            <a:ext cx="397188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Il conflitto intragruppo e intergrupp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</p:txBody>
      </p:sp>
      <p:sp>
        <p:nvSpPr>
          <p:cNvPr id="278" name="WordArt 14"/>
          <p:cNvSpPr txBox="1"/>
          <p:nvPr/>
        </p:nvSpPr>
        <p:spPr>
          <a:xfrm rot="21315000">
            <a:off x="1371600" y="4495680"/>
            <a:ext cx="6343560" cy="257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Modalità per incentivare la collaborazione all’interno del gruppo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279" name="WordArt 15"/>
          <p:cNvSpPr txBox="1"/>
          <p:nvPr/>
        </p:nvSpPr>
        <p:spPr>
          <a:xfrm rot="21517200">
            <a:off x="3124080" y="5028840"/>
            <a:ext cx="5410440" cy="25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</a:rPr>
              <a:t>Specifico psicologico del gruppo che si forma in barca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 Black"/>
              <a:ea typeface="Arial Black"/>
            </a:endParaRPr>
          </a:p>
        </p:txBody>
      </p:sp>
      <p:sp>
        <p:nvSpPr>
          <p:cNvPr id="280" name="WordArt 16"/>
          <p:cNvSpPr txBox="1"/>
          <p:nvPr/>
        </p:nvSpPr>
        <p:spPr>
          <a:xfrm>
            <a:off x="1066680" y="5638680"/>
            <a:ext cx="3743280" cy="276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osa s’intende per comunicazion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281" name="WordArt 17"/>
          <p:cNvSpPr txBox="1"/>
          <p:nvPr/>
        </p:nvSpPr>
        <p:spPr>
          <a:xfrm>
            <a:off x="1447920" y="6400800"/>
            <a:ext cx="370512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Gli elementi della comunicazione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82" name="WordArt 18"/>
          <p:cNvSpPr txBox="1"/>
          <p:nvPr/>
        </p:nvSpPr>
        <p:spPr>
          <a:xfrm rot="21291000">
            <a:off x="4267080" y="5866920"/>
            <a:ext cx="4648320" cy="276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Gli aspetti relazionali della comunicazion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117324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Programme psychologie de groupe, communication et team buil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sp>
        <p:nvSpPr>
          <p:cNvPr id="288" name="WordArt 10"/>
          <p:cNvSpPr txBox="1"/>
          <p:nvPr/>
        </p:nvSpPr>
        <p:spPr>
          <a:xfrm>
            <a:off x="1447920" y="2971800"/>
            <a:ext cx="2295360" cy="5526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Definition de groupe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289" name="WordArt 11"/>
          <p:cNvSpPr txBox="1"/>
          <p:nvPr/>
        </p:nvSpPr>
        <p:spPr>
          <a:xfrm>
            <a:off x="5867280" y="3048120"/>
            <a:ext cx="286704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 Black"/>
              </a:rPr>
              <a:t>Pourquoi se forment les groupes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 Black"/>
              <a:ea typeface="Arial Black"/>
            </a:endParaRPr>
          </a:p>
        </p:txBody>
      </p:sp>
      <p:sp>
        <p:nvSpPr>
          <p:cNvPr id="290" name="WordArt 12"/>
          <p:cNvSpPr txBox="1"/>
          <p:nvPr/>
        </p:nvSpPr>
        <p:spPr>
          <a:xfrm>
            <a:off x="1905120" y="3733920"/>
            <a:ext cx="255276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Arial Black"/>
              </a:rPr>
              <a:t>Les dinamiques de group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Arial Black"/>
              <a:ea typeface="Arial Black"/>
            </a:endParaRPr>
          </a:p>
        </p:txBody>
      </p:sp>
      <p:sp>
        <p:nvSpPr>
          <p:cNvPr id="291" name="WordArt 13"/>
          <p:cNvSpPr txBox="1"/>
          <p:nvPr/>
        </p:nvSpPr>
        <p:spPr>
          <a:xfrm>
            <a:off x="5029200" y="3657600"/>
            <a:ext cx="397188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Le conflit inter et intra group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</p:txBody>
      </p:sp>
      <p:sp>
        <p:nvSpPr>
          <p:cNvPr id="292" name="WordArt 14"/>
          <p:cNvSpPr txBox="1"/>
          <p:nvPr/>
        </p:nvSpPr>
        <p:spPr>
          <a:xfrm rot="21315000">
            <a:off x="1371600" y="4495680"/>
            <a:ext cx="6343560" cy="257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latin typeface="Arial Black"/>
              </a:rPr>
              <a:t>Modalité pour favoriser la collaboration à l’intérieur du group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latin typeface="Arial Black"/>
              <a:ea typeface="Arial Black"/>
            </a:endParaRPr>
          </a:p>
        </p:txBody>
      </p:sp>
      <p:sp>
        <p:nvSpPr>
          <p:cNvPr id="293" name="WordArt 15"/>
          <p:cNvSpPr txBox="1"/>
          <p:nvPr/>
        </p:nvSpPr>
        <p:spPr>
          <a:xfrm rot="21517200">
            <a:off x="3124080" y="5028840"/>
            <a:ext cx="5410440" cy="2570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8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</a:rPr>
              <a:t>Psychologie de groupe qui se forme en bateau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 Black"/>
              <a:ea typeface="Arial Black"/>
            </a:endParaRPr>
          </a:p>
        </p:txBody>
      </p:sp>
      <p:sp>
        <p:nvSpPr>
          <p:cNvPr id="294" name="WordArt 16"/>
          <p:cNvSpPr txBox="1"/>
          <p:nvPr/>
        </p:nvSpPr>
        <p:spPr>
          <a:xfrm>
            <a:off x="1066680" y="5638680"/>
            <a:ext cx="3743280" cy="276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De quoi il s’agit la communication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295" name="WordArt 17"/>
          <p:cNvSpPr txBox="1"/>
          <p:nvPr/>
        </p:nvSpPr>
        <p:spPr>
          <a:xfrm>
            <a:off x="1447920" y="6400800"/>
            <a:ext cx="370512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Les élements de la communication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296" name="WordArt 18"/>
          <p:cNvSpPr txBox="1"/>
          <p:nvPr/>
        </p:nvSpPr>
        <p:spPr>
          <a:xfrm rot="21291000">
            <a:off x="4289400" y="5779800"/>
            <a:ext cx="464832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6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ff"/>
                </a:solidFill>
                <a:latin typeface="Arial Black"/>
              </a:rPr>
              <a:t>Les aspects relationnelles de la communication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cc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Programma comandante motory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sp>
        <p:nvSpPr>
          <p:cNvPr id="302" name="WordArt 8"/>
          <p:cNvSpPr txBox="1"/>
          <p:nvPr/>
        </p:nvSpPr>
        <p:spPr>
          <a:xfrm rot="21010200">
            <a:off x="4952520" y="4266720"/>
            <a:ext cx="282888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Competenze professionali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03" name="WordArt 9"/>
          <p:cNvSpPr txBox="1"/>
          <p:nvPr/>
        </p:nvSpPr>
        <p:spPr>
          <a:xfrm rot="21042000">
            <a:off x="2819520" y="5486400"/>
            <a:ext cx="29145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Caratteristiche dello yach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304" name="WordArt 10"/>
          <p:cNvSpPr txBox="1"/>
          <p:nvPr/>
        </p:nvSpPr>
        <p:spPr>
          <a:xfrm rot="20976000">
            <a:off x="1676160" y="5181480"/>
            <a:ext cx="202860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 Black"/>
              </a:rPr>
              <a:t>Equipaggaiament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 Black"/>
              <a:ea typeface="Arial Black"/>
            </a:endParaRPr>
          </a:p>
        </p:txBody>
      </p:sp>
      <p:sp>
        <p:nvSpPr>
          <p:cNvPr id="305" name="WordArt 11"/>
          <p:cNvSpPr txBox="1"/>
          <p:nvPr/>
        </p:nvSpPr>
        <p:spPr>
          <a:xfrm rot="20759400">
            <a:off x="4572000" y="5562720"/>
            <a:ext cx="427680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</a:rPr>
              <a:t>Scelta delle rotte, dei porti e delle rad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 Black"/>
              <a:ea typeface="Arial Black"/>
            </a:endParaRPr>
          </a:p>
        </p:txBody>
      </p:sp>
      <p:sp>
        <p:nvSpPr>
          <p:cNvPr id="306" name="WordArt 12"/>
          <p:cNvSpPr txBox="1"/>
          <p:nvPr/>
        </p:nvSpPr>
        <p:spPr>
          <a:xfrm rot="20841600">
            <a:off x="1981080" y="4038120"/>
            <a:ext cx="38005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rogrammazione della navigazion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307" name="WordArt 13"/>
          <p:cNvSpPr txBox="1"/>
          <p:nvPr/>
        </p:nvSpPr>
        <p:spPr>
          <a:xfrm rot="21301200">
            <a:off x="1066680" y="2971440"/>
            <a:ext cx="77533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 Black"/>
              </a:rPr>
              <a:t>Porti e concentrazione delle strutture ricetttive delle località turistich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Programme commandant motorya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sp>
        <p:nvSpPr>
          <p:cNvPr id="313" name="WordArt 8"/>
          <p:cNvSpPr txBox="1"/>
          <p:nvPr/>
        </p:nvSpPr>
        <p:spPr>
          <a:xfrm rot="21010200">
            <a:off x="4952520" y="4266720"/>
            <a:ext cx="282888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latin typeface="Arial Black"/>
              </a:rPr>
              <a:t>Compétences professionnelles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ff"/>
              </a:solidFill>
              <a:latin typeface="Arial Black"/>
              <a:ea typeface="Arial Black"/>
            </a:endParaRPr>
          </a:p>
        </p:txBody>
      </p:sp>
      <p:sp>
        <p:nvSpPr>
          <p:cNvPr id="314" name="WordArt 9"/>
          <p:cNvSpPr txBox="1"/>
          <p:nvPr/>
        </p:nvSpPr>
        <p:spPr>
          <a:xfrm rot="21042000">
            <a:off x="2819520" y="5486400"/>
            <a:ext cx="29145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Caracteristiques du yach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315" name="WordArt 10"/>
          <p:cNvSpPr txBox="1"/>
          <p:nvPr/>
        </p:nvSpPr>
        <p:spPr>
          <a:xfrm rot="20976000">
            <a:off x="1676160" y="5181480"/>
            <a:ext cx="202860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cc"/>
                </a:solidFill>
                <a:latin typeface="Arial Black"/>
              </a:rPr>
              <a:t>Equipement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cc"/>
              </a:solidFill>
              <a:latin typeface="Arial Black"/>
              <a:ea typeface="Arial Black"/>
            </a:endParaRPr>
          </a:p>
        </p:txBody>
      </p:sp>
      <p:sp>
        <p:nvSpPr>
          <p:cNvPr id="316" name="WordArt 11"/>
          <p:cNvSpPr txBox="1"/>
          <p:nvPr/>
        </p:nvSpPr>
        <p:spPr>
          <a:xfrm rot="20759400">
            <a:off x="4572000" y="5562720"/>
            <a:ext cx="4276800" cy="62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</a:rPr>
              <a:t>Choix des routes, des ports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 Black"/>
              <a:ea typeface="Arial Black"/>
            </a:endParaRPr>
          </a:p>
        </p:txBody>
      </p:sp>
      <p:sp>
        <p:nvSpPr>
          <p:cNvPr id="317" name="WordArt 12"/>
          <p:cNvSpPr txBox="1"/>
          <p:nvPr/>
        </p:nvSpPr>
        <p:spPr>
          <a:xfrm rot="20841600">
            <a:off x="1981080" y="4038120"/>
            <a:ext cx="38005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Programmation de la navigation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318" name="WordArt 13"/>
          <p:cNvSpPr txBox="1"/>
          <p:nvPr/>
        </p:nvSpPr>
        <p:spPr>
          <a:xfrm rot="21301200">
            <a:off x="1066680" y="2971440"/>
            <a:ext cx="775332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Arial Black"/>
              </a:rPr>
              <a:t>Ports et concentration des structures des localités touristiques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Programma Skipper sailingb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sp>
        <p:nvSpPr>
          <p:cNvPr id="324" name="WordArt 8"/>
          <p:cNvSpPr txBox="1"/>
          <p:nvPr/>
        </p:nvSpPr>
        <p:spPr>
          <a:xfrm>
            <a:off x="2057400" y="2743200"/>
            <a:ext cx="52293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CREAZIONE DI ITINERARI TURISTICI E NAUTICI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325" name="WordArt 9"/>
          <p:cNvSpPr txBox="1"/>
          <p:nvPr/>
        </p:nvSpPr>
        <p:spPr>
          <a:xfrm>
            <a:off x="4343400" y="3962520"/>
            <a:ext cx="416232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Scelta della barca – tipologia – client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26" name="WordArt 10"/>
          <p:cNvSpPr txBox="1"/>
          <p:nvPr/>
        </p:nvSpPr>
        <p:spPr>
          <a:xfrm>
            <a:off x="1676520" y="4267080"/>
            <a:ext cx="3647880" cy="276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rganizzazione itinerario – mete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327" name="WordArt 11"/>
          <p:cNvSpPr txBox="1"/>
          <p:nvPr/>
        </p:nvSpPr>
        <p:spPr>
          <a:xfrm>
            <a:off x="2209680" y="4724280"/>
            <a:ext cx="6591600" cy="276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Creazione itinerari turistici e nautici SUD e OVEST Sardegn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28" name="WordArt 12"/>
          <p:cNvSpPr txBox="1"/>
          <p:nvPr/>
        </p:nvSpPr>
        <p:spPr>
          <a:xfrm>
            <a:off x="1828800" y="3657600"/>
            <a:ext cx="644832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reazione itinerari turistici e nautici NORD e EST Sardegna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329" name="WordArt 13"/>
          <p:cNvSpPr txBox="1"/>
          <p:nvPr/>
        </p:nvSpPr>
        <p:spPr>
          <a:xfrm>
            <a:off x="914400" y="5029200"/>
            <a:ext cx="802008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TECNICHE DI ANIMAZIONE ED ORGANIZZAZIONE DEI SERVIZI TURISTICI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330" name="WordArt 14"/>
          <p:cNvSpPr txBox="1"/>
          <p:nvPr/>
        </p:nvSpPr>
        <p:spPr>
          <a:xfrm>
            <a:off x="5334120" y="5791320"/>
            <a:ext cx="351468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rmazione e titoli dello skippe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331" name="WordArt 15"/>
          <p:cNvSpPr txBox="1"/>
          <p:nvPr/>
        </p:nvSpPr>
        <p:spPr>
          <a:xfrm>
            <a:off x="2133720" y="6095880"/>
            <a:ext cx="3781440" cy="257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</a:rPr>
              <a:t>Metodologie e tecniche di animazione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 Black"/>
              <a:ea typeface="Arial Black"/>
            </a:endParaRPr>
          </a:p>
        </p:txBody>
      </p:sp>
      <p:sp>
        <p:nvSpPr>
          <p:cNvPr id="332" name="WordArt 16"/>
          <p:cNvSpPr txBox="1"/>
          <p:nvPr/>
        </p:nvSpPr>
        <p:spPr>
          <a:xfrm>
            <a:off x="2743200" y="6400800"/>
            <a:ext cx="267660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il rapporto con il cliente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sp>
        <p:nvSpPr>
          <p:cNvPr id="333" name="WordArt 17"/>
          <p:cNvSpPr txBox="1"/>
          <p:nvPr/>
        </p:nvSpPr>
        <p:spPr>
          <a:xfrm>
            <a:off x="6477120" y="6229440"/>
            <a:ext cx="2171520" cy="628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 Black"/>
              </a:rPr>
              <a:t>Equipaggiament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Programme Skipper sailingbo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sp>
        <p:nvSpPr>
          <p:cNvPr id="339" name="WordArt 8"/>
          <p:cNvSpPr txBox="1"/>
          <p:nvPr/>
        </p:nvSpPr>
        <p:spPr>
          <a:xfrm>
            <a:off x="2057400" y="2743200"/>
            <a:ext cx="522936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CREATION DES ITINERAIRES TOURISTIQUES ET NAUTIQUES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340" name="WordArt 9"/>
          <p:cNvSpPr txBox="1"/>
          <p:nvPr/>
        </p:nvSpPr>
        <p:spPr>
          <a:xfrm>
            <a:off x="4343400" y="3962520"/>
            <a:ext cx="416232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hoix du bateau – typologie – tulisateu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41" name="WordArt 10"/>
          <p:cNvSpPr txBox="1"/>
          <p:nvPr/>
        </p:nvSpPr>
        <p:spPr>
          <a:xfrm>
            <a:off x="1676520" y="4267080"/>
            <a:ext cx="3647880" cy="276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Organisation itineraire – méte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342" name="WordArt 11"/>
          <p:cNvSpPr txBox="1"/>
          <p:nvPr/>
        </p:nvSpPr>
        <p:spPr>
          <a:xfrm>
            <a:off x="2209680" y="4724280"/>
            <a:ext cx="6591600" cy="276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9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Arial Black"/>
              </a:rPr>
              <a:t>Création itineraires touristiques et nautiques SUD et OUEST Sardaign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Arial Black"/>
              <a:ea typeface="Arial Black"/>
            </a:endParaRPr>
          </a:p>
        </p:txBody>
      </p:sp>
      <p:sp>
        <p:nvSpPr>
          <p:cNvPr id="343" name="WordArt 12"/>
          <p:cNvSpPr txBox="1"/>
          <p:nvPr/>
        </p:nvSpPr>
        <p:spPr>
          <a:xfrm>
            <a:off x="1785960" y="3643200"/>
            <a:ext cx="6448320" cy="276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Arial Black"/>
              </a:rPr>
              <a:t>Création itineraires touristiques et nautiques NORT et EST Sardaign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Arial Black"/>
              <a:ea typeface="Arial Black"/>
            </a:endParaRPr>
          </a:p>
        </p:txBody>
      </p:sp>
      <p:sp>
        <p:nvSpPr>
          <p:cNvPr id="344" name="WordArt 13"/>
          <p:cNvSpPr txBox="1"/>
          <p:nvPr/>
        </p:nvSpPr>
        <p:spPr>
          <a:xfrm>
            <a:off x="914400" y="5029200"/>
            <a:ext cx="802008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THECNIQUES ANIMATION ET ORGANISATION DES SERVICES TOURISTIQUES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  <p:sp>
        <p:nvSpPr>
          <p:cNvPr id="345" name="WordArt 14"/>
          <p:cNvSpPr txBox="1"/>
          <p:nvPr/>
        </p:nvSpPr>
        <p:spPr>
          <a:xfrm>
            <a:off x="5334120" y="5791320"/>
            <a:ext cx="351468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 Black"/>
              </a:rPr>
              <a:t>Formation du skippe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 Black"/>
              <a:ea typeface="Arial Black"/>
            </a:endParaRPr>
          </a:p>
        </p:txBody>
      </p:sp>
      <p:sp>
        <p:nvSpPr>
          <p:cNvPr id="346" name="WordArt 15"/>
          <p:cNvSpPr txBox="1"/>
          <p:nvPr/>
        </p:nvSpPr>
        <p:spPr>
          <a:xfrm>
            <a:off x="2133720" y="6095880"/>
            <a:ext cx="3781440" cy="257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latin typeface="Arial Black"/>
              </a:rPr>
              <a:t>Méthodologies et tecniques animation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cc99ff"/>
              </a:solidFill>
              <a:latin typeface="Arial Black"/>
              <a:ea typeface="Arial Black"/>
            </a:endParaRPr>
          </a:p>
        </p:txBody>
      </p:sp>
      <p:sp>
        <p:nvSpPr>
          <p:cNvPr id="347" name="WordArt 16"/>
          <p:cNvSpPr txBox="1"/>
          <p:nvPr/>
        </p:nvSpPr>
        <p:spPr>
          <a:xfrm>
            <a:off x="2743200" y="6400800"/>
            <a:ext cx="267660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80"/>
                </a:solidFill>
                <a:latin typeface="Arial Black"/>
              </a:rPr>
              <a:t>Le rapport avec le client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8080"/>
              </a:solidFill>
              <a:latin typeface="Arial Black"/>
              <a:ea typeface="Arial Black"/>
            </a:endParaRPr>
          </a:p>
        </p:txBody>
      </p:sp>
      <p:sp>
        <p:nvSpPr>
          <p:cNvPr id="348" name="WordArt 17"/>
          <p:cNvSpPr txBox="1"/>
          <p:nvPr/>
        </p:nvSpPr>
        <p:spPr>
          <a:xfrm>
            <a:off x="6477120" y="6229440"/>
            <a:ext cx="2171520" cy="628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Arial Black"/>
              </a:rPr>
              <a:t>Equipem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Programma Lavoro sugli yacht - Caratteristiche e potenzial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sp>
        <p:nvSpPr>
          <p:cNvPr id="354" name="WordArt 8"/>
          <p:cNvSpPr txBox="1"/>
          <p:nvPr/>
        </p:nvSpPr>
        <p:spPr>
          <a:xfrm rot="20414400">
            <a:off x="1752120" y="5409720"/>
            <a:ext cx="7105680" cy="276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1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L’equipaggio: i ruoli dello skipper, degli stewardess e dei marinai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</p:txBody>
      </p:sp>
      <p:sp>
        <p:nvSpPr>
          <p:cNvPr id="355" name="WordArt 9"/>
          <p:cNvSpPr txBox="1"/>
          <p:nvPr/>
        </p:nvSpPr>
        <p:spPr>
          <a:xfrm>
            <a:off x="5105520" y="3352680"/>
            <a:ext cx="287640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Il Curriculum dello skippe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356" name="WordArt 10"/>
          <p:cNvSpPr txBox="1"/>
          <p:nvPr/>
        </p:nvSpPr>
        <p:spPr>
          <a:xfrm rot="20744400">
            <a:off x="1523880" y="4800600"/>
            <a:ext cx="551520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aratteristiche dei fondali marini del Mediterrane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57" name="WordArt 11"/>
          <p:cNvSpPr txBox="1"/>
          <p:nvPr/>
        </p:nvSpPr>
        <p:spPr>
          <a:xfrm rot="20665800">
            <a:off x="1066680" y="3504960"/>
            <a:ext cx="676296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Caratteristiche naturali e culturali dei luoghi del Mediterraneo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430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Programme Emploi sur yacht - Caracteristiques et potential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sp>
        <p:nvSpPr>
          <p:cNvPr id="363" name="WordArt 8"/>
          <p:cNvSpPr txBox="1"/>
          <p:nvPr/>
        </p:nvSpPr>
        <p:spPr>
          <a:xfrm rot="20414400">
            <a:off x="1752120" y="5409720"/>
            <a:ext cx="7105680" cy="276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1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Arial Black"/>
              </a:rPr>
              <a:t>L’equipe: les roles du skipper, les stewardess et les marins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Arial Black"/>
              <a:ea typeface="Arial Black"/>
            </a:endParaRPr>
          </a:p>
        </p:txBody>
      </p:sp>
      <p:sp>
        <p:nvSpPr>
          <p:cNvPr id="364" name="WordArt 9"/>
          <p:cNvSpPr txBox="1"/>
          <p:nvPr/>
        </p:nvSpPr>
        <p:spPr>
          <a:xfrm>
            <a:off x="5105520" y="3352680"/>
            <a:ext cx="2876400" cy="6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Arial Black"/>
              </a:rPr>
              <a:t>Le Curriculum du skipper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Arial Black"/>
              <a:ea typeface="Arial Black"/>
            </a:endParaRPr>
          </a:p>
        </p:txBody>
      </p:sp>
      <p:sp>
        <p:nvSpPr>
          <p:cNvPr id="365" name="WordArt 10"/>
          <p:cNvSpPr txBox="1"/>
          <p:nvPr/>
        </p:nvSpPr>
        <p:spPr>
          <a:xfrm rot="20744400">
            <a:off x="1523880" y="4800600"/>
            <a:ext cx="551520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8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Caracteristiques des fonds marins de la Méditerrané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  <p:sp>
        <p:nvSpPr>
          <p:cNvPr id="366" name="WordArt 11"/>
          <p:cNvSpPr txBox="1"/>
          <p:nvPr/>
        </p:nvSpPr>
        <p:spPr>
          <a:xfrm rot="20665800">
            <a:off x="1066680" y="3504960"/>
            <a:ext cx="6762960" cy="2761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cc00"/>
                </a:solidFill>
                <a:latin typeface="Arial Black"/>
              </a:rPr>
              <a:t>Caracteristiques naturelles et culturelles des lieux de la Méditerranée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99cc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5490a8"/>
                </a:solidFill>
                <a:uFillTx/>
                <a:latin typeface="Univers LT Std 57 Cn"/>
                <a:ea typeface="Times New Roman"/>
              </a:rPr>
              <a:t>Gli studenti dell’Istituto Nautico “Buccari” hanno svolto una lezione pratica di Skipper sailingboat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9" descr="C:\Documents and Settings\Utente1\Desktop\Innonautics\Pilot project\Foto\Foto barca\IMGP0211.JPG"/>
          <p:cNvPicPr/>
          <p:nvPr/>
        </p:nvPicPr>
        <p:blipFill>
          <a:blip r:embed="rId5"/>
          <a:stretch/>
        </p:blipFill>
        <p:spPr>
          <a:xfrm>
            <a:off x="1752480" y="38098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10" descr="C:\Documents and Settings\Utente1\Desktop\Innonautics\Pilot project\Foto\Foto barca\IMGP0213.JPG"/>
          <p:cNvPicPr/>
          <p:nvPr/>
        </p:nvPicPr>
        <p:blipFill>
          <a:blip r:embed="rId6"/>
          <a:stretch/>
        </p:blipFill>
        <p:spPr>
          <a:xfrm>
            <a:off x="5257800" y="38289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5490a8"/>
                </a:solidFill>
                <a:uFillTx/>
                <a:latin typeface="Univers LT Std 57 Cn"/>
                <a:ea typeface="Times New Roman"/>
              </a:rPr>
              <a:t>Les élèves de l’école “Buccari” ont suivi un cours pratique de skipper sailingboa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C:\Documents and Settings\Utente1\Desktop\Innonautics\Pilot project\Foto\Foto barca\IMGP0211.JPG"/>
          <p:cNvPicPr/>
          <p:nvPr/>
        </p:nvPicPr>
        <p:blipFill>
          <a:blip r:embed="rId5"/>
          <a:stretch/>
        </p:blipFill>
        <p:spPr>
          <a:xfrm>
            <a:off x="1752480" y="38098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10" descr="C:\Documents and Settings\Utente1\Desktop\Innonautics\Pilot project\Foto\Foto barca\IMGP0213.JPG"/>
          <p:cNvPicPr/>
          <p:nvPr/>
        </p:nvPicPr>
        <p:blipFill>
          <a:blip r:embed="rId6"/>
          <a:stretch/>
        </p:blipFill>
        <p:spPr>
          <a:xfrm>
            <a:off x="5257800" y="3828960"/>
            <a:ext cx="30481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o-FO" sz="28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InnoNauTICs:</a:t>
            </a:r>
            <a:r>
              <a:rPr b="0" lang="fo-FO" sz="2800" spc="-1" strike="noStrike" u="sng">
                <a:solidFill>
                  <a:srgbClr val="3366cc"/>
                </a:solidFill>
                <a:uFillTx/>
                <a:latin typeface="Univers LT Std 57 C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o-FO" sz="2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Projet de coopération transnation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o-FO" sz="28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Objectif principal:</a:t>
            </a:r>
            <a:r>
              <a:rPr b="0" lang="fo-FO" sz="2800" spc="-1" strike="noStrike">
                <a:solidFill>
                  <a:srgbClr val="003366"/>
                </a:solidFill>
                <a:latin typeface="Univers LT Std 57 C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o-FO" sz="2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Développerment d’une plateforme online pour le croisement entre les entreprises du secteur et les utilisateurs potent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3366"/>
                </a:solidFill>
                <a:uFillTx/>
                <a:latin typeface="Univers LT Std 57 Cn"/>
                <a:ea typeface="Times New Roman"/>
              </a:rPr>
              <a:t>www.nauticaleurope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0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1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90a8"/>
                </a:solidFill>
                <a:latin typeface="Arial"/>
              </a:rPr>
              <a:t>Lezione conclusiva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C:\Documents and Settings\Utente1\Desktop\Innonautics\Pilot project\Foto\DSCN3965.JPG"/>
          <p:cNvPicPr/>
          <p:nvPr/>
        </p:nvPicPr>
        <p:blipFill>
          <a:blip r:embed="rId5"/>
          <a:stretch/>
        </p:blipFill>
        <p:spPr>
          <a:xfrm>
            <a:off x="2819520" y="2666880"/>
            <a:ext cx="51051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90a8"/>
                </a:solidFill>
                <a:latin typeface="Arial"/>
              </a:rPr>
              <a:t>Cours final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8" descr="C:\Documents and Settings\Utente1\Desktop\Innonautics\Pilot project\Foto\DSCN3965.JPG"/>
          <p:cNvPicPr/>
          <p:nvPr/>
        </p:nvPicPr>
        <p:blipFill>
          <a:blip r:embed="rId5"/>
          <a:stretch/>
        </p:blipFill>
        <p:spPr>
          <a:xfrm>
            <a:off x="2819520" y="2666880"/>
            <a:ext cx="510516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Univers LT Std 57 Cn"/>
                <a:ea typeface="Times New Roman"/>
              </a:rPr>
              <a:t>I part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Camera di Commercio, Industria e Navigazione di Maio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Governo delle isole Bale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Camera di Commercio di Cagl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EOAN (Network delle Camere di Commercio per lo sviluppo delle Isole Gre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Camera di Commercio di Oris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Camera di Commercio di Heraklion (Cret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Osservatorio sul Turismo delle Isole Europee (OT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Camera di Commercio di Bastia (Cors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INSULEUR (Network delle Camere di Commercio delle Isole Europe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Univers LT Std 57 Cn"/>
                <a:ea typeface="Times New Roman"/>
              </a:rPr>
              <a:t>Les parten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Chambre de Commerce, Industrie et Navigation de Maior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Gouvernement des iles Baléa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Chambre de Commerce de Cagli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EOAN (Network des Chambres de Commerce pour le développement des Iles grecque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Chambre de Commerce de Orista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Chambre de Commerce de Heraklion (Crè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Observatoire sur Tourisme des Iles Européennes (OTI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Chambre de Commerce de Bastia (Cors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INSULEUR (Network des Chambres de Commerces des Iles européen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              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2060"/>
                </a:solidFill>
                <a:latin typeface="Univers LT Std 57 Cn"/>
                <a:ea typeface="Times New Roman"/>
              </a:rPr>
              <a:t>Le attivit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u="sng">
                <a:solidFill>
                  <a:srgbClr val="002060"/>
                </a:solidFill>
                <a:uFillTx/>
                <a:latin typeface="Univers LT Std 57 Cn"/>
                <a:ea typeface="Times New Roman"/>
              </a:rPr>
              <a:t>realizzazione di 4 progetti pilo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1.</a:t>
            </a:r>
            <a:r>
              <a:rPr b="1" lang="it-IT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</a:t>
            </a:r>
            <a:r>
              <a:rPr b="0" lang="it-IT" sz="14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Formazione innovativa in ambito del turismo nautico (Camera di Commercio  di Cagliar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2.</a:t>
            </a:r>
            <a:r>
              <a:rPr b="1" lang="it-IT" sz="1600" spc="-1" strike="noStrike">
                <a:solidFill>
                  <a:srgbClr val="5490a8"/>
                </a:solidFill>
                <a:latin typeface="Times New Roman"/>
                <a:ea typeface="Times New Roman"/>
              </a:rPr>
              <a:t>  </a:t>
            </a:r>
            <a:r>
              <a:rPr b="0" lang="it-IT" sz="14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Incoraggiamento, assistenza e supporto alle imprese del settore nautico (EO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3.</a:t>
            </a:r>
            <a:r>
              <a:rPr b="1" lang="it-IT" sz="1600" spc="-1" strike="noStrike">
                <a:solidFill>
                  <a:srgbClr val="5490a8"/>
                </a:solidFill>
                <a:latin typeface="Times New Roman"/>
                <a:ea typeface="Times New Roman"/>
              </a:rPr>
              <a:t>  </a:t>
            </a:r>
            <a:r>
              <a:rPr b="0" lang="it-IT" sz="14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Scambi formativi per la formazione in barca a vela (Camera di Commercio di Herakl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4.</a:t>
            </a:r>
            <a:r>
              <a:rPr b="1" lang="it-IT" sz="1600" spc="-1" strike="noStrike">
                <a:solidFill>
                  <a:srgbClr val="5490a8"/>
                </a:solidFill>
                <a:latin typeface="Times New Roman"/>
                <a:ea typeface="Times New Roman"/>
              </a:rPr>
              <a:t> </a:t>
            </a:r>
            <a:r>
              <a:rPr b="0" lang="it-IT" sz="14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Turismo ed archeologia subacquea: rotte blu lungo la costa della provincia di Oristano (Camera di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     </a:t>
            </a:r>
            <a:r>
              <a:rPr b="0" lang="it-IT" sz="14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Commercio di Oristan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              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Univers LT Std 57 Cn"/>
                <a:ea typeface="Times New Roman"/>
              </a:rPr>
              <a:t>Les activité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2060"/>
                </a:solidFill>
                <a:uFillTx/>
                <a:latin typeface="Univers LT Std 57 Cn"/>
                <a:ea typeface="Times New Roman"/>
              </a:rPr>
              <a:t>Réalisation 4 projets pil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99cc"/>
              </a:buClr>
              <a:buSzPct val="80000"/>
              <a:buFont typeface="Univers LT Std 57 C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Formation innovatrice en matière de tourisme nautique (Chambre de Commerce de Cagliari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99cc"/>
              </a:buClr>
              <a:buSzPct val="80000"/>
              <a:buFont typeface="Univers LT Std 57 C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Encouragement, assistance et soutient aux entreprises du secteur nautique (EOA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99cc"/>
              </a:buClr>
              <a:buSzPct val="80000"/>
              <a:buFont typeface="Univers LT Std 57 C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Echanges formatifs pour la formation en bateau à voile (Chambre de Commerce de Herakl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buClr>
                <a:srgbClr val="0099cc"/>
              </a:buClr>
              <a:buSzPct val="80000"/>
              <a:buFont typeface="Univers LT Std 57 C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5490a8"/>
                </a:solidFill>
                <a:latin typeface="Univers LT Std 57 Cn"/>
                <a:ea typeface="Times New Roman"/>
              </a:rPr>
              <a:t>Tourisme et archéologie sous-marine: route bleu de la cote de la province de Oristano (Chambre de Commerce de Oristan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              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90a8"/>
                </a:solidFill>
                <a:latin typeface="Arial"/>
              </a:rPr>
              <a:t>La Camera di Commercio di Cagliari ha realizzato due corsi di formazione per la figura professionale 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it-IT" sz="3200" spc="-1" strike="noStrike">
                <a:solidFill>
                  <a:srgbClr val="003366"/>
                </a:solidFill>
                <a:latin typeface="Century Schoolbook"/>
              </a:rPr>
              <a:t>“</a:t>
            </a:r>
            <a:r>
              <a:rPr b="1" lang="it-IT" sz="3200" spc="-1" strike="noStrike">
                <a:solidFill>
                  <a:srgbClr val="003366"/>
                </a:solidFill>
                <a:latin typeface="Century Schoolbook"/>
              </a:rPr>
              <a:t>Skipper Animato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5"/>
          <a:stretch/>
        </p:blipFill>
        <p:spPr>
          <a:xfrm>
            <a:off x="4267080" y="449568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3366"/>
                </a:solidFill>
                <a:latin typeface="Times New Roman"/>
              </a:rPr>
              <a:t>              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5490a8"/>
                </a:solidFill>
                <a:latin typeface="Arial"/>
              </a:rPr>
              <a:t>La Chambre de Commerce de Cagliari a réalisé deux cours de formation pour le profil professi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spcAft>
                <a:spcPts val="1412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fr-FR" sz="3200" spc="-1" strike="noStrike">
                <a:solidFill>
                  <a:srgbClr val="003366"/>
                </a:solidFill>
                <a:latin typeface="Century Schoolbook"/>
              </a:rPr>
              <a:t>“</a:t>
            </a:r>
            <a:r>
              <a:rPr b="1" lang="fr-FR" sz="3200" spc="-1" strike="noStrike">
                <a:solidFill>
                  <a:srgbClr val="003366"/>
                </a:solidFill>
                <a:latin typeface="Century Schoolbook"/>
              </a:rPr>
              <a:t>Skipper Animateur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295280" y="685800"/>
            <a:ext cx="1393920" cy="7635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5" descr=""/>
          <p:cNvPicPr/>
          <p:nvPr/>
        </p:nvPicPr>
        <p:blipFill>
          <a:blip r:embed="rId2"/>
          <a:stretch/>
        </p:blipFill>
        <p:spPr>
          <a:xfrm>
            <a:off x="3124080" y="762120"/>
            <a:ext cx="1710000" cy="691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1341360" cy="909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7" descr=""/>
          <p:cNvPicPr/>
          <p:nvPr/>
        </p:nvPicPr>
        <p:blipFill>
          <a:blip r:embed="rId4"/>
          <a:stretch/>
        </p:blipFill>
        <p:spPr>
          <a:xfrm>
            <a:off x="7086600" y="685800"/>
            <a:ext cx="1219320" cy="773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8" descr=""/>
          <p:cNvPicPr/>
          <p:nvPr/>
        </p:nvPicPr>
        <p:blipFill>
          <a:blip r:embed="rId5"/>
          <a:stretch/>
        </p:blipFill>
        <p:spPr>
          <a:xfrm>
            <a:off x="4267080" y="4495680"/>
            <a:ext cx="18288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8T07:51:43Z</dcterms:created>
  <dc:creator>Fabrizio Seu</dc:creator>
  <dc:description/>
  <dc:language>en-US</dc:language>
  <cp:lastModifiedBy>Utente</cp:lastModifiedBy>
  <dcterms:modified xsi:type="dcterms:W3CDTF">2013-11-12T15:46:51Z</dcterms:modified>
  <cp:revision>18</cp:revision>
  <dc:subject/>
  <dc:title>Presentazione di PowerPoint</dc:title>
</cp:coreProperties>
</file>