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A785C-F734-4C0D-8602-AAA3CFE50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89A-62FF-42E7-AE5E-A1294DB1C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8B6-8E85-4557-B4BD-8B5D350B7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4D6C-0429-4C49-A6D1-C56FCAAE2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1728-4AAF-44FC-8378-BB77A8F6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AC0B-9F8F-483E-9F7D-0903FBF6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D8CAC-064E-4DA0-837E-0E8191C1B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A907-0945-495B-9FDF-373FE7D4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16A67-6481-4890-A3D8-E0E16864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0F2C0-94BD-4526-B47B-42A1D09F7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EEF28-D5CE-4112-9F77-F9B29550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A1D-1FE4-42C6-995B-7A0F3631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C9B82-BF8C-4CD5-A421-FB0957BB4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0A3B5-520C-43A5-93FD-192FEAF4A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8C7B-320C-4741-8648-D09FFCF0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2DD52-2FFD-4DC9-B562-0E7680786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F801D-71AF-4594-9B63-93C89688C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484DC-04A2-4D26-859F-247DAA444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29E81-B5B4-4384-BC6E-8B5F12AC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9A558-6B12-41A2-AAE0-871E130D4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7300A0-8DEC-4FD9-BE8F-40A5CC74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43567-B737-4AE2-B564-5265CC083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AA9E-1653-420B-8E80-DE07AD199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65D80-135A-4038-BBE3-8411BEE6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987E5-D033-4C4C-A9AA-A45BC6B27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E0666-7839-4ECD-9032-330E1F709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23F09-9D1A-42BD-A895-A4C5F088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17EDD-02DD-44E9-B315-0D24294D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DAC3E-584F-4B71-871D-684909FA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51BC4-BCD5-4A76-84E6-4F7F38A1A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6355B-2FC4-433F-A79F-51CC1C9B0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81E1DB-3671-484F-BE1A-C8DC8F2A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C13C1F-E5AF-4A15-BE0C-0922F8EC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2168-3973-4FB3-B1D1-50FDB980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E286A2-4909-4C64-A827-D21F97C0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3554B-3130-47E7-9BB7-694BB809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108B2-2007-4713-90EF-7F27690F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D782E-ACB7-423D-BC33-8F2FC9A4F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59342-6919-4247-BD58-C6F3A9EE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8D55A-40FD-4F81-9D6D-D320CB55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96071-FC7E-4F73-9EEC-DDBCA1D25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9068-5A74-41F3-8C6B-FCC99561D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B64661-A0CF-42DE-819D-AD105524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AC43-2A37-40B5-9D24-3CB75BC3E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36E-B24B-4547-A0C2-DD1F5426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1C2D-9C14-4EF4-9802-97A601D8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B482-0E3A-4569-A74B-833955C8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41FC-506C-4ADF-A503-1F32B2DE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C3D0E-7B07-4B9A-8C8A-0FFAE9B2E5A0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54FBC-5AFA-44F1-B150-B1616B60664F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3A5EA-0426-4555-9E10-AE773EA6831A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7E85E-AE6A-43DF-B1F6-BE4819481BDA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image" Target="../media/image21.png"/><Relationship Id="rId5" Type="http://schemas.openxmlformats.org/officeDocument/2006/relationships/image" Target="../media/image14.pn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1.png"/><Relationship Id="rId3" Type="http://schemas.openxmlformats.org/officeDocument/2006/relationships/image" Target="../media/image14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Titolo 1" descr=""/>
          <p:cNvPicPr/>
          <p:nvPr/>
        </p:nvPicPr>
        <p:blipFill>
          <a:blip r:embed="rId1"/>
          <a:stretch/>
        </p:blipFill>
        <p:spPr>
          <a:xfrm>
            <a:off x="2730600" y="2262240"/>
            <a:ext cx="6572160" cy="2565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309840" y="100080"/>
            <a:ext cx="2517840" cy="13428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Users\eli0668\AppData\Local\Temp\ARC8E52\Slogan fra.tif"/>
          <p:cNvPicPr/>
          <p:nvPr/>
        </p:nvPicPr>
        <p:blipFill>
          <a:blip r:embed="rId3"/>
          <a:stretch/>
        </p:blipFill>
        <p:spPr>
          <a:xfrm>
            <a:off x="5864400" y="1427040"/>
            <a:ext cx="2344680" cy="576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Users\eli0668\AppData\Local\Temp\ARCBF13\Slogan it.tif"/>
          <p:cNvPicPr/>
          <p:nvPr/>
        </p:nvPicPr>
        <p:blipFill>
          <a:blip r:embed="rId4"/>
          <a:stretch/>
        </p:blipFill>
        <p:spPr>
          <a:xfrm>
            <a:off x="750960" y="1427040"/>
            <a:ext cx="2562120" cy="576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0" y="6308640"/>
            <a:ext cx="4656240" cy="5428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C:\Users\eli0668\AppData\Local\Temp\ARC9351\Logo RAS.gif"/>
          <p:cNvPicPr/>
          <p:nvPr/>
        </p:nvPicPr>
        <p:blipFill>
          <a:blip r:embed="rId6"/>
          <a:stretch/>
        </p:blipFill>
        <p:spPr>
          <a:xfrm>
            <a:off x="6084720" y="6210360"/>
            <a:ext cx="1582920" cy="6476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C:\Users\eli0668\AppData\Local\Temp\ARCD725\Logo Regione Liguria.bmp"/>
          <p:cNvPicPr/>
          <p:nvPr/>
        </p:nvPicPr>
        <p:blipFill>
          <a:blip r:embed="rId7"/>
          <a:stretch/>
        </p:blipFill>
        <p:spPr>
          <a:xfrm>
            <a:off x="5292720" y="6041880"/>
            <a:ext cx="644400" cy="8161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C:\Users\eli0668\AppData\Local\Temp\ARC185A\Logo Regione Toscana.bmp"/>
          <p:cNvPicPr/>
          <p:nvPr/>
        </p:nvPicPr>
        <p:blipFill>
          <a:blip r:embed="rId8"/>
          <a:stretch/>
        </p:blipFill>
        <p:spPr>
          <a:xfrm>
            <a:off x="4572000" y="6000840"/>
            <a:ext cx="574560" cy="8571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0" descr="C:\Users\eli0668\AppData\Local\Temp\ARC7163\Logoctc JPEG 2012.jpg"/>
          <p:cNvPicPr/>
          <p:nvPr/>
        </p:nvPicPr>
        <p:blipFill>
          <a:blip r:embed="rId9"/>
          <a:stretch/>
        </p:blipFill>
        <p:spPr>
          <a:xfrm>
            <a:off x="7716960" y="6118200"/>
            <a:ext cx="1395360" cy="733320"/>
          </a:xfrm>
          <a:prstGeom prst="rect">
            <a:avLst/>
          </a:prstGeom>
          <a:ln w="0">
            <a:noFill/>
          </a:ln>
        </p:spPr>
      </p:pic>
      <p:sp>
        <p:nvSpPr>
          <p:cNvPr id="223" name="Rettangolo 2"/>
          <p:cNvSpPr/>
          <p:nvPr/>
        </p:nvSpPr>
        <p:spPr>
          <a:xfrm>
            <a:off x="4451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4" name="Picture 12" descr="G:\Ufficio - CentroStudi\SELENE\PROGETTI\PO_ITALIA_FRANCIA_MARITTIMO\PER_MARE\comunicazione\manuale_comunicazione\LOGO_MARE02.jpg"/>
          <p:cNvPicPr/>
          <p:nvPr/>
        </p:nvPicPr>
        <p:blipFill>
          <a:blip r:embed="rId10"/>
          <a:stretch/>
        </p:blipFill>
        <p:spPr>
          <a:xfrm>
            <a:off x="115920" y="227664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225" name="CasellaDiTesto 2"/>
          <p:cNvSpPr/>
          <p:nvPr/>
        </p:nvSpPr>
        <p:spPr>
          <a:xfrm>
            <a:off x="5292720" y="4915080"/>
            <a:ext cx="37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36c8"/>
                </a:solidFill>
                <a:latin typeface="Calibri"/>
                <a:ea typeface="Calibri"/>
              </a:rPr>
              <a:t>Cagliari, 13 Novembre 2013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Titolo 1" descr=""/>
          <p:cNvPicPr/>
          <p:nvPr/>
        </p:nvPicPr>
        <p:blipFill>
          <a:blip r:embed="rId1"/>
          <a:stretch/>
        </p:blipFill>
        <p:spPr>
          <a:xfrm>
            <a:off x="444600" y="828720"/>
            <a:ext cx="8431200" cy="141444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546120" y="21337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 prodotti raffinati vengono distribuiti mediante due tipologie di mezzi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Via terra con autocisterne costruite ed attrezzate per il trasporto di merci pericolose delle classi IMDGC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2               e 3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Via mare con navi costruite ed attrezzate per il trasporto alla rinfusa di merci pericolose secondo la SOLAS Cap. VII parti B ( trasporto prodotti chimici ) e C ( trasporto gas 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7" name="Picture 2" descr="http://www.gevaarlijkestoffen.eu/data/articles/images/small/s_122.gif"/>
          <p:cNvPicPr/>
          <p:nvPr/>
        </p:nvPicPr>
        <p:blipFill>
          <a:blip r:embed="rId2"/>
          <a:stretch/>
        </p:blipFill>
        <p:spPr>
          <a:xfrm>
            <a:off x="826920" y="2997360"/>
            <a:ext cx="865440" cy="9363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http://www.mcscs.jus.gov.on.ca/stellent/groups/public/@mcscs/@www/@ofm/documents/webasset/%7Eexport/ECOFM000021%7E4%7EMCSCS_DCT%7EMCSCS_Layout_Template/161367-5.jpg"/>
          <p:cNvPicPr/>
          <p:nvPr/>
        </p:nvPicPr>
        <p:blipFill>
          <a:blip r:embed="rId3"/>
          <a:stretch/>
        </p:blipFill>
        <p:spPr>
          <a:xfrm>
            <a:off x="2484360" y="3068640"/>
            <a:ext cx="838440" cy="790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2" descr="G:\Ufficio - CentroStudi\SELENE\PROGETTI\PO_ITALIA_FRANCIA_MARITTIMO\PER_MARE\comunicazione\manuale_comunicazione\Logo_Marittimo.jpg"/>
          <p:cNvPicPr/>
          <p:nvPr/>
        </p:nvPicPr>
        <p:blipFill>
          <a:blip r:embed="rId4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5" descr="G:\Ufficio - CentroStudi\SELENE\PROGETTI\PO_ITALIA_FRANCIA_MARITTIMO\PER_MARE\comunicazione\manuale_comunicazione\logo-progetto.jpg"/>
          <p:cNvPicPr/>
          <p:nvPr/>
        </p:nvPicPr>
        <p:blipFill>
          <a:blip r:embed="rId6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olo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437680" cy="140832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546120" y="18874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n questa fase di “ </a:t>
            </a:r>
            <a:r>
              <a:rPr b="1" i="1" lang="it-IT" sz="2200" spc="-1" strike="noStrike">
                <a:solidFill>
                  <a:srgbClr val="404040"/>
                </a:solidFill>
                <a:latin typeface="Trebuchet MS"/>
              </a:rPr>
              <a:t>logistica out – bound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“ la raffineria diventa fornitore dei prodotti raffinati agli utilizzatori che possono essere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Sistemi di distribuzione dei carburanti per autotrazion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Aeroporti ( carburanti per aerei 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Fornitori di servizi di bunkeraggio per navi o direttamente alle navi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Approvvigionamento di aziende di rivendita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Aziende di produzione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1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ttangolo 30"/>
          <p:cNvSpPr/>
          <p:nvPr/>
        </p:nvSpPr>
        <p:spPr>
          <a:xfrm>
            <a:off x="1979640" y="4508640"/>
            <a:ext cx="5113440" cy="2349360"/>
          </a:xfrm>
          <a:prstGeom prst="rect">
            <a:avLst/>
          </a:prstGeom>
          <a:solidFill>
            <a:srgbClr val="95a4de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8" name="Titolo 1" descr=""/>
          <p:cNvPicPr/>
          <p:nvPr/>
        </p:nvPicPr>
        <p:blipFill>
          <a:blip r:embed="rId1"/>
          <a:stretch/>
        </p:blipFill>
        <p:spPr>
          <a:xfrm>
            <a:off x="457200" y="665280"/>
            <a:ext cx="8229600" cy="1084320"/>
          </a:xfrm>
          <a:prstGeom prst="rect">
            <a:avLst/>
          </a:prstGeom>
          <a:ln w="0">
            <a:noFill/>
          </a:ln>
        </p:spPr>
      </p:pic>
      <p:sp>
        <p:nvSpPr>
          <p:cNvPr id="319" name="Rettangolo 3"/>
          <p:cNvSpPr/>
          <p:nvPr/>
        </p:nvSpPr>
        <p:spPr>
          <a:xfrm>
            <a:off x="1979640" y="2276640"/>
            <a:ext cx="5113440" cy="223200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0" name="Forma a L 4"/>
          <p:cNvSpPr/>
          <p:nvPr/>
        </p:nvSpPr>
        <p:spPr>
          <a:xfrm rot="10800000">
            <a:off x="6516720" y="4536720"/>
            <a:ext cx="574560" cy="2320920"/>
          </a:xfrm>
          <a:custGeom>
            <a:avLst/>
            <a:gdLst/>
            <a:ahLst/>
            <a:rect l="l" t="t" r="r" b="b"/>
            <a:pathLst>
              <a:path w="574675" h="2320925">
                <a:moveTo>
                  <a:pt x="0" y="0"/>
                </a:moveTo>
                <a:lnTo>
                  <a:pt x="287338" y="0"/>
                </a:lnTo>
                <a:lnTo>
                  <a:pt x="287338" y="2033588"/>
                </a:lnTo>
                <a:lnTo>
                  <a:pt x="574675" y="2033588"/>
                </a:lnTo>
                <a:lnTo>
                  <a:pt x="574675" y="2320925"/>
                </a:lnTo>
                <a:lnTo>
                  <a:pt x="0" y="23209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Forma a L 5"/>
          <p:cNvSpPr/>
          <p:nvPr/>
        </p:nvSpPr>
        <p:spPr>
          <a:xfrm flipH="1" rot="10800000">
            <a:off x="1978560" y="4536720"/>
            <a:ext cx="576360" cy="2320920"/>
          </a:xfrm>
          <a:custGeom>
            <a:avLst/>
            <a:gdLst/>
            <a:ahLst/>
            <a:rect l="l" t="t" r="r" b="b"/>
            <a:pathLst>
              <a:path w="576262" h="2320925">
                <a:moveTo>
                  <a:pt x="0" y="0"/>
                </a:moveTo>
                <a:lnTo>
                  <a:pt x="288131" y="0"/>
                </a:lnTo>
                <a:lnTo>
                  <a:pt x="288131" y="2032794"/>
                </a:lnTo>
                <a:lnTo>
                  <a:pt x="576262" y="2032794"/>
                </a:lnTo>
                <a:lnTo>
                  <a:pt x="576262" y="2320925"/>
                </a:lnTo>
                <a:lnTo>
                  <a:pt x="0" y="2320925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Cilindro 7"/>
          <p:cNvSpPr/>
          <p:nvPr/>
        </p:nvSpPr>
        <p:spPr>
          <a:xfrm>
            <a:off x="2268360" y="2708280"/>
            <a:ext cx="863640" cy="1225440"/>
          </a:xfrm>
          <a:prstGeom prst="can">
            <a:avLst>
              <a:gd name="adj" fmla="val 17615"/>
            </a:avLst>
          </a:prstGeom>
          <a:solidFill>
            <a:srgbClr val="a6a6a6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Cilindro 8"/>
          <p:cNvSpPr/>
          <p:nvPr/>
        </p:nvSpPr>
        <p:spPr>
          <a:xfrm>
            <a:off x="6084720" y="2492280"/>
            <a:ext cx="358920" cy="505080"/>
          </a:xfrm>
          <a:prstGeom prst="can">
            <a:avLst>
              <a:gd name="adj" fmla="val 17768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4" name="Cilindro 9"/>
          <p:cNvSpPr/>
          <p:nvPr/>
        </p:nvSpPr>
        <p:spPr>
          <a:xfrm>
            <a:off x="6588000" y="2924280"/>
            <a:ext cx="360360" cy="504720"/>
          </a:xfrm>
          <a:prstGeom prst="can">
            <a:avLst>
              <a:gd name="adj" fmla="val 17847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5" name="Cilindro 10"/>
          <p:cNvSpPr/>
          <p:nvPr/>
        </p:nvSpPr>
        <p:spPr>
          <a:xfrm>
            <a:off x="6156360" y="3429000"/>
            <a:ext cx="360360" cy="504720"/>
          </a:xfrm>
          <a:prstGeom prst="can">
            <a:avLst>
              <a:gd name="adj" fmla="val 17847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Rettangolo arrotondato 11"/>
          <p:cNvSpPr/>
          <p:nvPr/>
        </p:nvSpPr>
        <p:spPr>
          <a:xfrm>
            <a:off x="2411280" y="4869000"/>
            <a:ext cx="505080" cy="1512720"/>
          </a:xfrm>
          <a:custGeom>
            <a:avLst/>
            <a:gdLst>
              <a:gd name="textAreaLeft" fmla="*/ 24480 w 505080"/>
              <a:gd name="textAreaRight" fmla="*/ 480600 w 505080"/>
              <a:gd name="textAreaTop" fmla="*/ 24480 h 1512720"/>
              <a:gd name="textAreaBottom" fmla="*/ 1488240 h 1512720"/>
            </a:gdLst>
            <a:ahLst/>
            <a:rect l="textAreaLeft" t="textAreaTop" r="textAreaRight" b="textAreaBottom"/>
            <a:pathLst>
              <a:path w="21600" h="64662">
                <a:moveTo>
                  <a:pt x="3600" y="0"/>
                </a:moveTo>
                <a:arcTo wR="3600" hR="3600" stAng="16200000" swAng="-5400000"/>
                <a:lnTo>
                  <a:pt x="0" y="61062"/>
                </a:lnTo>
                <a:arcTo wR="3600" hR="3600" stAng="10800000" swAng="-5400000"/>
                <a:lnTo>
                  <a:pt x="18000" y="646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ac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Triangolo isoscele 12"/>
          <p:cNvSpPr/>
          <p:nvPr/>
        </p:nvSpPr>
        <p:spPr>
          <a:xfrm flipV="1">
            <a:off x="2411280" y="6308640"/>
            <a:ext cx="505080" cy="433440"/>
          </a:xfrm>
          <a:prstGeom prst="triangle">
            <a:avLst>
              <a:gd name="adj" fmla="val 50000"/>
            </a:avLst>
          </a:prstGeom>
          <a:solidFill>
            <a:srgbClr val="34ac8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Ritaglia angolo stesso lato rettangolo 13"/>
          <p:cNvSpPr/>
          <p:nvPr/>
        </p:nvSpPr>
        <p:spPr>
          <a:xfrm flipV="1">
            <a:off x="2340000" y="5084640"/>
            <a:ext cx="647640" cy="216000"/>
          </a:xfrm>
          <a:custGeom>
            <a:avLst/>
            <a:gdLst/>
            <a:ahLst/>
            <a:rect l="l" t="t" r="r" b="b"/>
            <a:pathLst>
              <a:path w="647700" h="215900">
                <a:moveTo>
                  <a:pt x="35984" y="0"/>
                </a:moveTo>
                <a:lnTo>
                  <a:pt x="611716" y="0"/>
                </a:lnTo>
                <a:lnTo>
                  <a:pt x="647700" y="35984"/>
                </a:lnTo>
                <a:lnTo>
                  <a:pt x="647700" y="215900"/>
                </a:lnTo>
                <a:lnTo>
                  <a:pt x="647700" y="215900"/>
                </a:lnTo>
                <a:lnTo>
                  <a:pt x="0" y="215900"/>
                </a:lnTo>
                <a:lnTo>
                  <a:pt x="0" y="215900"/>
                </a:lnTo>
                <a:lnTo>
                  <a:pt x="0" y="35984"/>
                </a:lnTo>
                <a:lnTo>
                  <a:pt x="35984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9" name="Connettore 1 15"/>
          <p:cNvSpPr/>
          <p:nvPr/>
        </p:nvSpPr>
        <p:spPr>
          <a:xfrm>
            <a:off x="2556000" y="537372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Connettore 1 16"/>
          <p:cNvSpPr/>
          <p:nvPr/>
        </p:nvSpPr>
        <p:spPr>
          <a:xfrm>
            <a:off x="2627280" y="537372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Connettore 1 17"/>
          <p:cNvSpPr/>
          <p:nvPr/>
        </p:nvSpPr>
        <p:spPr>
          <a:xfrm>
            <a:off x="2700360" y="537372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Connettore 1 19"/>
          <p:cNvSpPr/>
          <p:nvPr/>
        </p:nvSpPr>
        <p:spPr>
          <a:xfrm flipH="1">
            <a:off x="2411280" y="5732640"/>
            <a:ext cx="1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3" name="Connettore 1 21"/>
          <p:cNvSpPr/>
          <p:nvPr/>
        </p:nvSpPr>
        <p:spPr>
          <a:xfrm flipV="1">
            <a:off x="2124000" y="4149360"/>
            <a:ext cx="0" cy="180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Connettore 1 23"/>
          <p:cNvSpPr/>
          <p:nvPr/>
        </p:nvSpPr>
        <p:spPr>
          <a:xfrm flipV="1">
            <a:off x="2124000" y="3716280"/>
            <a:ext cx="216000" cy="4334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Connettore 1 27"/>
          <p:cNvSpPr/>
          <p:nvPr/>
        </p:nvSpPr>
        <p:spPr>
          <a:xfrm flipH="1" flipV="1">
            <a:off x="2123640" y="5660640"/>
            <a:ext cx="360360" cy="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Ovale 31"/>
          <p:cNvSpPr/>
          <p:nvPr/>
        </p:nvSpPr>
        <p:spPr>
          <a:xfrm>
            <a:off x="2627280" y="5157720"/>
            <a:ext cx="73080" cy="71640"/>
          </a:xfrm>
          <a:prstGeom prst="ellipse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7" name="Rettangolo arrotondato 32"/>
          <p:cNvSpPr/>
          <p:nvPr/>
        </p:nvSpPr>
        <p:spPr>
          <a:xfrm>
            <a:off x="4140360" y="2421000"/>
            <a:ext cx="502920" cy="1728720"/>
          </a:xfrm>
          <a:custGeom>
            <a:avLst/>
            <a:gdLst>
              <a:gd name="textAreaLeft" fmla="*/ 24480 w 502920"/>
              <a:gd name="textAreaRight" fmla="*/ 478440 w 502920"/>
              <a:gd name="textAreaTop" fmla="*/ 24480 h 1728720"/>
              <a:gd name="textAreaBottom" fmla="*/ 1704240 h 1728720"/>
            </a:gdLst>
            <a:ahLst/>
            <a:rect l="textAreaLeft" t="textAreaTop" r="textAreaRight" b="textAreaBottom"/>
            <a:pathLst>
              <a:path w="21600" h="74209">
                <a:moveTo>
                  <a:pt x="3600" y="0"/>
                </a:moveTo>
                <a:arcTo wR="3600" hR="3600" stAng="16200000" swAng="-5400000"/>
                <a:lnTo>
                  <a:pt x="0" y="70609"/>
                </a:lnTo>
                <a:arcTo wR="3600" hR="3600" stAng="10800000" swAng="-5400000"/>
                <a:lnTo>
                  <a:pt x="18000" y="7420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9d9d9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entagono regolare 33"/>
          <p:cNvSpPr/>
          <p:nvPr/>
        </p:nvSpPr>
        <p:spPr>
          <a:xfrm>
            <a:off x="3564000" y="3284640"/>
            <a:ext cx="360360" cy="649080"/>
          </a:xfrm>
          <a:prstGeom prst="pentagon">
            <a:avLst/>
          </a:prstGeom>
          <a:solidFill>
            <a:srgbClr val="f6421e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CasellaDiTesto 34"/>
          <p:cNvSpPr/>
          <p:nvPr/>
        </p:nvSpPr>
        <p:spPr>
          <a:xfrm>
            <a:off x="3419640" y="4005360"/>
            <a:ext cx="6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rebuchet MS"/>
              </a:rPr>
              <a:t>Fornace</a:t>
            </a: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0" name="CasellaDiTesto 35"/>
          <p:cNvSpPr/>
          <p:nvPr/>
        </p:nvSpPr>
        <p:spPr>
          <a:xfrm>
            <a:off x="3995640" y="4221000"/>
            <a:ext cx="115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rebuchet MS"/>
              </a:rPr>
              <a:t>T.Rre distillazione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CasellaDiTesto 36"/>
          <p:cNvSpPr/>
          <p:nvPr/>
        </p:nvSpPr>
        <p:spPr>
          <a:xfrm>
            <a:off x="2268360" y="3357720"/>
            <a:ext cx="79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rebuchet MS"/>
              </a:rPr>
              <a:t>GREGGIO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342" name="Connettore 7 38"/>
          <p:cNvCxnSpPr/>
          <p:nvPr/>
        </p:nvCxnSpPr>
        <p:spPr>
          <a:xfrm>
            <a:off x="3132000" y="3573360"/>
            <a:ext cx="504000" cy="216720"/>
          </a:xfrm>
          <a:prstGeom prst="curvedConnector5">
            <a:avLst>
              <a:gd name="adj1" fmla="val 49964"/>
              <a:gd name="adj2" fmla="val 49916"/>
              <a:gd name="adj3" fmla="val 4996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3" name="Connettore 7 40"/>
          <p:cNvCxnSpPr/>
          <p:nvPr/>
        </p:nvCxnSpPr>
        <p:spPr>
          <a:xfrm>
            <a:off x="4643280" y="2492280"/>
            <a:ext cx="1442160" cy="145440"/>
          </a:xfrm>
          <a:prstGeom prst="curvedConnector5">
            <a:avLst>
              <a:gd name="adj1" fmla="val 49987"/>
              <a:gd name="adj2" fmla="val 49875"/>
              <a:gd name="adj3" fmla="val 49987"/>
            </a:avLst>
          </a:prstGeom>
          <a:ln w="28440">
            <a:solidFill>
              <a:srgbClr val="c8cde5"/>
            </a:solidFill>
            <a:miter/>
            <a:tailEnd len="med" type="triangle" w="med"/>
          </a:ln>
        </p:spPr>
      </p:cxnSp>
      <p:cxnSp>
        <p:nvCxnSpPr>
          <p:cNvPr id="344" name="Connettore 7 42"/>
          <p:cNvCxnSpPr/>
          <p:nvPr/>
        </p:nvCxnSpPr>
        <p:spPr>
          <a:xfrm>
            <a:off x="4716360" y="3789360"/>
            <a:ext cx="1440360" cy="72000"/>
          </a:xfrm>
          <a:prstGeom prst="curvedConnector5">
            <a:avLst>
              <a:gd name="adj1" fmla="val 38575"/>
              <a:gd name="adj2" fmla="val 49748"/>
              <a:gd name="adj3" fmla="val 38575"/>
            </a:avLst>
          </a:prstGeom>
          <a:ln w="57240">
            <a:solidFill>
              <a:srgbClr val="4e67c8"/>
            </a:solidFill>
            <a:miter/>
            <a:tailEnd len="med" type="triangle" w="med"/>
          </a:ln>
        </p:spPr>
      </p:cxnSp>
      <p:cxnSp>
        <p:nvCxnSpPr>
          <p:cNvPr id="345" name="Connettore 7 48"/>
          <p:cNvCxnSpPr>
            <a:endCxn id="324" idx="2"/>
          </p:cNvCxnSpPr>
          <p:nvPr/>
        </p:nvCxnSpPr>
        <p:spPr>
          <a:xfrm>
            <a:off x="4716000" y="3141360"/>
            <a:ext cx="1872360" cy="356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28440">
            <a:solidFill>
              <a:srgbClr val="81d31a"/>
            </a:solidFill>
            <a:miter/>
            <a:tailEnd len="med" type="triangle" w="med"/>
          </a:ln>
        </p:spPr>
      </p:cxnSp>
      <p:cxnSp>
        <p:nvCxnSpPr>
          <p:cNvPr id="346" name="Connettore 4 50"/>
          <p:cNvCxnSpPr/>
          <p:nvPr/>
        </p:nvCxnSpPr>
        <p:spPr>
          <a:xfrm flipV="1">
            <a:off x="3850200" y="3644280"/>
            <a:ext cx="361080" cy="21636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7" name="CasellaDiTesto 55"/>
          <p:cNvSpPr/>
          <p:nvPr/>
        </p:nvSpPr>
        <p:spPr>
          <a:xfrm>
            <a:off x="5076720" y="2565360"/>
            <a:ext cx="50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GPL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CasellaDiTesto 56"/>
          <p:cNvSpPr/>
          <p:nvPr/>
        </p:nvSpPr>
        <p:spPr>
          <a:xfrm>
            <a:off x="5003640" y="3213000"/>
            <a:ext cx="79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rebuchet MS"/>
              </a:rPr>
              <a:t>BENZINA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CasellaDiTesto 57"/>
          <p:cNvSpPr/>
          <p:nvPr/>
        </p:nvSpPr>
        <p:spPr>
          <a:xfrm>
            <a:off x="5003640" y="3860640"/>
            <a:ext cx="936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Trebuchet MS"/>
              </a:rPr>
              <a:t>GASOLIO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Triangolo isoscele 58"/>
          <p:cNvSpPr/>
          <p:nvPr/>
        </p:nvSpPr>
        <p:spPr>
          <a:xfrm flipV="1">
            <a:off x="6372360" y="6236640"/>
            <a:ext cx="360360" cy="431640"/>
          </a:xfrm>
          <a:prstGeom prst="triangle">
            <a:avLst>
              <a:gd name="adj" fmla="val 50000"/>
            </a:avLst>
          </a:prstGeom>
          <a:solidFill>
            <a:srgbClr val="34ac8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Connettore 1 63"/>
          <p:cNvSpPr/>
          <p:nvPr/>
        </p:nvSpPr>
        <p:spPr>
          <a:xfrm flipH="1">
            <a:off x="6588000" y="5661000"/>
            <a:ext cx="144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2" name="Rettangolo arrotondato 66"/>
          <p:cNvSpPr/>
          <p:nvPr/>
        </p:nvSpPr>
        <p:spPr>
          <a:xfrm>
            <a:off x="6372360" y="5157720"/>
            <a:ext cx="360360" cy="1079640"/>
          </a:xfrm>
          <a:custGeom>
            <a:avLst/>
            <a:gdLst>
              <a:gd name="textAreaLeft" fmla="*/ 17280 w 360360"/>
              <a:gd name="textAreaRight" fmla="*/ 343080 w 360360"/>
              <a:gd name="textAreaTop" fmla="*/ 17280 h 1079640"/>
              <a:gd name="textAreaBottom" fmla="*/ 1062360 h 1079640"/>
            </a:gdLst>
            <a:ahLst/>
            <a:rect l="textAreaLeft" t="textAreaTop" r="textAreaRight" b="textAreaBottom"/>
            <a:pathLst>
              <a:path w="21600" h="64671">
                <a:moveTo>
                  <a:pt x="3600" y="0"/>
                </a:moveTo>
                <a:arcTo wR="3600" hR="3600" stAng="16200000" swAng="-5400000"/>
                <a:lnTo>
                  <a:pt x="0" y="61071"/>
                </a:lnTo>
                <a:arcTo wR="3600" hR="3600" stAng="10800000" swAng="-5400000"/>
                <a:lnTo>
                  <a:pt x="18000" y="6467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4ac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3" name="Ritaglia angolo stesso lato rettangolo 59"/>
          <p:cNvSpPr/>
          <p:nvPr/>
        </p:nvSpPr>
        <p:spPr>
          <a:xfrm flipV="1">
            <a:off x="6300720" y="5299920"/>
            <a:ext cx="503280" cy="144360"/>
          </a:xfrm>
          <a:custGeom>
            <a:avLst/>
            <a:gdLst/>
            <a:ahLst/>
            <a:rect l="l" t="t" r="r" b="b"/>
            <a:pathLst>
              <a:path w="503237" h="144462">
                <a:moveTo>
                  <a:pt x="24077" y="0"/>
                </a:moveTo>
                <a:lnTo>
                  <a:pt x="479160" y="0"/>
                </a:lnTo>
                <a:lnTo>
                  <a:pt x="503237" y="24077"/>
                </a:lnTo>
                <a:lnTo>
                  <a:pt x="503237" y="144462"/>
                </a:lnTo>
                <a:lnTo>
                  <a:pt x="503237" y="144462"/>
                </a:lnTo>
                <a:lnTo>
                  <a:pt x="0" y="144462"/>
                </a:lnTo>
                <a:lnTo>
                  <a:pt x="0" y="144462"/>
                </a:lnTo>
                <a:lnTo>
                  <a:pt x="0" y="24077"/>
                </a:lnTo>
                <a:lnTo>
                  <a:pt x="24077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4" name="Connettore 1 62"/>
          <p:cNvSpPr/>
          <p:nvPr/>
        </p:nvSpPr>
        <p:spPr>
          <a:xfrm>
            <a:off x="6588000" y="5516640"/>
            <a:ext cx="0" cy="649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5" name="Ovale 65"/>
          <p:cNvSpPr/>
          <p:nvPr/>
        </p:nvSpPr>
        <p:spPr>
          <a:xfrm flipH="1" flipV="1">
            <a:off x="6516720" y="5373720"/>
            <a:ext cx="117360" cy="46080"/>
          </a:xfrm>
          <a:prstGeom prst="ellipse">
            <a:avLst/>
          </a:prstGeom>
          <a:noFill/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6" name="Connettore 1 72"/>
          <p:cNvSpPr/>
          <p:nvPr/>
        </p:nvSpPr>
        <p:spPr>
          <a:xfrm flipV="1">
            <a:off x="6516720" y="3860640"/>
            <a:ext cx="503280" cy="36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7" name="Connettore 1 74"/>
          <p:cNvSpPr/>
          <p:nvPr/>
        </p:nvSpPr>
        <p:spPr>
          <a:xfrm>
            <a:off x="7020000" y="2565360"/>
            <a:ext cx="0" cy="360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8" name="Connettore 1 76"/>
          <p:cNvSpPr/>
          <p:nvPr/>
        </p:nvSpPr>
        <p:spPr>
          <a:xfrm flipH="1" flipV="1">
            <a:off x="6732720" y="5697360"/>
            <a:ext cx="287280" cy="35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9" name="Connettore 1 78"/>
          <p:cNvSpPr/>
          <p:nvPr/>
        </p:nvSpPr>
        <p:spPr>
          <a:xfrm flipH="1">
            <a:off x="6588000" y="5697360"/>
            <a:ext cx="144720" cy="35280"/>
          </a:xfrm>
          <a:prstGeom prst="line">
            <a:avLst/>
          </a:prstGeom>
          <a:ln w="381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0" name="Ritaglia angolo stesso lato rettangolo 80"/>
          <p:cNvSpPr/>
          <p:nvPr/>
        </p:nvSpPr>
        <p:spPr>
          <a:xfrm>
            <a:off x="7812000" y="2205000"/>
            <a:ext cx="360360" cy="287280"/>
          </a:xfrm>
          <a:custGeom>
            <a:avLst/>
            <a:gdLst/>
            <a:ahLst/>
            <a:rect l="l" t="t" r="r" b="b"/>
            <a:pathLst>
              <a:path w="360362" h="287337">
                <a:moveTo>
                  <a:pt x="47890" y="0"/>
                </a:moveTo>
                <a:lnTo>
                  <a:pt x="312472" y="0"/>
                </a:lnTo>
                <a:lnTo>
                  <a:pt x="360362" y="47890"/>
                </a:lnTo>
                <a:lnTo>
                  <a:pt x="360362" y="287337"/>
                </a:lnTo>
                <a:lnTo>
                  <a:pt x="360362" y="287337"/>
                </a:lnTo>
                <a:lnTo>
                  <a:pt x="0" y="287337"/>
                </a:lnTo>
                <a:lnTo>
                  <a:pt x="0" y="287337"/>
                </a:lnTo>
                <a:lnTo>
                  <a:pt x="0" y="47890"/>
                </a:lnTo>
                <a:lnTo>
                  <a:pt x="47890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Connettore 1 82"/>
          <p:cNvSpPr/>
          <p:nvPr/>
        </p:nvSpPr>
        <p:spPr>
          <a:xfrm flipH="1">
            <a:off x="7235640" y="2492280"/>
            <a:ext cx="936360" cy="0"/>
          </a:xfrm>
          <a:prstGeom prst="line">
            <a:avLst/>
          </a:prstGeom>
          <a:ln w="381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2" name="Ovale 83"/>
          <p:cNvSpPr/>
          <p:nvPr/>
        </p:nvSpPr>
        <p:spPr>
          <a:xfrm>
            <a:off x="7236000" y="2133720"/>
            <a:ext cx="576000" cy="35856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Ovale 85"/>
          <p:cNvSpPr/>
          <p:nvPr/>
        </p:nvSpPr>
        <p:spPr>
          <a:xfrm>
            <a:off x="7380360" y="2492280"/>
            <a:ext cx="144360" cy="1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4" name="Ovale 86"/>
          <p:cNvSpPr/>
          <p:nvPr/>
        </p:nvSpPr>
        <p:spPr>
          <a:xfrm>
            <a:off x="7956720" y="2492280"/>
            <a:ext cx="144360" cy="144720"/>
          </a:xfrm>
          <a:prstGeom prst="ellipse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Rettangolo 87"/>
          <p:cNvSpPr/>
          <p:nvPr/>
        </p:nvSpPr>
        <p:spPr>
          <a:xfrm>
            <a:off x="8101080" y="2276640"/>
            <a:ext cx="71280" cy="72720"/>
          </a:xfrm>
          <a:prstGeom prst="rect">
            <a:avLst/>
          </a:prstGeom>
          <a:solidFill>
            <a:srgbClr val="fffff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CasellaDiTesto 88"/>
          <p:cNvSpPr/>
          <p:nvPr/>
        </p:nvSpPr>
        <p:spPr>
          <a:xfrm>
            <a:off x="1547640" y="2333520"/>
            <a:ext cx="2876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rebuchet MS"/>
              </a:rPr>
              <a:t>APPROVVIGIONAMENTO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7" name="CasellaDiTesto 89"/>
          <p:cNvSpPr/>
          <p:nvPr/>
        </p:nvSpPr>
        <p:spPr>
          <a:xfrm>
            <a:off x="1979640" y="22766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STOCCAGGIO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8" name="CasellaDiTesto 90"/>
          <p:cNvSpPr/>
          <p:nvPr/>
        </p:nvSpPr>
        <p:spPr>
          <a:xfrm>
            <a:off x="3564000" y="1989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PRODUZION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9" name="CasellaDiTesto 91"/>
          <p:cNvSpPr/>
          <p:nvPr/>
        </p:nvSpPr>
        <p:spPr>
          <a:xfrm>
            <a:off x="4643280" y="2421000"/>
            <a:ext cx="216000" cy="179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PRODOTTI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CasellaDiTesto 92"/>
          <p:cNvSpPr/>
          <p:nvPr/>
        </p:nvSpPr>
        <p:spPr>
          <a:xfrm>
            <a:off x="5796000" y="2060640"/>
            <a:ext cx="1224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STOCCAGGIO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CasellaDiTesto 93"/>
          <p:cNvSpPr/>
          <p:nvPr/>
        </p:nvSpPr>
        <p:spPr>
          <a:xfrm>
            <a:off x="7236000" y="2924280"/>
            <a:ext cx="2887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DISTRIBUZION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Connettore 1 68"/>
          <p:cNvSpPr/>
          <p:nvPr/>
        </p:nvSpPr>
        <p:spPr>
          <a:xfrm flipH="1">
            <a:off x="6767640" y="3429000"/>
            <a:ext cx="288720" cy="0"/>
          </a:xfrm>
          <a:prstGeom prst="line">
            <a:avLst/>
          </a:prstGeom>
          <a:ln w="572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3" name="Connettore 1 96"/>
          <p:cNvSpPr/>
          <p:nvPr/>
        </p:nvSpPr>
        <p:spPr>
          <a:xfrm flipH="1">
            <a:off x="6443280" y="2600280"/>
            <a:ext cx="576360" cy="32400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Ovale 98"/>
          <p:cNvSpPr/>
          <p:nvPr/>
        </p:nvSpPr>
        <p:spPr>
          <a:xfrm>
            <a:off x="6948360" y="3789360"/>
            <a:ext cx="71640" cy="712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Ovale 99"/>
          <p:cNvSpPr/>
          <p:nvPr/>
        </p:nvSpPr>
        <p:spPr>
          <a:xfrm>
            <a:off x="6948360" y="3357720"/>
            <a:ext cx="144720" cy="7128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Connettore 1 100"/>
          <p:cNvSpPr/>
          <p:nvPr/>
        </p:nvSpPr>
        <p:spPr>
          <a:xfrm flipH="1" flipV="1">
            <a:off x="6732360" y="5697360"/>
            <a:ext cx="215640" cy="3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1520" bIns="-11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7" name="Ovale 101"/>
          <p:cNvSpPr/>
          <p:nvPr/>
        </p:nvSpPr>
        <p:spPr>
          <a:xfrm>
            <a:off x="6983280" y="2565360"/>
            <a:ext cx="44640" cy="71640"/>
          </a:xfrm>
          <a:prstGeom prst="ellipse">
            <a:avLst/>
          </a:prstGeom>
          <a:solidFill>
            <a:srgbClr val="4e67c8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Ritaglia angolo stesso lato rettangolo 103"/>
          <p:cNvSpPr/>
          <p:nvPr/>
        </p:nvSpPr>
        <p:spPr>
          <a:xfrm>
            <a:off x="2050920" y="5950080"/>
            <a:ext cx="144720" cy="71280"/>
          </a:xfrm>
          <a:custGeom>
            <a:avLst/>
            <a:gdLst/>
            <a:ahLst/>
            <a:rect l="l" t="t" r="r" b="b"/>
            <a:pathLst>
              <a:path w="144463" h="71438">
                <a:moveTo>
                  <a:pt x="11907" y="0"/>
                </a:moveTo>
                <a:lnTo>
                  <a:pt x="132556" y="0"/>
                </a:lnTo>
                <a:lnTo>
                  <a:pt x="144463" y="11907"/>
                </a:lnTo>
                <a:lnTo>
                  <a:pt x="144463" y="71438"/>
                </a:lnTo>
                <a:lnTo>
                  <a:pt x="144463" y="71438"/>
                </a:lnTo>
                <a:lnTo>
                  <a:pt x="0" y="71438"/>
                </a:lnTo>
                <a:lnTo>
                  <a:pt x="0" y="71438"/>
                </a:lnTo>
                <a:lnTo>
                  <a:pt x="0" y="11907"/>
                </a:lnTo>
                <a:lnTo>
                  <a:pt x="11907" y="0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Ritaglia angolo stesso lato rettangolo 104"/>
          <p:cNvSpPr/>
          <p:nvPr/>
        </p:nvSpPr>
        <p:spPr>
          <a:xfrm>
            <a:off x="6948360" y="6165720"/>
            <a:ext cx="144720" cy="71640"/>
          </a:xfrm>
          <a:custGeom>
            <a:avLst/>
            <a:gdLst/>
            <a:ahLst/>
            <a:rect l="l" t="t" r="r" b="b"/>
            <a:pathLst>
              <a:path w="144462" h="71438">
                <a:moveTo>
                  <a:pt x="11907" y="0"/>
                </a:moveTo>
                <a:lnTo>
                  <a:pt x="132555" y="0"/>
                </a:lnTo>
                <a:lnTo>
                  <a:pt x="144462" y="11907"/>
                </a:lnTo>
                <a:lnTo>
                  <a:pt x="144462" y="71438"/>
                </a:lnTo>
                <a:lnTo>
                  <a:pt x="144462" y="71438"/>
                </a:lnTo>
                <a:lnTo>
                  <a:pt x="0" y="71438"/>
                </a:lnTo>
                <a:lnTo>
                  <a:pt x="0" y="71438"/>
                </a:lnTo>
                <a:lnTo>
                  <a:pt x="0" y="11907"/>
                </a:lnTo>
                <a:lnTo>
                  <a:pt x="11907" y="0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CasellaDiTesto 64"/>
          <p:cNvSpPr/>
          <p:nvPr/>
        </p:nvSpPr>
        <p:spPr>
          <a:xfrm>
            <a:off x="5580000" y="5950080"/>
            <a:ext cx="792360" cy="855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rebuchet MS"/>
              </a:rPr>
              <a:t>Navi  trasporto prodotti : ai depositi costieri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1" name="CasellaDiTesto 67"/>
          <p:cNvSpPr/>
          <p:nvPr/>
        </p:nvSpPr>
        <p:spPr>
          <a:xfrm>
            <a:off x="8244000" y="1844640"/>
            <a:ext cx="900000" cy="264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rebuchet MS"/>
              </a:rPr>
              <a:t>UTILIZATORI</a:t>
            </a: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Sistemi di distribuzione dei carburanti per autotrazione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Aeroporti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( carburanti per aerei )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Fornitori di servizi di bunkeraggio per navi o direttamente alle navi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Approvvigionamento di aziende di rivendita;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Trebuchet MS"/>
              </a:rPr>
              <a:t>Aziende di produzione.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Freccia angolare in su 79"/>
          <p:cNvSpPr/>
          <p:nvPr/>
        </p:nvSpPr>
        <p:spPr>
          <a:xfrm rot="5400000">
            <a:off x="7848720" y="2457360"/>
            <a:ext cx="287280" cy="503280"/>
          </a:xfrm>
          <a:custGeom>
            <a:avLst/>
            <a:gdLst/>
            <a:ahLst/>
            <a:rect l="l" t="t" r="r" b="b"/>
            <a:pathLst>
              <a:path w="287338" h="503238">
                <a:moveTo>
                  <a:pt x="0" y="431404"/>
                </a:moveTo>
                <a:lnTo>
                  <a:pt x="179586" y="431404"/>
                </a:lnTo>
                <a:lnTo>
                  <a:pt x="179586" y="71835"/>
                </a:lnTo>
                <a:lnTo>
                  <a:pt x="143669" y="71835"/>
                </a:lnTo>
                <a:lnTo>
                  <a:pt x="215504" y="0"/>
                </a:lnTo>
                <a:lnTo>
                  <a:pt x="287338" y="71835"/>
                </a:lnTo>
                <a:lnTo>
                  <a:pt x="251421" y="71835"/>
                </a:lnTo>
                <a:lnTo>
                  <a:pt x="251421" y="503238"/>
                </a:lnTo>
                <a:lnTo>
                  <a:pt x="0" y="503238"/>
                </a:lnTo>
                <a:lnTo>
                  <a:pt x="0" y="431404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Freccia angolare in su 69"/>
          <p:cNvSpPr/>
          <p:nvPr/>
        </p:nvSpPr>
        <p:spPr>
          <a:xfrm flipH="1" flipV="1">
            <a:off x="5867280" y="5661000"/>
            <a:ext cx="433440" cy="216000"/>
          </a:xfrm>
          <a:custGeom>
            <a:avLst/>
            <a:gdLst/>
            <a:ahLst/>
            <a:rect l="l" t="t" r="r" b="b"/>
            <a:pathLst>
              <a:path w="433388" h="215900">
                <a:moveTo>
                  <a:pt x="0" y="161925"/>
                </a:moveTo>
                <a:lnTo>
                  <a:pt x="352426" y="161925"/>
                </a:lnTo>
                <a:lnTo>
                  <a:pt x="352426" y="53975"/>
                </a:lnTo>
                <a:lnTo>
                  <a:pt x="325438" y="53975"/>
                </a:lnTo>
                <a:lnTo>
                  <a:pt x="379413" y="0"/>
                </a:lnTo>
                <a:lnTo>
                  <a:pt x="433388" y="53975"/>
                </a:lnTo>
                <a:lnTo>
                  <a:pt x="406401" y="53975"/>
                </a:lnTo>
                <a:lnTo>
                  <a:pt x="406401" y="215900"/>
                </a:lnTo>
                <a:lnTo>
                  <a:pt x="0" y="215900"/>
                </a:lnTo>
                <a:lnTo>
                  <a:pt x="0" y="161925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84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olo 1" descr=""/>
          <p:cNvPicPr/>
          <p:nvPr/>
        </p:nvPicPr>
        <p:blipFill>
          <a:blip r:embed="rId1"/>
          <a:stretch/>
        </p:blipFill>
        <p:spPr>
          <a:xfrm>
            <a:off x="457200" y="665280"/>
            <a:ext cx="8229600" cy="7063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l ciclo logistico del trasporto dei prodotti petroliferi prevede le seguenti fasi: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Estrazione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prod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della materia prima 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Trasferimento dai punti di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prod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a quelli di lavorazione (raffinazione) del greggio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trasporto/logistica dei grandi volumi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Stoccaggio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  del greggio e sua raffinazione (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prod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dei prodotti raffinati 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Stoccaggio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dei prodotti raffinati e loro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distrib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alle aziende di grossisti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Logistica della grande distribuzione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;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Trasferimento dai punti di raffinazione a quelli di utilizzazione dei prodotti (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logistica del trasporto e della distribuzione organizzata agli utilizzatori finali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Titolo 1" descr=""/>
          <p:cNvPicPr/>
          <p:nvPr/>
        </p:nvPicPr>
        <p:blipFill>
          <a:blip r:embed="rId1"/>
          <a:stretch/>
        </p:blipFill>
        <p:spPr>
          <a:xfrm>
            <a:off x="433440" y="738360"/>
            <a:ext cx="8356680" cy="792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108000" y="1844280"/>
            <a:ext cx="1882800" cy="26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13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uoghi di produzione della materia prim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13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Zone di estrazione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cxnSp>
        <p:nvCxnSpPr>
          <p:cNvPr id="233" name="Connettore 2 6"/>
          <p:cNvCxnSpPr/>
          <p:nvPr/>
        </p:nvCxnSpPr>
        <p:spPr>
          <a:xfrm flipV="1">
            <a:off x="1763640" y="2276280"/>
            <a:ext cx="1153440" cy="100872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34" name="Text Box 5"/>
          <p:cNvSpPr/>
          <p:nvPr/>
        </p:nvSpPr>
        <p:spPr>
          <a:xfrm>
            <a:off x="3059280" y="1989000"/>
            <a:ext cx="1725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Off - sho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CasellaDiTesto 10"/>
          <p:cNvSpPr/>
          <p:nvPr/>
        </p:nvSpPr>
        <p:spPr>
          <a:xfrm>
            <a:off x="4932360" y="1341360"/>
            <a:ext cx="33847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Piattaforme fisse o ancorate al fondo, piattaforme semoventi,  navi appositamente trasformate FPSOS - Fixed Production Storage and Offloading System -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36" name="Connettore 2 12"/>
          <p:cNvCxnSpPr/>
          <p:nvPr/>
        </p:nvCxnSpPr>
        <p:spPr>
          <a:xfrm>
            <a:off x="1763280" y="4076280"/>
            <a:ext cx="1296360" cy="6483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37" name="Text Box 7"/>
          <p:cNvSpPr/>
          <p:nvPr/>
        </p:nvSpPr>
        <p:spPr>
          <a:xfrm>
            <a:off x="3276720" y="4653000"/>
            <a:ext cx="1582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In - shor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CasellaDiTesto 15"/>
          <p:cNvSpPr/>
          <p:nvPr/>
        </p:nvSpPr>
        <p:spPr>
          <a:xfrm>
            <a:off x="5003640" y="4292640"/>
            <a:ext cx="3384720" cy="1159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rebuchet MS"/>
              </a:rPr>
              <a:t>Pozzi petroliferi ( impianti di perforazione, estrazione, stoccaggio in serbatoi o trasferimento via oleodotto )</a:t>
            </a: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Cubo 21"/>
          <p:cNvSpPr/>
          <p:nvPr/>
        </p:nvSpPr>
        <p:spPr>
          <a:xfrm>
            <a:off x="5651640" y="1916280"/>
            <a:ext cx="2592360" cy="1368360"/>
          </a:xfrm>
          <a:prstGeom prst="cube">
            <a:avLst>
              <a:gd name="adj" fmla="val 45685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3" name="Titolo 1" descr=""/>
          <p:cNvPicPr/>
          <p:nvPr/>
        </p:nvPicPr>
        <p:blipFill>
          <a:blip r:embed="rId1"/>
          <a:stretch/>
        </p:blipFill>
        <p:spPr>
          <a:xfrm>
            <a:off x="457200" y="652320"/>
            <a:ext cx="8308800" cy="7858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3"/>
          <p:cNvSpPr/>
          <p:nvPr/>
        </p:nvSpPr>
        <p:spPr>
          <a:xfrm>
            <a:off x="179280" y="2565360"/>
            <a:ext cx="1882800" cy="248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Luoghi di produzione: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624"/>
              </a:spcBef>
              <a:buClr>
                <a:srgbClr val="a7ea52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Zone di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Trebuchet MS"/>
              </a:rPr>
              <a:t>estrazion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5" name="Connettore 2 9"/>
          <p:cNvCxnSpPr/>
          <p:nvPr/>
        </p:nvCxnSpPr>
        <p:spPr>
          <a:xfrm flipV="1">
            <a:off x="2050920" y="2204640"/>
            <a:ext cx="4106160" cy="1008720"/>
          </a:xfrm>
          <a:prstGeom prst="straightConnector1">
            <a:avLst/>
          </a:prstGeom>
          <a:ln w="76320">
            <a:solidFill>
              <a:srgbClr val="ff0000"/>
            </a:solidFill>
            <a:miter/>
          </a:ln>
        </p:spPr>
      </p:cxnSp>
      <p:sp>
        <p:nvSpPr>
          <p:cNvPr id="246" name="CasellaDiTesto 12"/>
          <p:cNvSpPr/>
          <p:nvPr/>
        </p:nvSpPr>
        <p:spPr>
          <a:xfrm rot="20812800">
            <a:off x="2073240" y="2340720"/>
            <a:ext cx="3703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Oleodotto - Via terra o mare ( per piccole distanze) -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47" name="Connettore 2 15"/>
          <p:cNvCxnSpPr>
            <a:stCxn id="244" idx="3"/>
          </p:cNvCxnSpPr>
          <p:nvPr/>
        </p:nvCxnSpPr>
        <p:spPr>
          <a:xfrm>
            <a:off x="2062080" y="3811320"/>
            <a:ext cx="494640" cy="4100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CasellaDiTesto 17"/>
          <p:cNvSpPr/>
          <p:nvPr/>
        </p:nvSpPr>
        <p:spPr>
          <a:xfrm>
            <a:off x="2124000" y="4221000"/>
            <a:ext cx="316872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Via mare con navi ( Crude Oil Carrier ):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Dai terminal  off-shore a cui il petrolio arriva, via oleodotto, dai campi di pozzi petroliferi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Direttamente dalle piattaforme  fisse o dalle FPSOS;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Dai SPM ( Single Point Mooring ) , boe posizionate sulle teste di pozzo sottomarine   costruite dopo trivellazione delle piattaforme  mobili.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Cilindro 22"/>
          <p:cNvSpPr/>
          <p:nvPr/>
        </p:nvSpPr>
        <p:spPr>
          <a:xfrm>
            <a:off x="6084720" y="1916280"/>
            <a:ext cx="719280" cy="504720"/>
          </a:xfrm>
          <a:prstGeom prst="can">
            <a:avLst>
              <a:gd name="adj" fmla="val 25000"/>
            </a:avLst>
          </a:prstGeom>
          <a:solidFill>
            <a:srgbClr val="bfbfbf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0" name="Elaborazione alternativa 24"/>
          <p:cNvSpPr/>
          <p:nvPr/>
        </p:nvSpPr>
        <p:spPr>
          <a:xfrm>
            <a:off x="7093080" y="1268280"/>
            <a:ext cx="215640" cy="1081080"/>
          </a:xfrm>
          <a:prstGeom prst="flowChartAlternateProcess">
            <a:avLst/>
          </a:prstGeom>
          <a:solidFill>
            <a:srgbClr val="d9d9d9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Cilindro 25"/>
          <p:cNvSpPr/>
          <p:nvPr/>
        </p:nvSpPr>
        <p:spPr>
          <a:xfrm>
            <a:off x="7812000" y="1916280"/>
            <a:ext cx="216000" cy="217440"/>
          </a:xfrm>
          <a:prstGeom prst="can">
            <a:avLst>
              <a:gd name="adj" fmla="val 24819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Cilindro 26"/>
          <p:cNvSpPr/>
          <p:nvPr/>
        </p:nvSpPr>
        <p:spPr>
          <a:xfrm>
            <a:off x="7596360" y="2133720"/>
            <a:ext cx="215640" cy="215640"/>
          </a:xfrm>
          <a:prstGeom prst="can">
            <a:avLst>
              <a:gd name="adj" fmla="val 25000"/>
            </a:avLst>
          </a:prstGeom>
          <a:solidFill>
            <a:srgbClr val="4e67c8"/>
          </a:solidFill>
          <a:ln w="15840">
            <a:solidFill>
              <a:srgbClr val="1c2b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Figura a mano libera 28"/>
          <p:cNvSpPr/>
          <p:nvPr/>
        </p:nvSpPr>
        <p:spPr>
          <a:xfrm>
            <a:off x="5353200" y="3022560"/>
            <a:ext cx="2431800" cy="2710080"/>
          </a:xfrm>
          <a:custGeom>
            <a:avLst/>
            <a:gdLst/>
            <a:ahLst/>
            <a:rect l="l" t="t" r="r" b="b"/>
            <a:pathLst>
              <a:path w="2431490" h="2104359">
                <a:moveTo>
                  <a:pt x="426838" y="3417"/>
                </a:moveTo>
                <a:lnTo>
                  <a:pt x="426838" y="3417"/>
                </a:lnTo>
                <a:cubicBezTo>
                  <a:pt x="408695" y="36074"/>
                  <a:pt x="389889" y="68371"/>
                  <a:pt x="372410" y="101388"/>
                </a:cubicBezTo>
                <a:cubicBezTo>
                  <a:pt x="357225" y="130071"/>
                  <a:pt x="346870" y="161470"/>
                  <a:pt x="328867" y="188474"/>
                </a:cubicBezTo>
                <a:cubicBezTo>
                  <a:pt x="314353" y="210245"/>
                  <a:pt x="293598" y="228965"/>
                  <a:pt x="285324" y="253788"/>
                </a:cubicBezTo>
                <a:cubicBezTo>
                  <a:pt x="274468" y="286355"/>
                  <a:pt x="273447" y="321875"/>
                  <a:pt x="241781" y="340874"/>
                </a:cubicBezTo>
                <a:cubicBezTo>
                  <a:pt x="231942" y="346777"/>
                  <a:pt x="220010" y="348131"/>
                  <a:pt x="209124" y="351759"/>
                </a:cubicBezTo>
                <a:cubicBezTo>
                  <a:pt x="201867" y="359016"/>
                  <a:pt x="192633" y="364730"/>
                  <a:pt x="187353" y="373531"/>
                </a:cubicBezTo>
                <a:cubicBezTo>
                  <a:pt x="172772" y="397832"/>
                  <a:pt x="168208" y="467941"/>
                  <a:pt x="165581" y="482388"/>
                </a:cubicBezTo>
                <a:cubicBezTo>
                  <a:pt x="162905" y="497108"/>
                  <a:pt x="158805" y="511546"/>
                  <a:pt x="154695" y="525931"/>
                </a:cubicBezTo>
                <a:cubicBezTo>
                  <a:pt x="151543" y="536964"/>
                  <a:pt x="143810" y="558588"/>
                  <a:pt x="143810" y="558588"/>
                </a:cubicBezTo>
                <a:lnTo>
                  <a:pt x="67610" y="710988"/>
                </a:lnTo>
                <a:cubicBezTo>
                  <a:pt x="26895" y="819562"/>
                  <a:pt x="44757" y="768662"/>
                  <a:pt x="13181" y="863388"/>
                </a:cubicBezTo>
                <a:cubicBezTo>
                  <a:pt x="0" y="902930"/>
                  <a:pt x="2295" y="884570"/>
                  <a:pt x="2295" y="917817"/>
                </a:cubicBezTo>
                <a:lnTo>
                  <a:pt x="24067" y="1037559"/>
                </a:lnTo>
                <a:cubicBezTo>
                  <a:pt x="16810" y="1073845"/>
                  <a:pt x="4932" y="1109506"/>
                  <a:pt x="2295" y="1146417"/>
                </a:cubicBezTo>
                <a:cubicBezTo>
                  <a:pt x="40" y="1177980"/>
                  <a:pt x="13325" y="1194428"/>
                  <a:pt x="34953" y="1211731"/>
                </a:cubicBezTo>
                <a:cubicBezTo>
                  <a:pt x="45169" y="1219904"/>
                  <a:pt x="55908" y="1227651"/>
                  <a:pt x="67610" y="1233502"/>
                </a:cubicBezTo>
                <a:cubicBezTo>
                  <a:pt x="77873" y="1238634"/>
                  <a:pt x="89381" y="1240759"/>
                  <a:pt x="100267" y="1244388"/>
                </a:cubicBezTo>
                <a:cubicBezTo>
                  <a:pt x="103896" y="1255274"/>
                  <a:pt x="106021" y="1266782"/>
                  <a:pt x="111153" y="1277045"/>
                </a:cubicBezTo>
                <a:cubicBezTo>
                  <a:pt x="117004" y="1288747"/>
                  <a:pt x="125320" y="1299056"/>
                  <a:pt x="132924" y="1309702"/>
                </a:cubicBezTo>
                <a:cubicBezTo>
                  <a:pt x="165058" y="1354690"/>
                  <a:pt x="175264" y="1367402"/>
                  <a:pt x="220010" y="1407674"/>
                </a:cubicBezTo>
                <a:cubicBezTo>
                  <a:pt x="237280" y="1423217"/>
                  <a:pt x="258009" y="1434788"/>
                  <a:pt x="274438" y="1451217"/>
                </a:cubicBezTo>
                <a:cubicBezTo>
                  <a:pt x="333084" y="1509863"/>
                  <a:pt x="277498" y="1487887"/>
                  <a:pt x="361524" y="1538302"/>
                </a:cubicBezTo>
                <a:cubicBezTo>
                  <a:pt x="378280" y="1548356"/>
                  <a:pt x="398871" y="1550584"/>
                  <a:pt x="415953" y="1560074"/>
                </a:cubicBezTo>
                <a:cubicBezTo>
                  <a:pt x="560621" y="1640446"/>
                  <a:pt x="394104" y="1556394"/>
                  <a:pt x="481267" y="1614502"/>
                </a:cubicBezTo>
                <a:cubicBezTo>
                  <a:pt x="494769" y="1623503"/>
                  <a:pt x="509981" y="1629683"/>
                  <a:pt x="524810" y="1636274"/>
                </a:cubicBezTo>
                <a:cubicBezTo>
                  <a:pt x="548763" y="1646920"/>
                  <a:pt x="594250" y="1666078"/>
                  <a:pt x="622781" y="1668931"/>
                </a:cubicBezTo>
                <a:cubicBezTo>
                  <a:pt x="644444" y="1671097"/>
                  <a:pt x="666324" y="1668931"/>
                  <a:pt x="688095" y="1668931"/>
                </a:cubicBezTo>
                <a:lnTo>
                  <a:pt x="1167067" y="1995502"/>
                </a:lnTo>
                <a:lnTo>
                  <a:pt x="1275924" y="2017274"/>
                </a:lnTo>
                <a:cubicBezTo>
                  <a:pt x="1297618" y="2021342"/>
                  <a:pt x="1319595" y="2023830"/>
                  <a:pt x="1341238" y="2028159"/>
                </a:cubicBezTo>
                <a:cubicBezTo>
                  <a:pt x="1355909" y="2031093"/>
                  <a:pt x="1370396" y="2034935"/>
                  <a:pt x="1384781" y="2039045"/>
                </a:cubicBezTo>
                <a:cubicBezTo>
                  <a:pt x="1395814" y="2042197"/>
                  <a:pt x="1406120" y="2048045"/>
                  <a:pt x="1417438" y="2049931"/>
                </a:cubicBezTo>
                <a:cubicBezTo>
                  <a:pt x="1449849" y="2055333"/>
                  <a:pt x="1482753" y="2057188"/>
                  <a:pt x="1515410" y="2060817"/>
                </a:cubicBezTo>
                <a:cubicBezTo>
                  <a:pt x="1537181" y="2068074"/>
                  <a:pt x="1558056" y="2079009"/>
                  <a:pt x="1580724" y="2082588"/>
                </a:cubicBezTo>
                <a:cubicBezTo>
                  <a:pt x="1627456" y="2089967"/>
                  <a:pt x="1675140" y="2088989"/>
                  <a:pt x="1722238" y="2093474"/>
                </a:cubicBezTo>
                <a:cubicBezTo>
                  <a:pt x="1751361" y="2096248"/>
                  <a:pt x="1780295" y="2100731"/>
                  <a:pt x="1809324" y="2104359"/>
                </a:cubicBezTo>
                <a:cubicBezTo>
                  <a:pt x="1827467" y="2100731"/>
                  <a:pt x="1846747" y="2100762"/>
                  <a:pt x="1863753" y="2093474"/>
                </a:cubicBezTo>
                <a:cubicBezTo>
                  <a:pt x="1876638" y="2087952"/>
                  <a:pt x="1902950" y="2047734"/>
                  <a:pt x="1907295" y="2039045"/>
                </a:cubicBezTo>
                <a:cubicBezTo>
                  <a:pt x="1912427" y="2028782"/>
                  <a:pt x="1912608" y="2016419"/>
                  <a:pt x="1918181" y="2006388"/>
                </a:cubicBezTo>
                <a:cubicBezTo>
                  <a:pt x="1955534" y="1939153"/>
                  <a:pt x="1946676" y="1951106"/>
                  <a:pt x="1994381" y="1919302"/>
                </a:cubicBezTo>
                <a:cubicBezTo>
                  <a:pt x="2001638" y="1908416"/>
                  <a:pt x="2009662" y="1898004"/>
                  <a:pt x="2016153" y="1886645"/>
                </a:cubicBezTo>
                <a:cubicBezTo>
                  <a:pt x="2033803" y="1855757"/>
                  <a:pt x="2036962" y="1836967"/>
                  <a:pt x="2059695" y="1810445"/>
                </a:cubicBezTo>
                <a:cubicBezTo>
                  <a:pt x="2073053" y="1794860"/>
                  <a:pt x="2088724" y="1781416"/>
                  <a:pt x="2103238" y="1766902"/>
                </a:cubicBezTo>
                <a:cubicBezTo>
                  <a:pt x="2110495" y="1759645"/>
                  <a:pt x="2115274" y="1748377"/>
                  <a:pt x="2125010" y="1745131"/>
                </a:cubicBezTo>
                <a:cubicBezTo>
                  <a:pt x="2156617" y="1734595"/>
                  <a:pt x="2163468" y="1735494"/>
                  <a:pt x="2190324" y="1712474"/>
                </a:cubicBezTo>
                <a:cubicBezTo>
                  <a:pt x="2238581" y="1671111"/>
                  <a:pt x="2240058" y="1659645"/>
                  <a:pt x="2277410" y="1603617"/>
                </a:cubicBezTo>
                <a:lnTo>
                  <a:pt x="2277410" y="1603617"/>
                </a:lnTo>
                <a:cubicBezTo>
                  <a:pt x="2284667" y="1596360"/>
                  <a:pt x="2289444" y="1585091"/>
                  <a:pt x="2299181" y="1581845"/>
                </a:cubicBezTo>
                <a:cubicBezTo>
                  <a:pt x="2334286" y="1570143"/>
                  <a:pt x="2371752" y="1567331"/>
                  <a:pt x="2408038" y="1560074"/>
                </a:cubicBezTo>
                <a:cubicBezTo>
                  <a:pt x="2415295" y="1523788"/>
                  <a:pt x="2431490" y="1488183"/>
                  <a:pt x="2429810" y="1451217"/>
                </a:cubicBezTo>
                <a:cubicBezTo>
                  <a:pt x="2426181" y="1371388"/>
                  <a:pt x="2424618" y="1291439"/>
                  <a:pt x="2418924" y="1211731"/>
                </a:cubicBezTo>
                <a:cubicBezTo>
                  <a:pt x="2413228" y="1131983"/>
                  <a:pt x="2405699" y="1158826"/>
                  <a:pt x="2386267" y="1081102"/>
                </a:cubicBezTo>
                <a:cubicBezTo>
                  <a:pt x="2372598" y="1026427"/>
                  <a:pt x="2380112" y="1051752"/>
                  <a:pt x="2364495" y="1004902"/>
                </a:cubicBezTo>
                <a:cubicBezTo>
                  <a:pt x="2360867" y="983131"/>
                  <a:pt x="2358963" y="961001"/>
                  <a:pt x="2353610" y="939588"/>
                </a:cubicBezTo>
                <a:cubicBezTo>
                  <a:pt x="2348044" y="917324"/>
                  <a:pt x="2339095" y="896045"/>
                  <a:pt x="2331838" y="874274"/>
                </a:cubicBezTo>
                <a:cubicBezTo>
                  <a:pt x="2319806" y="838177"/>
                  <a:pt x="2320953" y="853091"/>
                  <a:pt x="2320953" y="830731"/>
                </a:cubicBezTo>
                <a:lnTo>
                  <a:pt x="2310067" y="765417"/>
                </a:lnTo>
                <a:cubicBezTo>
                  <a:pt x="2306438" y="718245"/>
                  <a:pt x="2305049" y="670848"/>
                  <a:pt x="2299181" y="623902"/>
                </a:cubicBezTo>
                <a:cubicBezTo>
                  <a:pt x="2297758" y="612516"/>
                  <a:pt x="2290545" y="602497"/>
                  <a:pt x="2288295" y="591245"/>
                </a:cubicBezTo>
                <a:cubicBezTo>
                  <a:pt x="2283263" y="566085"/>
                  <a:pt x="2282000" y="540289"/>
                  <a:pt x="2277410" y="515045"/>
                </a:cubicBezTo>
                <a:cubicBezTo>
                  <a:pt x="2274734" y="500325"/>
                  <a:pt x="2269458" y="486173"/>
                  <a:pt x="2266524" y="471502"/>
                </a:cubicBezTo>
                <a:cubicBezTo>
                  <a:pt x="2252270" y="400234"/>
                  <a:pt x="2261607" y="421634"/>
                  <a:pt x="2244753" y="362645"/>
                </a:cubicBezTo>
                <a:cubicBezTo>
                  <a:pt x="2241601" y="351612"/>
                  <a:pt x="2238999" y="340251"/>
                  <a:pt x="2233867" y="329988"/>
                </a:cubicBezTo>
                <a:cubicBezTo>
                  <a:pt x="2220135" y="302526"/>
                  <a:pt x="2210572" y="295808"/>
                  <a:pt x="2190324" y="275559"/>
                </a:cubicBezTo>
                <a:cubicBezTo>
                  <a:pt x="2176546" y="0"/>
                  <a:pt x="2240300" y="106213"/>
                  <a:pt x="2146781" y="36074"/>
                </a:cubicBezTo>
                <a:cubicBezTo>
                  <a:pt x="2142676" y="32995"/>
                  <a:pt x="2139524" y="28817"/>
                  <a:pt x="2135895" y="25188"/>
                </a:cubicBezTo>
                <a:lnTo>
                  <a:pt x="426838" y="3417"/>
                </a:lnTo>
                <a:close/>
              </a:path>
            </a:pathLst>
          </a:custGeom>
          <a:solidFill>
            <a:srgbClr val="4e67c8"/>
          </a:solidFill>
          <a:ln w="15840">
            <a:solidFill>
              <a:srgbClr val="1c2b6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Cubo 27"/>
          <p:cNvSpPr/>
          <p:nvPr/>
        </p:nvSpPr>
        <p:spPr>
          <a:xfrm>
            <a:off x="7093080" y="2781360"/>
            <a:ext cx="44280" cy="2879640"/>
          </a:xfrm>
          <a:prstGeom prst="cube">
            <a:avLst>
              <a:gd name="adj" fmla="val 25000"/>
            </a:avLst>
          </a:prstGeom>
          <a:solidFill>
            <a:srgbClr val="4e67c8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Ritaglia angolo stesso lato rettangolo 29"/>
          <p:cNvSpPr/>
          <p:nvPr/>
        </p:nvSpPr>
        <p:spPr>
          <a:xfrm>
            <a:off x="6659640" y="3645000"/>
            <a:ext cx="360360" cy="1296720"/>
          </a:xfrm>
          <a:custGeom>
            <a:avLst/>
            <a:gdLst/>
            <a:ahLst/>
            <a:rect l="l" t="t" r="r" b="b"/>
            <a:pathLst>
              <a:path w="360362" h="1296988">
                <a:moveTo>
                  <a:pt x="60062" y="0"/>
                </a:moveTo>
                <a:lnTo>
                  <a:pt x="300300" y="0"/>
                </a:lnTo>
                <a:lnTo>
                  <a:pt x="360362" y="60062"/>
                </a:lnTo>
                <a:lnTo>
                  <a:pt x="360362" y="1296988"/>
                </a:lnTo>
                <a:lnTo>
                  <a:pt x="360362" y="1296988"/>
                </a:lnTo>
                <a:lnTo>
                  <a:pt x="0" y="1296988"/>
                </a:lnTo>
                <a:lnTo>
                  <a:pt x="0" y="1296988"/>
                </a:lnTo>
                <a:lnTo>
                  <a:pt x="0" y="60062"/>
                </a:lnTo>
                <a:lnTo>
                  <a:pt x="60062" y="0"/>
                </a:ln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Triangolo isoscele 30"/>
          <p:cNvSpPr/>
          <p:nvPr/>
        </p:nvSpPr>
        <p:spPr>
          <a:xfrm flipV="1">
            <a:off x="6659640" y="4941000"/>
            <a:ext cx="360360" cy="5749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Arrotonda angolo stesso lato rettangolo 31"/>
          <p:cNvSpPr/>
          <p:nvPr/>
        </p:nvSpPr>
        <p:spPr>
          <a:xfrm>
            <a:off x="6588000" y="3789360"/>
            <a:ext cx="505080" cy="216000"/>
          </a:xfrm>
          <a:custGeom>
            <a:avLst/>
            <a:gdLst/>
            <a:ahLst/>
            <a:rect l="l" t="t" r="r" b="b"/>
            <a:pathLst>
              <a:path w="504825" h="215900">
                <a:moveTo>
                  <a:pt x="35984" y="0"/>
                </a:moveTo>
                <a:lnTo>
                  <a:pt x="468841" y="0"/>
                </a:lnTo>
                <a:cubicBezTo>
                  <a:pt x="488714" y="0"/>
                  <a:pt x="504825" y="16111"/>
                  <a:pt x="504825" y="35984"/>
                </a:cubicBezTo>
                <a:lnTo>
                  <a:pt x="504825" y="215900"/>
                </a:lnTo>
                <a:lnTo>
                  <a:pt x="504825" y="215900"/>
                </a:lnTo>
                <a:lnTo>
                  <a:pt x="0" y="215900"/>
                </a:lnTo>
                <a:lnTo>
                  <a:pt x="0" y="215900"/>
                </a:lnTo>
                <a:lnTo>
                  <a:pt x="0" y="35984"/>
                </a:lnTo>
                <a:cubicBezTo>
                  <a:pt x="0" y="16111"/>
                  <a:pt x="16111" y="0"/>
                  <a:pt x="35984" y="0"/>
                </a:cubicBezTo>
                <a:close/>
              </a:path>
            </a:pathLst>
          </a:custGeom>
          <a:solidFill>
            <a:srgbClr val="ffffff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Connettore 1 34"/>
          <p:cNvSpPr/>
          <p:nvPr/>
        </p:nvSpPr>
        <p:spPr>
          <a:xfrm>
            <a:off x="6840360" y="4005360"/>
            <a:ext cx="0" cy="93636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Connettore 1 36"/>
          <p:cNvSpPr/>
          <p:nvPr/>
        </p:nvSpPr>
        <p:spPr>
          <a:xfrm>
            <a:off x="6840360" y="4005360"/>
            <a:ext cx="0" cy="936360"/>
          </a:xfrm>
          <a:prstGeom prst="line">
            <a:avLst/>
          </a:prstGeom>
          <a:ln w="9360">
            <a:solidFill>
              <a:srgbClr val="4e67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0" name="Connettore 1 39"/>
          <p:cNvSpPr/>
          <p:nvPr/>
        </p:nvSpPr>
        <p:spPr>
          <a:xfrm>
            <a:off x="6875640" y="4005360"/>
            <a:ext cx="0" cy="9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Connettore 1 40"/>
          <p:cNvSpPr/>
          <p:nvPr/>
        </p:nvSpPr>
        <p:spPr>
          <a:xfrm>
            <a:off x="6804000" y="4005360"/>
            <a:ext cx="0" cy="936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2" name="Connettore 2 42"/>
          <p:cNvCxnSpPr/>
          <p:nvPr/>
        </p:nvCxnSpPr>
        <p:spPr>
          <a:xfrm flipV="1">
            <a:off x="5435280" y="4581360"/>
            <a:ext cx="1081800" cy="648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3" name="Connettore 1 45"/>
          <p:cNvSpPr/>
          <p:nvPr/>
        </p:nvSpPr>
        <p:spPr>
          <a:xfrm>
            <a:off x="6875640" y="4365720"/>
            <a:ext cx="21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Connettore 1 46"/>
          <p:cNvSpPr/>
          <p:nvPr/>
        </p:nvSpPr>
        <p:spPr>
          <a:xfrm>
            <a:off x="6875640" y="4508640"/>
            <a:ext cx="2174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Connettore 1 48"/>
          <p:cNvSpPr/>
          <p:nvPr/>
        </p:nvSpPr>
        <p:spPr>
          <a:xfrm flipH="1" flipV="1">
            <a:off x="6803640" y="2168640"/>
            <a:ext cx="289080" cy="612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6" name="CasellaDiTesto 49"/>
          <p:cNvSpPr/>
          <p:nvPr/>
        </p:nvSpPr>
        <p:spPr>
          <a:xfrm rot="19741200">
            <a:off x="5177880" y="5040000"/>
            <a:ext cx="158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0000"/>
                </a:solidFill>
                <a:latin typeface="Trebuchet MS"/>
              </a:rPr>
              <a:t>Crude oil carrier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CasellaDiTesto 6"/>
          <p:cNvSpPr/>
          <p:nvPr/>
        </p:nvSpPr>
        <p:spPr>
          <a:xfrm>
            <a:off x="1187280" y="126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Trasferimento dai luoghi di produzione a quelli di lavorazione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68" name="Connettore 2 51"/>
          <p:cNvCxnSpPr/>
          <p:nvPr/>
        </p:nvCxnSpPr>
        <p:spPr>
          <a:xfrm>
            <a:off x="6803640" y="2060280"/>
            <a:ext cx="289440" cy="108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cxnSp>
        <p:nvCxnSpPr>
          <p:cNvPr id="269" name="Connettore 2 54"/>
          <p:cNvCxnSpPr/>
          <p:nvPr/>
        </p:nvCxnSpPr>
        <p:spPr>
          <a:xfrm>
            <a:off x="7308720" y="1988640"/>
            <a:ext cx="432720" cy="72360"/>
          </a:xfrm>
          <a:prstGeom prst="straightConnector1">
            <a:avLst/>
          </a:prstGeom>
          <a:ln w="9360">
            <a:solidFill>
              <a:srgbClr val="4e67c8"/>
            </a:solidFill>
            <a:miter/>
            <a:tailEnd len="med" type="arrow" w="med"/>
          </a:ln>
        </p:spPr>
      </p:cxnSp>
      <p:sp>
        <p:nvSpPr>
          <p:cNvPr id="270" name="CasellaDiTesto 32"/>
          <p:cNvSpPr/>
          <p:nvPr/>
        </p:nvSpPr>
        <p:spPr>
          <a:xfrm rot="18797400">
            <a:off x="7475760" y="2505960"/>
            <a:ext cx="94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Trebuchet MS"/>
              </a:rPr>
              <a:t>Raffineria</a:t>
            </a:r>
            <a:r>
              <a:rPr b="0" lang="it-IT" sz="12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1" name="CasellaDiTesto 33"/>
          <p:cNvSpPr/>
          <p:nvPr/>
        </p:nvSpPr>
        <p:spPr>
          <a:xfrm>
            <a:off x="6084720" y="2133720"/>
            <a:ext cx="719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000000"/>
                </a:solidFill>
                <a:latin typeface="Trebuchet MS"/>
              </a:rPr>
              <a:t>Greggio</a:t>
            </a:r>
            <a:r>
              <a:rPr b="0" lang="it-IT" sz="11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CasellaDiTesto 35"/>
          <p:cNvSpPr/>
          <p:nvPr/>
        </p:nvSpPr>
        <p:spPr>
          <a:xfrm>
            <a:off x="7236000" y="981000"/>
            <a:ext cx="151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Trebuchet MS"/>
              </a:rPr>
              <a:t>Torre di distillazione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3" name="CasellaDiTesto 37"/>
          <p:cNvSpPr/>
          <p:nvPr/>
        </p:nvSpPr>
        <p:spPr>
          <a:xfrm>
            <a:off x="7596360" y="1557360"/>
            <a:ext cx="154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rebuchet MS"/>
              </a:rPr>
              <a:t>Serbatoi prodotti raffinati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cxnSp>
        <p:nvCxnSpPr>
          <p:cNvPr id="274" name="Connettore 2 41"/>
          <p:cNvCxnSpPr>
            <a:endCxn id="251" idx="1"/>
          </p:cNvCxnSpPr>
          <p:nvPr/>
        </p:nvCxnSpPr>
        <p:spPr>
          <a:xfrm flipH="1">
            <a:off x="7919280" y="1773000"/>
            <a:ext cx="181800" cy="143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75" name="CasellaDiTesto 43"/>
          <p:cNvSpPr/>
          <p:nvPr/>
        </p:nvSpPr>
        <p:spPr>
          <a:xfrm>
            <a:off x="7236000" y="3141720"/>
            <a:ext cx="21564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0000"/>
                </a:solidFill>
                <a:latin typeface="Trebuchet MS"/>
              </a:rPr>
              <a:t>Pontile di     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>
                <a:solidFill>
                  <a:srgbClr val="ff0000"/>
                </a:solidFill>
                <a:latin typeface="Trebuchet MS"/>
              </a:rPr>
              <a:t>ormeggio</a:t>
            </a:r>
            <a:endParaRPr b="0" lang="en-US" sz="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Connettore 1 47"/>
          <p:cNvSpPr/>
          <p:nvPr/>
        </p:nvSpPr>
        <p:spPr>
          <a:xfrm flipH="1">
            <a:off x="7093080" y="2792520"/>
            <a:ext cx="15840" cy="17161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7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5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Titolo 1" descr=""/>
          <p:cNvPicPr/>
          <p:nvPr/>
        </p:nvPicPr>
        <p:blipFill>
          <a:blip r:embed="rId1"/>
          <a:stretch/>
        </p:blipFill>
        <p:spPr>
          <a:xfrm>
            <a:off x="407880" y="738360"/>
            <a:ext cx="8328240" cy="792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23920" indent="-1785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Il processo di lavorazione del greggio e della produzione dei prodotti raffinati si può sintetizzare in quattro fasi: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APPROVVIGIONAMENTO DELLA MATERIA PRIMA ( GREGGIO ) CON NAVI O OLEODOTTI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TRASFERIMENTO DALLA NAVE E STOCCAGGIO DEL GREGGIO IN SERBATOI SITUATI NELL’AREA DELLA RAFFINERIA O ANCHE FUORI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TRASFERIMENTO DEL GREGGIO DAI SERBATOI ALLE TORRI DI RAFFINAZIONE;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PROCESSO DI RAFFINAZIONE ED ESTRAZIONE DEI DIVERSI PRODOTTI E LORO TRASFERIMENTO NEI  SERBATOI DEDICATI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marL="223920" indent="-178560"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Le diverse fasi possono raggrupparsi nella cosiddetta Logistica </a:t>
            </a:r>
            <a:r>
              <a:rPr b="1" i="1" lang="it-IT" sz="2000" spc="-1" strike="noStrike">
                <a:solidFill>
                  <a:srgbClr val="404040"/>
                </a:solidFill>
                <a:latin typeface="Trebuchet MS"/>
              </a:rPr>
              <a:t>IN - BUOND  </a:t>
            </a:r>
            <a:r>
              <a:rPr b="0" lang="it-IT" sz="2000" spc="-1" strike="noStrike">
                <a:solidFill>
                  <a:srgbClr val="404040"/>
                </a:solidFill>
                <a:latin typeface="Trebuchet MS"/>
              </a:rPr>
              <a:t>cioè del ciclo dai fornitori da cui la raffineria si approvvigiona della materia prima, al processo di lavorazione interna, allo stoccaggio dei prodotti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2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Titolo 1" descr=""/>
          <p:cNvPicPr/>
          <p:nvPr/>
        </p:nvPicPr>
        <p:blipFill>
          <a:blip r:embed="rId1"/>
          <a:stretch/>
        </p:blipFill>
        <p:spPr>
          <a:xfrm>
            <a:off x="457200" y="603360"/>
            <a:ext cx="8229600" cy="115884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 txBox="1"/>
          <p:nvPr/>
        </p:nvSpPr>
        <p:spPr>
          <a:xfrm>
            <a:off x="457200" y="1628640"/>
            <a:ext cx="8229600" cy="469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a materia prima, il petrolio, proviene dai diversi paesi produttori con cui la raffineria stipula contratti di fornitura mediante intermediazione di grandi aziende di produzione. In questa fase è importante pianificare la fornitura di greggio in relazione a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Capacità  di raffinazion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Sincronia fra produzione e richiesta del mercato dei prodotti raffinati (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Just in Time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Necessità  di non avere scorte immobilizzate, quindi immobilizzo di capitale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Necessità di soddisfare le richieste dei clienti ( 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Customer satisfaction ).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87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0" y="1267920"/>
            <a:ext cx="9144000" cy="505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Questo processo prevede :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a pianificazione degli accosti e degli ormeggi alle strutture off – shore ( pontili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e procedure di manovra per portare la nave all’ormeggio con coinvolgimento dei servizi del terminal ( pilotaggio, rimorchio, ormeggio )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e operazioni del pontile per  collegare  i manifold delle linee ( pipeline) di movimentazione del carico della nave  ai bracci di carico delle condutture del pontile che porteranno il greggio ai relativi serbatoi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L’impiego dei sistemi di movimentazione ( pompe della nave o della raffineria) del greggio;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l controllo della quantità di carico movimentato dalla nave alla raffineria in relazione alla corrispondente “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Polizza di carico 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“ –</a:t>
            </a:r>
            <a:r>
              <a:rPr b="1" lang="it-IT" sz="2200" spc="-1" strike="noStrike">
                <a:solidFill>
                  <a:srgbClr val="404040"/>
                </a:solidFill>
                <a:latin typeface="Trebuchet MS"/>
              </a:rPr>
              <a:t>Bill of Lading –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91" name="CasellaDiTesto 4"/>
          <p:cNvSpPr/>
          <p:nvPr/>
        </p:nvSpPr>
        <p:spPr>
          <a:xfrm>
            <a:off x="539640" y="765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d79ca"/>
                </a:solidFill>
                <a:latin typeface="Trebuchet MS"/>
              </a:rPr>
              <a:t>TRASFERIMENTO DALLA NAVE E STOCCAGGIO DEL GREGGIO NEI SERBATOI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2" name="Picture 2" descr="G:\Ufficio - CentroStudi\SELENE\PROGETTI\PO_ITALIA_FRANCIA_MARITTIMO\PER_MARE\comunicazione\manuale_comunicazione\Logo_Marittimo.jpg"/>
          <p:cNvPicPr/>
          <p:nvPr/>
        </p:nvPicPr>
        <p:blipFill>
          <a:blip r:embed="rId1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5" descr="G:\Ufficio - CentroStudi\SELENE\PROGETTI\PO_ITALIA_FRANCIA_MARITTIMO\PER_MARE\comunicazione\manuale_comunicazione\UE_def.jpg"/>
          <p:cNvPicPr/>
          <p:nvPr/>
        </p:nvPicPr>
        <p:blipFill>
          <a:blip r:embed="rId2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G:\Ufficio - CentroStudi\SELENE\PROGETTI\PO_ITALIA_FRANCIA_MARITTIMO\PER_MARE\comunicazione\manuale_comunicazione\logo-progetto.jpg"/>
          <p:cNvPicPr/>
          <p:nvPr/>
        </p:nvPicPr>
        <p:blipFill>
          <a:blip r:embed="rId3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Titolo 1" descr=""/>
          <p:cNvPicPr/>
          <p:nvPr/>
        </p:nvPicPr>
        <p:blipFill>
          <a:blip r:embed="rId1"/>
          <a:stretch/>
        </p:blipFill>
        <p:spPr>
          <a:xfrm>
            <a:off x="433440" y="652320"/>
            <a:ext cx="8277120" cy="78588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182520" algn="just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In relazione alle caratteristiche delle navi impiegate  ed alla pericolosità del carico movimentato le operazioni elencate devono soddisfare sia ai criteri di economia che soprattutto a quelli di “ </a:t>
            </a:r>
            <a:r>
              <a:rPr b="0" lang="it-IT" sz="2200" spc="-1" strike="noStrike">
                <a:solidFill>
                  <a:srgbClr val="ff0000"/>
                </a:solidFill>
                <a:latin typeface="Trebuchet MS"/>
              </a:rPr>
              <a:t>Safety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“. Le grandi dimensioni della navi richiedono professionalità dei piloti, degli equipaggi delle navi e dei rimorchiatori per quel che attiene le competenze tecniche e quelle linguistiche nell’impiego della micro lingua specifica di settore. 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Parimenti il personale operativo del pontile deve eseguire le proprie mansioni controllando che la nave sia ben ormeggiata, assicurare il collegamento sicuro ai manifold,  attuare tutte quelle misure atte a prevenire sia l’inquinamento  del mare  che  a ridurre il pericolo  del verificarsi dell’evento più temuto in queste  circostanze : </a:t>
            </a:r>
            <a:r>
              <a:rPr b="0" lang="it-IT" sz="2200" spc="-1" strike="noStrike">
                <a:solidFill>
                  <a:srgbClr val="ff0000"/>
                </a:solidFill>
                <a:latin typeface="Trebuchet MS"/>
              </a:rPr>
              <a:t>l’incendio.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Ancora il coordinamento terra - bordo deve assicurare anche la “ </a:t>
            </a:r>
            <a:r>
              <a:rPr b="0" lang="it-IT" sz="2200" spc="-1" strike="noStrike">
                <a:solidFill>
                  <a:srgbClr val="ff0000"/>
                </a:solidFill>
                <a:latin typeface="Trebuchet MS"/>
              </a:rPr>
              <a:t>Security</a:t>
            </a:r>
            <a:r>
              <a:rPr b="0" lang="it-IT" sz="2200" spc="-1" strike="noStrike">
                <a:solidFill>
                  <a:srgbClr val="404040"/>
                </a:solidFill>
                <a:latin typeface="Trebuchet MS"/>
              </a:rPr>
              <a:t> “ rispetto a possibili atti terroristici di cui possono essere oggetto le navi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marL="228600" indent="-182520" algn="just">
              <a:lnSpc>
                <a:spcPct val="80000"/>
              </a:lnSpc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97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Titolo 1" descr=""/>
          <p:cNvPicPr/>
          <p:nvPr/>
        </p:nvPicPr>
        <p:blipFill>
          <a:blip r:embed="rId1"/>
          <a:stretch/>
        </p:blipFill>
        <p:spPr>
          <a:xfrm>
            <a:off x="457200" y="628560"/>
            <a:ext cx="8229600" cy="91908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 txBox="1"/>
          <p:nvPr/>
        </p:nvSpPr>
        <p:spPr>
          <a:xfrm>
            <a:off x="456840" y="1483920"/>
            <a:ext cx="843588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26080" indent="-180360"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4040"/>
                </a:solidFill>
                <a:latin typeface="Trebuchet MS"/>
              </a:rPr>
              <a:t>Le fasi lavorative connesse con l’operatività della raffineria sono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4040"/>
                </a:solidFill>
                <a:latin typeface="Trebuchet MS"/>
              </a:rPr>
              <a:t>Trasferimento del greggio dai serbatoi alle torri di raffinazione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4040"/>
                </a:solidFill>
                <a:latin typeface="Trebuchet MS"/>
              </a:rPr>
              <a:t>Procedimento della raffinazione;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226080" indent="-180360">
              <a:spcBef>
                <a:spcPts val="10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04040"/>
                </a:solidFill>
                <a:latin typeface="Trebuchet MS"/>
              </a:rPr>
              <a:t>Stoccaggio dei diversi prodotti negli appropriati serbatoi.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302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5" descr="G:\Ufficio - CentroStudi\SELENE\PROGETTI\PO_ITALIA_FRANCIA_MARITTIMO\PER_MARE\comunicazione\manuale_comunicazione\UE_def.jpg"/>
          <p:cNvPicPr/>
          <p:nvPr/>
        </p:nvPicPr>
        <p:blipFill>
          <a:blip r:embed="rId3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G:\Ufficio - CentroStudi\SELENE\PROGETTI\PO_ITALIA_FRANCIA_MARITTIMO\PER_MARE\comunicazione\manuale_comunicazione\logo-progetto.jpg"/>
          <p:cNvPicPr/>
          <p:nvPr/>
        </p:nvPicPr>
        <p:blipFill>
          <a:blip r:embed="rId4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4:54:59Z</dcterms:created>
  <dc:creator>Piccini Silvia</dc:creator>
  <dc:description/>
  <dc:language>en-US</dc:language>
  <cp:lastModifiedBy>Piccini Silvia</cp:lastModifiedBy>
  <dcterms:modified xsi:type="dcterms:W3CDTF">2013-11-21T15:55:53Z</dcterms:modified>
  <cp:revision>17</cp:revision>
  <dc:subject/>
  <dc:title>Presentazione standard di PowerPoint</dc:title>
</cp:coreProperties>
</file>