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573-F6D7-480C-AD23-57A37D74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FB0-B222-4A17-8F48-DD761C21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708-FDBB-41DE-914F-B675D07A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6B6-105F-4A49-8861-E0966BAF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94B2-DA6E-4E45-BD56-4F3FF512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D7BA-7EB7-499D-AC86-09CB5682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92D5-28CA-4D1D-A787-43A84569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084D-BDCC-4076-BCEA-882951D6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2310-787F-4E23-B4CA-E09EE738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0A9C-6A52-4EC7-BEB6-E6B9BC42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616C-033B-489E-9E85-3CB12420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862-7B39-4E3C-8406-6A991B6C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4B50-B5D2-439A-8047-2520C84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CBFB-F808-4BBA-BF36-3BFFB3F2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C529-0F70-4200-84C8-748DDA05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0600-FF8E-407A-B292-D711C644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43E4-D750-4D28-8AF8-FD94BFD7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8EE5-1097-4766-AA88-ECEC5A56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EAE83-B4CB-46AA-8907-FFD03A9D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001D-5456-4F3A-9BB0-D43C5DB6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43EA-BBD3-4E50-90B7-41458752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02BD-6F08-4593-A2CD-129BF029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122-83F7-426C-91D8-305E0660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06CF1-87F2-4932-A841-5361CB9D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8E648-F9B7-46AA-AED3-FFE9BBD8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EE9B-0CD7-4971-9DB4-CAA30A09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84CF-4579-4275-B25A-F991782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2583-DDE9-4D50-8D13-2E9158C5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FB0C-BDBD-451F-9CFF-6ACE729C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05CC-6EAB-40D1-B8DB-D9BE257C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54DA0-4719-4136-BBE2-8386C79B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F659-4E27-4BC6-BB1A-68190D3E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7A760-E2DE-47AC-B867-43DD2AFB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AB8-CEC1-4F19-AFE1-A0169BDF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DB82-B801-4A10-A858-F1E1C523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3AD4D-873A-4D30-9B41-5EC5BF4E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CACD5-4574-4535-9E88-693E850B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994C-B40E-4133-8576-789722C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2DB18-08B5-4B3E-A72A-30558F9C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F479-6C84-4753-96CC-C54D490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5481A-0EDB-4037-BE24-564D11B6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A7624-F188-4385-B400-E6104668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4128D-6076-40C1-A4F0-800918C7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D97-5BD8-4591-84CE-4FC0416B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32E-43F7-449B-BC9E-4C5C97F4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F54-9902-4E11-BD08-E8D77958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032-6119-4FF2-9DAF-2D5D15DD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845-9D28-48E8-9D9E-3853E583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E8B5-1183-41C0-81F8-B9571B5C33A8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9FA7-C8E3-4F90-8C36-8D788DB4ABB6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020D-C91F-418F-AA86-C018B67F03C9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2E39-2DF0-47B3-A6BB-90DE08CCDCB7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1.png"/><Relationship Id="rId5" Type="http://schemas.openxmlformats.org/officeDocument/2006/relationships/image" Target="../media/image14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olo 1" descr=""/>
          <p:cNvPicPr/>
          <p:nvPr/>
        </p:nvPicPr>
        <p:blipFill>
          <a:blip r:embed="rId1"/>
          <a:stretch/>
        </p:blipFill>
        <p:spPr>
          <a:xfrm>
            <a:off x="2730600" y="2262240"/>
            <a:ext cx="6572160" cy="2565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309840" y="100080"/>
            <a:ext cx="2517840" cy="134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eli0668\AppData\Local\Temp\ARC8E52\Slogan fra.tif"/>
          <p:cNvPicPr/>
          <p:nvPr/>
        </p:nvPicPr>
        <p:blipFill>
          <a:blip r:embed="rId3"/>
          <a:stretch/>
        </p:blipFill>
        <p:spPr>
          <a:xfrm>
            <a:off x="5864400" y="1427040"/>
            <a:ext cx="23446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Users\eli0668\AppData\Local\Temp\ARCBF13\Slogan it.tif"/>
          <p:cNvPicPr/>
          <p:nvPr/>
        </p:nvPicPr>
        <p:blipFill>
          <a:blip r:embed="rId4"/>
          <a:stretch/>
        </p:blipFill>
        <p:spPr>
          <a:xfrm>
            <a:off x="750960" y="1427040"/>
            <a:ext cx="25621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G:\Ufficio - CentroStudi\SELENE\PROGETTI\PO_ITALIA_FRANCIA_MARITTIMO\PER_MARE\comunicazione\manuale_comunicazione\UE_def.jpg"/>
          <p:cNvPicPr/>
          <p:nvPr/>
        </p:nvPicPr>
        <p:blipFill>
          <a:blip r:embed="rId5"/>
          <a:stretch/>
        </p:blipFill>
        <p:spPr>
          <a:xfrm>
            <a:off x="0" y="6308640"/>
            <a:ext cx="4656240" cy="542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:\Users\eli0668\AppData\Local\Temp\ARC9351\Logo RAS.gif"/>
          <p:cNvPicPr/>
          <p:nvPr/>
        </p:nvPicPr>
        <p:blipFill>
          <a:blip r:embed="rId6"/>
          <a:stretch/>
        </p:blipFill>
        <p:spPr>
          <a:xfrm>
            <a:off x="6084720" y="6210360"/>
            <a:ext cx="1582920" cy="64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:\Users\eli0668\AppData\Local\Temp\ARCD725\Logo Regione Liguria.bmp"/>
          <p:cNvPicPr/>
          <p:nvPr/>
        </p:nvPicPr>
        <p:blipFill>
          <a:blip r:embed="rId7"/>
          <a:stretch/>
        </p:blipFill>
        <p:spPr>
          <a:xfrm>
            <a:off x="5292720" y="6041880"/>
            <a:ext cx="644400" cy="816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Users\eli0668\AppData\Local\Temp\ARC185A\Logo Regione Toscana.bmp"/>
          <p:cNvPicPr/>
          <p:nvPr/>
        </p:nvPicPr>
        <p:blipFill>
          <a:blip r:embed="rId8"/>
          <a:stretch/>
        </p:blipFill>
        <p:spPr>
          <a:xfrm>
            <a:off x="4572000" y="6000840"/>
            <a:ext cx="574560" cy="85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C:\Users\eli0668\AppData\Local\Temp\ARC7163\Logoctc JPEG 2012.jpg"/>
          <p:cNvPicPr/>
          <p:nvPr/>
        </p:nvPicPr>
        <p:blipFill>
          <a:blip r:embed="rId9"/>
          <a:stretch/>
        </p:blipFill>
        <p:spPr>
          <a:xfrm>
            <a:off x="7716960" y="6118200"/>
            <a:ext cx="1395360" cy="733320"/>
          </a:xfrm>
          <a:prstGeom prst="rect">
            <a:avLst/>
          </a:prstGeom>
          <a:ln w="0">
            <a:noFill/>
          </a:ln>
        </p:spPr>
      </p:pic>
      <p:sp>
        <p:nvSpPr>
          <p:cNvPr id="223" name="Rettangolo 2"/>
          <p:cNvSpPr/>
          <p:nvPr/>
        </p:nvSpPr>
        <p:spPr>
          <a:xfrm>
            <a:off x="4451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12" descr="G:\Ufficio - CentroStudi\SELENE\PROGETTI\PO_ITALIA_FRANCIA_MARITTIMO\PER_MARE\comunicazione\manuale_comunicazione\LOGO_MARE02.jpg"/>
          <p:cNvPicPr/>
          <p:nvPr/>
        </p:nvPicPr>
        <p:blipFill>
          <a:blip r:embed="rId10"/>
          <a:stretch/>
        </p:blipFill>
        <p:spPr>
          <a:xfrm>
            <a:off x="115920" y="227664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2"/>
          <p:cNvSpPr/>
          <p:nvPr/>
        </p:nvSpPr>
        <p:spPr>
          <a:xfrm>
            <a:off x="5292720" y="4915080"/>
            <a:ext cx="37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36c8"/>
                </a:solidFill>
                <a:latin typeface="Calibri"/>
                <a:ea typeface="Calibri"/>
              </a:rPr>
              <a:t>Cagliari, 13 Novembre 201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olo 1" descr=""/>
          <p:cNvPicPr/>
          <p:nvPr/>
        </p:nvPicPr>
        <p:blipFill>
          <a:blip r:embed="rId1"/>
          <a:stretch/>
        </p:blipFill>
        <p:spPr>
          <a:xfrm>
            <a:off x="444600" y="828720"/>
            <a:ext cx="8431200" cy="14144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46120" y="2133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 prodotti raffinati vengono distribuiti mediante due tipologie di mezzi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Via terra con autocisterne costruite ed attrezzate per il trasporto di merci pericolose delle classi IMDGC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2               e 3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Via mare con navi costruite ed attrezzate per il trasporto alla rinfusa di merci pericolose secondo la SOLAS Cap. VII parti B ( trasporto prodotti chimici ) e C ( trasporto gas 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7" name="Picture 2" descr="http://www.gevaarlijkestoffen.eu/data/articles/images/small/s_122.gif"/>
          <p:cNvPicPr/>
          <p:nvPr/>
        </p:nvPicPr>
        <p:blipFill>
          <a:blip r:embed="rId2"/>
          <a:stretch/>
        </p:blipFill>
        <p:spPr>
          <a:xfrm>
            <a:off x="826920" y="2997360"/>
            <a:ext cx="865440" cy="936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http://www.mcscs.jus.gov.on.ca/stellent/groups/public/@mcscs/@www/@ofm/documents/webasset/%7Eexport/ECOFM000021%7E4%7EMCSCS_DCT%7EMCSCS_Layout_Template/161367-5.jpg"/>
          <p:cNvPicPr/>
          <p:nvPr/>
        </p:nvPicPr>
        <p:blipFill>
          <a:blip r:embed="rId3"/>
          <a:stretch/>
        </p:blipFill>
        <p:spPr>
          <a:xfrm>
            <a:off x="2484360" y="3068640"/>
            <a:ext cx="838440" cy="790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G:\Ufficio - CentroStudi\SELENE\PROGETTI\PO_ITALIA_FRANCIA_MARITTIMO\PER_MARE\comunicazione\manuale_comunicazione\Logo_Marittimo.jpg"/>
          <p:cNvPicPr/>
          <p:nvPr/>
        </p:nvPicPr>
        <p:blipFill>
          <a:blip r:embed="rId4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G:\Ufficio - CentroStudi\SELENE\PROGETTI\PO_ITALIA_FRANCIA_MARITTIMO\PER_MARE\comunicazione\manuale_comunicazione\UE_def.jpg"/>
          <p:cNvPicPr/>
          <p:nvPr/>
        </p:nvPicPr>
        <p:blipFill>
          <a:blip r:embed="rId5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G:\Ufficio - CentroStudi\SELENE\PROGETTI\PO_ITALIA_FRANCIA_MARITTIMO\PER_MARE\comunicazione\manuale_comunicazione\logo-progetto.jpg"/>
          <p:cNvPicPr/>
          <p:nvPr/>
        </p:nvPicPr>
        <p:blipFill>
          <a:blip r:embed="rId6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olo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437680" cy="1408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546120" y="1887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n questa fase di “ </a:t>
            </a:r>
            <a:r>
              <a:rPr b="1" i="1" lang="it-IT" sz="2200" spc="-1" strike="noStrike">
                <a:solidFill>
                  <a:srgbClr val="404040"/>
                </a:solidFill>
                <a:latin typeface="Trebuchet MS"/>
              </a:rPr>
              <a:t>logistica out – bound 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“ la raffineria diventa fornitore dei prodotti raffinati agli utilizzatori che possono esser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Sistemi di distribuzione dei carburanti per autotrazione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Aeroporti ( carburanti per aerei 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Fornitori di servizi di bunkeraggio per navi o direttamente alle navi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Approvvigionamento di aziende di rivendit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Aziende di produzion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ttangolo 30"/>
          <p:cNvSpPr/>
          <p:nvPr/>
        </p:nvSpPr>
        <p:spPr>
          <a:xfrm>
            <a:off x="1979640" y="4508640"/>
            <a:ext cx="5113440" cy="2349360"/>
          </a:xfrm>
          <a:prstGeom prst="rect">
            <a:avLst/>
          </a:prstGeom>
          <a:solidFill>
            <a:srgbClr val="95a4de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Titolo 1" descr=""/>
          <p:cNvPicPr/>
          <p:nvPr/>
        </p:nvPicPr>
        <p:blipFill>
          <a:blip r:embed="rId1"/>
          <a:stretch/>
        </p:blipFill>
        <p:spPr>
          <a:xfrm>
            <a:off x="457200" y="665280"/>
            <a:ext cx="8229600" cy="1084320"/>
          </a:xfrm>
          <a:prstGeom prst="rect">
            <a:avLst/>
          </a:prstGeom>
          <a:ln w="0">
            <a:noFill/>
          </a:ln>
        </p:spPr>
      </p:pic>
      <p:sp>
        <p:nvSpPr>
          <p:cNvPr id="319" name="Rettangolo 3"/>
          <p:cNvSpPr/>
          <p:nvPr/>
        </p:nvSpPr>
        <p:spPr>
          <a:xfrm>
            <a:off x="1979640" y="2276640"/>
            <a:ext cx="5113440" cy="223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Forma a L 4"/>
          <p:cNvSpPr/>
          <p:nvPr/>
        </p:nvSpPr>
        <p:spPr>
          <a:xfrm rot="10800000">
            <a:off x="6516720" y="4536720"/>
            <a:ext cx="574560" cy="2320920"/>
          </a:xfrm>
          <a:custGeom>
            <a:avLst/>
            <a:gdLst/>
            <a:ahLst/>
            <a:rect l="l" t="t" r="r" b="b"/>
            <a:pathLst>
              <a:path w="574675" h="2320925">
                <a:moveTo>
                  <a:pt x="0" y="0"/>
                </a:moveTo>
                <a:lnTo>
                  <a:pt x="287338" y="0"/>
                </a:lnTo>
                <a:lnTo>
                  <a:pt x="287338" y="2033588"/>
                </a:lnTo>
                <a:lnTo>
                  <a:pt x="574675" y="2033588"/>
                </a:lnTo>
                <a:lnTo>
                  <a:pt x="574675" y="2320925"/>
                </a:lnTo>
                <a:lnTo>
                  <a:pt x="0" y="23209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Forma a L 5"/>
          <p:cNvSpPr/>
          <p:nvPr/>
        </p:nvSpPr>
        <p:spPr>
          <a:xfrm flipH="1" rot="10800000">
            <a:off x="1978560" y="4536720"/>
            <a:ext cx="576360" cy="2320920"/>
          </a:xfrm>
          <a:custGeom>
            <a:avLst/>
            <a:gdLst/>
            <a:ahLst/>
            <a:rect l="l" t="t" r="r" b="b"/>
            <a:pathLst>
              <a:path w="576262" h="2320925">
                <a:moveTo>
                  <a:pt x="0" y="0"/>
                </a:moveTo>
                <a:lnTo>
                  <a:pt x="288131" y="0"/>
                </a:lnTo>
                <a:lnTo>
                  <a:pt x="288131" y="2032794"/>
                </a:lnTo>
                <a:lnTo>
                  <a:pt x="576262" y="2032794"/>
                </a:lnTo>
                <a:lnTo>
                  <a:pt x="576262" y="2320925"/>
                </a:lnTo>
                <a:lnTo>
                  <a:pt x="0" y="23209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Cilindro 7"/>
          <p:cNvSpPr/>
          <p:nvPr/>
        </p:nvSpPr>
        <p:spPr>
          <a:xfrm>
            <a:off x="2268360" y="2708280"/>
            <a:ext cx="863640" cy="1225440"/>
          </a:xfrm>
          <a:prstGeom prst="can">
            <a:avLst>
              <a:gd name="adj" fmla="val 17615"/>
            </a:avLst>
          </a:prstGeom>
          <a:solidFill>
            <a:srgbClr val="a6a6a6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Cilindro 8"/>
          <p:cNvSpPr/>
          <p:nvPr/>
        </p:nvSpPr>
        <p:spPr>
          <a:xfrm>
            <a:off x="6084720" y="2492280"/>
            <a:ext cx="358920" cy="505080"/>
          </a:xfrm>
          <a:prstGeom prst="can">
            <a:avLst>
              <a:gd name="adj" fmla="val 17768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Cilindro 9"/>
          <p:cNvSpPr/>
          <p:nvPr/>
        </p:nvSpPr>
        <p:spPr>
          <a:xfrm>
            <a:off x="6588000" y="2924280"/>
            <a:ext cx="360360" cy="504720"/>
          </a:xfrm>
          <a:prstGeom prst="can">
            <a:avLst>
              <a:gd name="adj" fmla="val 17847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Cilindro 10"/>
          <p:cNvSpPr/>
          <p:nvPr/>
        </p:nvSpPr>
        <p:spPr>
          <a:xfrm>
            <a:off x="6156360" y="3429000"/>
            <a:ext cx="360360" cy="504720"/>
          </a:xfrm>
          <a:prstGeom prst="can">
            <a:avLst>
              <a:gd name="adj" fmla="val 17847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Rettangolo arrotondato 11"/>
          <p:cNvSpPr/>
          <p:nvPr/>
        </p:nvSpPr>
        <p:spPr>
          <a:xfrm>
            <a:off x="2411280" y="4869000"/>
            <a:ext cx="505080" cy="151272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1512720"/>
              <a:gd name="textAreaBottom" fmla="*/ 1488240 h 1512720"/>
            </a:gdLst>
            <a:ahLst/>
            <a:rect l="textAreaLeft" t="textAreaTop" r="textAreaRight" b="textAreaBottom"/>
            <a:pathLst>
              <a:path w="21600" h="64662">
                <a:moveTo>
                  <a:pt x="3600" y="0"/>
                </a:moveTo>
                <a:arcTo wR="3600" hR="3600" stAng="16200000" swAng="-5400000"/>
                <a:lnTo>
                  <a:pt x="0" y="61062"/>
                </a:lnTo>
                <a:arcTo wR="3600" hR="3600" stAng="10800000" swAng="-5400000"/>
                <a:lnTo>
                  <a:pt x="18000" y="64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ac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Triangolo isoscele 12"/>
          <p:cNvSpPr/>
          <p:nvPr/>
        </p:nvSpPr>
        <p:spPr>
          <a:xfrm flipV="1">
            <a:off x="2411280" y="6308640"/>
            <a:ext cx="505080" cy="433440"/>
          </a:xfrm>
          <a:prstGeom prst="triangle">
            <a:avLst>
              <a:gd name="adj" fmla="val 50000"/>
            </a:avLst>
          </a:prstGeom>
          <a:solidFill>
            <a:srgbClr val="34ac8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Ritaglia angolo stesso lato rettangolo 13"/>
          <p:cNvSpPr/>
          <p:nvPr/>
        </p:nvSpPr>
        <p:spPr>
          <a:xfrm flipV="1">
            <a:off x="2340000" y="5084640"/>
            <a:ext cx="647640" cy="216000"/>
          </a:xfrm>
          <a:custGeom>
            <a:avLst/>
            <a:gdLst/>
            <a:ahLst/>
            <a:rect l="l" t="t" r="r" b="b"/>
            <a:pathLst>
              <a:path w="647700" h="215900">
                <a:moveTo>
                  <a:pt x="35984" y="0"/>
                </a:moveTo>
                <a:lnTo>
                  <a:pt x="611716" y="0"/>
                </a:lnTo>
                <a:lnTo>
                  <a:pt x="647700" y="35984"/>
                </a:lnTo>
                <a:lnTo>
                  <a:pt x="647700" y="215900"/>
                </a:lnTo>
                <a:lnTo>
                  <a:pt x="647700" y="215900"/>
                </a:lnTo>
                <a:lnTo>
                  <a:pt x="0" y="215900"/>
                </a:lnTo>
                <a:lnTo>
                  <a:pt x="0" y="215900"/>
                </a:lnTo>
                <a:lnTo>
                  <a:pt x="0" y="35984"/>
                </a:lnTo>
                <a:lnTo>
                  <a:pt x="35984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Connettore 1 15"/>
          <p:cNvSpPr/>
          <p:nvPr/>
        </p:nvSpPr>
        <p:spPr>
          <a:xfrm>
            <a:off x="2556000" y="537372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Connettore 1 16"/>
          <p:cNvSpPr/>
          <p:nvPr/>
        </p:nvSpPr>
        <p:spPr>
          <a:xfrm>
            <a:off x="2627280" y="537372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Connettore 1 17"/>
          <p:cNvSpPr/>
          <p:nvPr/>
        </p:nvSpPr>
        <p:spPr>
          <a:xfrm>
            <a:off x="2700360" y="537372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Connettore 1 19"/>
          <p:cNvSpPr/>
          <p:nvPr/>
        </p:nvSpPr>
        <p:spPr>
          <a:xfrm flipH="1">
            <a:off x="2411280" y="5732640"/>
            <a:ext cx="1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Connettore 1 21"/>
          <p:cNvSpPr/>
          <p:nvPr/>
        </p:nvSpPr>
        <p:spPr>
          <a:xfrm flipV="1">
            <a:off x="2124000" y="4149360"/>
            <a:ext cx="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Connettore 1 23"/>
          <p:cNvSpPr/>
          <p:nvPr/>
        </p:nvSpPr>
        <p:spPr>
          <a:xfrm flipV="1">
            <a:off x="2124000" y="3716280"/>
            <a:ext cx="21600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Connettore 1 27"/>
          <p:cNvSpPr/>
          <p:nvPr/>
        </p:nvSpPr>
        <p:spPr>
          <a:xfrm flipH="1" flipV="1">
            <a:off x="2123640" y="5660640"/>
            <a:ext cx="36036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Ovale 31"/>
          <p:cNvSpPr/>
          <p:nvPr/>
        </p:nvSpPr>
        <p:spPr>
          <a:xfrm>
            <a:off x="2627280" y="5157720"/>
            <a:ext cx="73080" cy="71640"/>
          </a:xfrm>
          <a:prstGeom prst="ellipse">
            <a:avLst/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Rettangolo arrotondato 32"/>
          <p:cNvSpPr/>
          <p:nvPr/>
        </p:nvSpPr>
        <p:spPr>
          <a:xfrm>
            <a:off x="4140360" y="2421000"/>
            <a:ext cx="502920" cy="172872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1728720"/>
              <a:gd name="textAreaBottom" fmla="*/ 1704240 h 1728720"/>
            </a:gdLst>
            <a:ahLst/>
            <a:rect l="textAreaLeft" t="textAreaTop" r="textAreaRight" b="textAreaBottom"/>
            <a:pathLst>
              <a:path w="21600" h="74209">
                <a:moveTo>
                  <a:pt x="3600" y="0"/>
                </a:moveTo>
                <a:arcTo wR="3600" hR="3600" stAng="16200000" swAng="-5400000"/>
                <a:lnTo>
                  <a:pt x="0" y="70609"/>
                </a:lnTo>
                <a:arcTo wR="3600" hR="3600" stAng="10800000" swAng="-5400000"/>
                <a:lnTo>
                  <a:pt x="18000" y="74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entagono regolare 33"/>
          <p:cNvSpPr/>
          <p:nvPr/>
        </p:nvSpPr>
        <p:spPr>
          <a:xfrm>
            <a:off x="3564000" y="3284640"/>
            <a:ext cx="360360" cy="649080"/>
          </a:xfrm>
          <a:prstGeom prst="pentagon">
            <a:avLst/>
          </a:prstGeom>
          <a:solidFill>
            <a:srgbClr val="f6421e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CasellaDiTesto 34"/>
          <p:cNvSpPr/>
          <p:nvPr/>
        </p:nvSpPr>
        <p:spPr>
          <a:xfrm>
            <a:off x="3419640" y="400536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rebuchet MS"/>
              </a:rPr>
              <a:t>Fornace</a:t>
            </a: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CasellaDiTesto 35"/>
          <p:cNvSpPr/>
          <p:nvPr/>
        </p:nvSpPr>
        <p:spPr>
          <a:xfrm>
            <a:off x="3995640" y="422100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rebuchet MS"/>
              </a:rPr>
              <a:t>T.Rre distillazione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CasellaDiTesto 36"/>
          <p:cNvSpPr/>
          <p:nvPr/>
        </p:nvSpPr>
        <p:spPr>
          <a:xfrm>
            <a:off x="2268360" y="3357720"/>
            <a:ext cx="7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rebuchet MS"/>
              </a:rPr>
              <a:t>GREGGIO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2" name="Connettore 7 38"/>
          <p:cNvCxnSpPr/>
          <p:nvPr/>
        </p:nvCxnSpPr>
        <p:spPr>
          <a:xfrm>
            <a:off x="3132000" y="3573360"/>
            <a:ext cx="504000" cy="216720"/>
          </a:xfrm>
          <a:prstGeom prst="curvedConnector5">
            <a:avLst>
              <a:gd name="adj1" fmla="val 49964"/>
              <a:gd name="adj2" fmla="val 49916"/>
              <a:gd name="adj3" fmla="val 4996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Connettore 7 40"/>
          <p:cNvCxnSpPr/>
          <p:nvPr/>
        </p:nvCxnSpPr>
        <p:spPr>
          <a:xfrm>
            <a:off x="4643280" y="2492280"/>
            <a:ext cx="1442160" cy="145440"/>
          </a:xfrm>
          <a:prstGeom prst="curvedConnector5">
            <a:avLst>
              <a:gd name="adj1" fmla="val 49987"/>
              <a:gd name="adj2" fmla="val 49875"/>
              <a:gd name="adj3" fmla="val 49987"/>
            </a:avLst>
          </a:prstGeom>
          <a:ln w="28440">
            <a:solidFill>
              <a:srgbClr val="c8cde5"/>
            </a:solidFill>
            <a:miter/>
            <a:tailEnd len="med" type="triangle" w="med"/>
          </a:ln>
        </p:spPr>
      </p:cxnSp>
      <p:cxnSp>
        <p:nvCxnSpPr>
          <p:cNvPr id="344" name="Connettore 7 42"/>
          <p:cNvCxnSpPr/>
          <p:nvPr/>
        </p:nvCxnSpPr>
        <p:spPr>
          <a:xfrm>
            <a:off x="4716360" y="3789360"/>
            <a:ext cx="1440360" cy="72000"/>
          </a:xfrm>
          <a:prstGeom prst="curvedConnector5">
            <a:avLst>
              <a:gd name="adj1" fmla="val 38575"/>
              <a:gd name="adj2" fmla="val 49748"/>
              <a:gd name="adj3" fmla="val 38575"/>
            </a:avLst>
          </a:prstGeom>
          <a:ln w="57240">
            <a:solidFill>
              <a:srgbClr val="4e67c8"/>
            </a:solidFill>
            <a:miter/>
            <a:tailEnd len="med" type="triangle" w="med"/>
          </a:ln>
        </p:spPr>
      </p:cxnSp>
      <p:cxnSp>
        <p:nvCxnSpPr>
          <p:cNvPr id="345" name="Connettore 7 48"/>
          <p:cNvCxnSpPr>
            <a:endCxn id="324" idx="2"/>
          </p:cNvCxnSpPr>
          <p:nvPr/>
        </p:nvCxnSpPr>
        <p:spPr>
          <a:xfrm>
            <a:off x="4716000" y="3141360"/>
            <a:ext cx="1872360" cy="3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81d31a"/>
            </a:solidFill>
            <a:miter/>
            <a:tailEnd len="med" type="triangle" w="med"/>
          </a:ln>
        </p:spPr>
      </p:cxnSp>
      <p:cxnSp>
        <p:nvCxnSpPr>
          <p:cNvPr id="346" name="Connettore 4 50"/>
          <p:cNvCxnSpPr/>
          <p:nvPr/>
        </p:nvCxnSpPr>
        <p:spPr>
          <a:xfrm flipV="1">
            <a:off x="3850200" y="3644280"/>
            <a:ext cx="361080" cy="216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CasellaDiTesto 55"/>
          <p:cNvSpPr/>
          <p:nvPr/>
        </p:nvSpPr>
        <p:spPr>
          <a:xfrm>
            <a:off x="5076720" y="2565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GPL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CasellaDiTesto 56"/>
          <p:cNvSpPr/>
          <p:nvPr/>
        </p:nvSpPr>
        <p:spPr>
          <a:xfrm>
            <a:off x="5003640" y="3213000"/>
            <a:ext cx="79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rebuchet MS"/>
              </a:rPr>
              <a:t>BENZINA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CasellaDiTesto 57"/>
          <p:cNvSpPr/>
          <p:nvPr/>
        </p:nvSpPr>
        <p:spPr>
          <a:xfrm>
            <a:off x="5003640" y="3860640"/>
            <a:ext cx="93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rebuchet MS"/>
              </a:rPr>
              <a:t>GASOLIO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Triangolo isoscele 58"/>
          <p:cNvSpPr/>
          <p:nvPr/>
        </p:nvSpPr>
        <p:spPr>
          <a:xfrm flipV="1">
            <a:off x="6372360" y="6236640"/>
            <a:ext cx="360360" cy="431640"/>
          </a:xfrm>
          <a:prstGeom prst="triangle">
            <a:avLst>
              <a:gd name="adj" fmla="val 50000"/>
            </a:avLst>
          </a:prstGeom>
          <a:solidFill>
            <a:srgbClr val="34ac8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Connettore 1 63"/>
          <p:cNvSpPr/>
          <p:nvPr/>
        </p:nvSpPr>
        <p:spPr>
          <a:xfrm flipH="1">
            <a:off x="6588000" y="5661000"/>
            <a:ext cx="1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Rettangolo arrotondato 66"/>
          <p:cNvSpPr/>
          <p:nvPr/>
        </p:nvSpPr>
        <p:spPr>
          <a:xfrm>
            <a:off x="6372360" y="5157720"/>
            <a:ext cx="360360" cy="1079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79640"/>
              <a:gd name="textAreaBottom" fmla="*/ 1062360 h 1079640"/>
            </a:gdLst>
            <a:ahLst/>
            <a:rect l="textAreaLeft" t="textAreaTop" r="textAreaRight" b="textAreaBottom"/>
            <a:pathLst>
              <a:path w="21600" h="64671">
                <a:moveTo>
                  <a:pt x="3600" y="0"/>
                </a:moveTo>
                <a:arcTo wR="3600" hR="3600" stAng="16200000" swAng="-5400000"/>
                <a:lnTo>
                  <a:pt x="0" y="61071"/>
                </a:lnTo>
                <a:arcTo wR="3600" hR="3600" stAng="10800000" swAng="-5400000"/>
                <a:lnTo>
                  <a:pt x="18000" y="646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ac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Ritaglia angolo stesso lato rettangolo 59"/>
          <p:cNvSpPr/>
          <p:nvPr/>
        </p:nvSpPr>
        <p:spPr>
          <a:xfrm flipV="1">
            <a:off x="6300720" y="5299920"/>
            <a:ext cx="503280" cy="144360"/>
          </a:xfrm>
          <a:custGeom>
            <a:avLst/>
            <a:gdLst/>
            <a:ahLst/>
            <a:rect l="l" t="t" r="r" b="b"/>
            <a:pathLst>
              <a:path w="503237" h="144462">
                <a:moveTo>
                  <a:pt x="24077" y="0"/>
                </a:moveTo>
                <a:lnTo>
                  <a:pt x="479160" y="0"/>
                </a:lnTo>
                <a:lnTo>
                  <a:pt x="503237" y="24077"/>
                </a:lnTo>
                <a:lnTo>
                  <a:pt x="503237" y="144462"/>
                </a:lnTo>
                <a:lnTo>
                  <a:pt x="503237" y="144462"/>
                </a:lnTo>
                <a:lnTo>
                  <a:pt x="0" y="144462"/>
                </a:lnTo>
                <a:lnTo>
                  <a:pt x="0" y="144462"/>
                </a:lnTo>
                <a:lnTo>
                  <a:pt x="0" y="24077"/>
                </a:lnTo>
                <a:lnTo>
                  <a:pt x="24077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Connettore 1 62"/>
          <p:cNvSpPr/>
          <p:nvPr/>
        </p:nvSpPr>
        <p:spPr>
          <a:xfrm>
            <a:off x="6588000" y="551664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Ovale 65"/>
          <p:cNvSpPr/>
          <p:nvPr/>
        </p:nvSpPr>
        <p:spPr>
          <a:xfrm flipH="1" flipV="1">
            <a:off x="6516720" y="5373720"/>
            <a:ext cx="117360" cy="46080"/>
          </a:xfrm>
          <a:prstGeom prst="ellipse">
            <a:avLst/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Connettore 1 72"/>
          <p:cNvSpPr/>
          <p:nvPr/>
        </p:nvSpPr>
        <p:spPr>
          <a:xfrm flipV="1">
            <a:off x="6516720" y="3860640"/>
            <a:ext cx="503280" cy="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Connettore 1 74"/>
          <p:cNvSpPr/>
          <p:nvPr/>
        </p:nvSpPr>
        <p:spPr>
          <a:xfrm>
            <a:off x="7020000" y="2565360"/>
            <a:ext cx="0" cy="360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Connettore 1 76"/>
          <p:cNvSpPr/>
          <p:nvPr/>
        </p:nvSpPr>
        <p:spPr>
          <a:xfrm flipH="1" flipV="1">
            <a:off x="6732720" y="5697360"/>
            <a:ext cx="287280" cy="3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Connettore 1 78"/>
          <p:cNvSpPr/>
          <p:nvPr/>
        </p:nvSpPr>
        <p:spPr>
          <a:xfrm flipH="1">
            <a:off x="6588000" y="5697360"/>
            <a:ext cx="144720" cy="35280"/>
          </a:xfrm>
          <a:prstGeom prst="line">
            <a:avLst/>
          </a:prstGeom>
          <a:ln w="381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Ritaglia angolo stesso lato rettangolo 80"/>
          <p:cNvSpPr/>
          <p:nvPr/>
        </p:nvSpPr>
        <p:spPr>
          <a:xfrm>
            <a:off x="7812000" y="220500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47890" y="0"/>
                </a:moveTo>
                <a:lnTo>
                  <a:pt x="312472" y="0"/>
                </a:lnTo>
                <a:lnTo>
                  <a:pt x="360362" y="47890"/>
                </a:lnTo>
                <a:lnTo>
                  <a:pt x="360362" y="287337"/>
                </a:lnTo>
                <a:lnTo>
                  <a:pt x="360362" y="287337"/>
                </a:lnTo>
                <a:lnTo>
                  <a:pt x="0" y="287337"/>
                </a:lnTo>
                <a:lnTo>
                  <a:pt x="0" y="287337"/>
                </a:lnTo>
                <a:lnTo>
                  <a:pt x="0" y="47890"/>
                </a:lnTo>
                <a:lnTo>
                  <a:pt x="47890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Connettore 1 82"/>
          <p:cNvSpPr/>
          <p:nvPr/>
        </p:nvSpPr>
        <p:spPr>
          <a:xfrm flipH="1">
            <a:off x="7235640" y="2492280"/>
            <a:ext cx="936360" cy="0"/>
          </a:xfrm>
          <a:prstGeom prst="line">
            <a:avLst/>
          </a:prstGeom>
          <a:ln w="381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Ovale 83"/>
          <p:cNvSpPr/>
          <p:nvPr/>
        </p:nvSpPr>
        <p:spPr>
          <a:xfrm>
            <a:off x="7236000" y="2133720"/>
            <a:ext cx="576000" cy="3585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Ovale 85"/>
          <p:cNvSpPr/>
          <p:nvPr/>
        </p:nvSpPr>
        <p:spPr>
          <a:xfrm>
            <a:off x="7380360" y="2492280"/>
            <a:ext cx="144360" cy="14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Ovale 86"/>
          <p:cNvSpPr/>
          <p:nvPr/>
        </p:nvSpPr>
        <p:spPr>
          <a:xfrm>
            <a:off x="7956720" y="2492280"/>
            <a:ext cx="144360" cy="14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Rettangolo 87"/>
          <p:cNvSpPr/>
          <p:nvPr/>
        </p:nvSpPr>
        <p:spPr>
          <a:xfrm>
            <a:off x="8101080" y="2276640"/>
            <a:ext cx="71280" cy="7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CasellaDiTesto 88"/>
          <p:cNvSpPr/>
          <p:nvPr/>
        </p:nvSpPr>
        <p:spPr>
          <a:xfrm>
            <a:off x="1547640" y="2333520"/>
            <a:ext cx="287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APPROVVIGIONA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CasellaDiTesto 89"/>
          <p:cNvSpPr/>
          <p:nvPr/>
        </p:nvSpPr>
        <p:spPr>
          <a:xfrm>
            <a:off x="1979640" y="22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STOCCAGGI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CasellaDiTesto 90"/>
          <p:cNvSpPr/>
          <p:nvPr/>
        </p:nvSpPr>
        <p:spPr>
          <a:xfrm>
            <a:off x="3564000" y="19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PRODUZION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CasellaDiTesto 91"/>
          <p:cNvSpPr/>
          <p:nvPr/>
        </p:nvSpPr>
        <p:spPr>
          <a:xfrm>
            <a:off x="4643280" y="2421000"/>
            <a:ext cx="21600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PRODOTTI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CasellaDiTesto 92"/>
          <p:cNvSpPr/>
          <p:nvPr/>
        </p:nvSpPr>
        <p:spPr>
          <a:xfrm>
            <a:off x="5796000" y="206064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STOCCAGGI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CasellaDiTesto 93"/>
          <p:cNvSpPr/>
          <p:nvPr/>
        </p:nvSpPr>
        <p:spPr>
          <a:xfrm>
            <a:off x="7236000" y="2924280"/>
            <a:ext cx="28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DISTRIBUZION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Connettore 1 68"/>
          <p:cNvSpPr/>
          <p:nvPr/>
        </p:nvSpPr>
        <p:spPr>
          <a:xfrm flipH="1">
            <a:off x="6767640" y="3429000"/>
            <a:ext cx="288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Connettore 1 96"/>
          <p:cNvSpPr/>
          <p:nvPr/>
        </p:nvSpPr>
        <p:spPr>
          <a:xfrm flipH="1">
            <a:off x="6443280" y="2600280"/>
            <a:ext cx="576360" cy="3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Ovale 98"/>
          <p:cNvSpPr/>
          <p:nvPr/>
        </p:nvSpPr>
        <p:spPr>
          <a:xfrm>
            <a:off x="6948360" y="3789360"/>
            <a:ext cx="71640" cy="712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Ovale 99"/>
          <p:cNvSpPr/>
          <p:nvPr/>
        </p:nvSpPr>
        <p:spPr>
          <a:xfrm>
            <a:off x="6948360" y="3357720"/>
            <a:ext cx="144720" cy="712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Connettore 1 100"/>
          <p:cNvSpPr/>
          <p:nvPr/>
        </p:nvSpPr>
        <p:spPr>
          <a:xfrm flipH="1" flipV="1">
            <a:off x="6732360" y="5697360"/>
            <a:ext cx="215640" cy="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Ovale 101"/>
          <p:cNvSpPr/>
          <p:nvPr/>
        </p:nvSpPr>
        <p:spPr>
          <a:xfrm>
            <a:off x="6983280" y="2565360"/>
            <a:ext cx="44640" cy="7164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Ritaglia angolo stesso lato rettangolo 103"/>
          <p:cNvSpPr/>
          <p:nvPr/>
        </p:nvSpPr>
        <p:spPr>
          <a:xfrm>
            <a:off x="2050920" y="5950080"/>
            <a:ext cx="144720" cy="71280"/>
          </a:xfrm>
          <a:custGeom>
            <a:avLst/>
            <a:gdLst/>
            <a:ahLst/>
            <a:rect l="l" t="t" r="r" b="b"/>
            <a:pathLst>
              <a:path w="144463" h="71438">
                <a:moveTo>
                  <a:pt x="11907" y="0"/>
                </a:moveTo>
                <a:lnTo>
                  <a:pt x="132556" y="0"/>
                </a:lnTo>
                <a:lnTo>
                  <a:pt x="144463" y="11907"/>
                </a:lnTo>
                <a:lnTo>
                  <a:pt x="144463" y="71438"/>
                </a:lnTo>
                <a:lnTo>
                  <a:pt x="144463" y="71438"/>
                </a:lnTo>
                <a:lnTo>
                  <a:pt x="0" y="71438"/>
                </a:lnTo>
                <a:lnTo>
                  <a:pt x="0" y="71438"/>
                </a:lnTo>
                <a:lnTo>
                  <a:pt x="0" y="11907"/>
                </a:lnTo>
                <a:lnTo>
                  <a:pt x="11907" y="0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Ritaglia angolo stesso lato rettangolo 104"/>
          <p:cNvSpPr/>
          <p:nvPr/>
        </p:nvSpPr>
        <p:spPr>
          <a:xfrm>
            <a:off x="6948360" y="6165720"/>
            <a:ext cx="144720" cy="71640"/>
          </a:xfrm>
          <a:custGeom>
            <a:avLst/>
            <a:gdLst/>
            <a:ahLst/>
            <a:rect l="l" t="t" r="r" b="b"/>
            <a:pathLst>
              <a:path w="144462" h="71438">
                <a:moveTo>
                  <a:pt x="11907" y="0"/>
                </a:moveTo>
                <a:lnTo>
                  <a:pt x="132555" y="0"/>
                </a:lnTo>
                <a:lnTo>
                  <a:pt x="144462" y="11907"/>
                </a:lnTo>
                <a:lnTo>
                  <a:pt x="144462" y="71438"/>
                </a:lnTo>
                <a:lnTo>
                  <a:pt x="144462" y="71438"/>
                </a:lnTo>
                <a:lnTo>
                  <a:pt x="0" y="71438"/>
                </a:lnTo>
                <a:lnTo>
                  <a:pt x="0" y="71438"/>
                </a:lnTo>
                <a:lnTo>
                  <a:pt x="0" y="11907"/>
                </a:lnTo>
                <a:lnTo>
                  <a:pt x="11907" y="0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CasellaDiTesto 64"/>
          <p:cNvSpPr/>
          <p:nvPr/>
        </p:nvSpPr>
        <p:spPr>
          <a:xfrm>
            <a:off x="5580000" y="5950080"/>
            <a:ext cx="79236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rebuchet MS"/>
              </a:rPr>
              <a:t>Navi  trasporto prodotti : ai depositi costieri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CasellaDiTesto 67"/>
          <p:cNvSpPr/>
          <p:nvPr/>
        </p:nvSpPr>
        <p:spPr>
          <a:xfrm>
            <a:off x="8244000" y="1844640"/>
            <a:ext cx="900000" cy="26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rebuchet MS"/>
              </a:rPr>
              <a:t>UTILIZATORI</a:t>
            </a: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Sistemi di distribuzione dei carburanti per autotrazione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Aeroporti 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( carburanti per aerei )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Fornitori di servizi di bunkeraggio per navi o direttamente alle navi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Approvvigionamento di aziende di rivendita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Aziende di produzione.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Freccia angolare in su 79"/>
          <p:cNvSpPr/>
          <p:nvPr/>
        </p:nvSpPr>
        <p:spPr>
          <a:xfrm rot="5400000">
            <a:off x="7848720" y="2457360"/>
            <a:ext cx="287280" cy="503280"/>
          </a:xfrm>
          <a:custGeom>
            <a:avLst/>
            <a:gdLst/>
            <a:ahLst/>
            <a:rect l="l" t="t" r="r" b="b"/>
            <a:pathLst>
              <a:path w="287338" h="503238">
                <a:moveTo>
                  <a:pt x="0" y="431404"/>
                </a:moveTo>
                <a:lnTo>
                  <a:pt x="179586" y="431404"/>
                </a:lnTo>
                <a:lnTo>
                  <a:pt x="179586" y="71835"/>
                </a:lnTo>
                <a:lnTo>
                  <a:pt x="143669" y="71835"/>
                </a:lnTo>
                <a:lnTo>
                  <a:pt x="215504" y="0"/>
                </a:lnTo>
                <a:lnTo>
                  <a:pt x="287338" y="71835"/>
                </a:lnTo>
                <a:lnTo>
                  <a:pt x="251421" y="71835"/>
                </a:lnTo>
                <a:lnTo>
                  <a:pt x="251421" y="503238"/>
                </a:lnTo>
                <a:lnTo>
                  <a:pt x="0" y="503238"/>
                </a:lnTo>
                <a:lnTo>
                  <a:pt x="0" y="431404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Freccia angolare in su 69"/>
          <p:cNvSpPr/>
          <p:nvPr/>
        </p:nvSpPr>
        <p:spPr>
          <a:xfrm flipH="1" flipV="1">
            <a:off x="5867280" y="5661000"/>
            <a:ext cx="433440" cy="216000"/>
          </a:xfrm>
          <a:custGeom>
            <a:avLst/>
            <a:gdLst/>
            <a:ahLst/>
            <a:rect l="l" t="t" r="r" b="b"/>
            <a:pathLst>
              <a:path w="433388" h="215900">
                <a:moveTo>
                  <a:pt x="0" y="161925"/>
                </a:moveTo>
                <a:lnTo>
                  <a:pt x="352426" y="161925"/>
                </a:lnTo>
                <a:lnTo>
                  <a:pt x="352426" y="53975"/>
                </a:lnTo>
                <a:lnTo>
                  <a:pt x="325438" y="53975"/>
                </a:lnTo>
                <a:lnTo>
                  <a:pt x="379413" y="0"/>
                </a:lnTo>
                <a:lnTo>
                  <a:pt x="433388" y="53975"/>
                </a:lnTo>
                <a:lnTo>
                  <a:pt x="406401" y="53975"/>
                </a:lnTo>
                <a:lnTo>
                  <a:pt x="406401" y="215900"/>
                </a:lnTo>
                <a:lnTo>
                  <a:pt x="0" y="215900"/>
                </a:lnTo>
                <a:lnTo>
                  <a:pt x="0" y="161925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olo 1" descr=""/>
          <p:cNvPicPr/>
          <p:nvPr/>
        </p:nvPicPr>
        <p:blipFill>
          <a:blip r:embed="rId1"/>
          <a:stretch/>
        </p:blipFill>
        <p:spPr>
          <a:xfrm>
            <a:off x="457200" y="66528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l ciclo logistico del trasporto dei prodotti petroliferi prevede le seguenti fasi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Estrazione (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produ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della materia prima 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Trasferimento dai punti di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produ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a quelli di lavorazione (raffinazione) del greggio (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trasporto/logistica dei grandi volumi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Stoccaggio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  del greggio e sua raffinazione (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produ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dei prodotti raffinati 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Stoccaggio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dei prodotti raffinati e loro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distribu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alle aziende di grossisti (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Logistica della grande distribu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)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Trasferimento dai punti di raffinazione a quelli di utilizzazione dei prodotti (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logistica del trasporto e della distribuzione organizzata agli utilizzatori finali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olo 1" descr=""/>
          <p:cNvPicPr/>
          <p:nvPr/>
        </p:nvPicPr>
        <p:blipFill>
          <a:blip r:embed="rId1"/>
          <a:stretch/>
        </p:blipFill>
        <p:spPr>
          <a:xfrm>
            <a:off x="433440" y="738360"/>
            <a:ext cx="8356680" cy="792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08000" y="1844280"/>
            <a:ext cx="1882800" cy="26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3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uoghi di produzione della materia prim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13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Zone di estrazion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cxnSp>
        <p:nvCxnSpPr>
          <p:cNvPr id="233" name="Connettore 2 6"/>
          <p:cNvCxnSpPr/>
          <p:nvPr/>
        </p:nvCxnSpPr>
        <p:spPr>
          <a:xfrm flipV="1">
            <a:off x="1763640" y="2276280"/>
            <a:ext cx="1153440" cy="10087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34" name="Text Box 5"/>
          <p:cNvSpPr/>
          <p:nvPr/>
        </p:nvSpPr>
        <p:spPr>
          <a:xfrm>
            <a:off x="3059280" y="1989000"/>
            <a:ext cx="1725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Off - sho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CasellaDiTesto 10"/>
          <p:cNvSpPr/>
          <p:nvPr/>
        </p:nvSpPr>
        <p:spPr>
          <a:xfrm>
            <a:off x="4932360" y="1341360"/>
            <a:ext cx="33847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Piattaforme fisse o ancorate al fondo, piattaforme semoventi,  navi appositamente trasformate FPSOS - Fixed Production Storage and Offloading System -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6" name="Connettore 2 12"/>
          <p:cNvCxnSpPr/>
          <p:nvPr/>
        </p:nvCxnSpPr>
        <p:spPr>
          <a:xfrm>
            <a:off x="1763280" y="4076280"/>
            <a:ext cx="1296360" cy="6483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37" name="Text Box 7"/>
          <p:cNvSpPr/>
          <p:nvPr/>
        </p:nvSpPr>
        <p:spPr>
          <a:xfrm>
            <a:off x="3276720" y="4653000"/>
            <a:ext cx="158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n - sho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CasellaDiTesto 15"/>
          <p:cNvSpPr/>
          <p:nvPr/>
        </p:nvSpPr>
        <p:spPr>
          <a:xfrm>
            <a:off x="5003640" y="4292640"/>
            <a:ext cx="33847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Pozzi petroliferi ( impianti di perforazione, estrazione, stoccaggio in serbatoi o trasferimento via oleodotto 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Cubo 21"/>
          <p:cNvSpPr/>
          <p:nvPr/>
        </p:nvSpPr>
        <p:spPr>
          <a:xfrm>
            <a:off x="5651640" y="1916280"/>
            <a:ext cx="2592360" cy="1368360"/>
          </a:xfrm>
          <a:prstGeom prst="cube">
            <a:avLst>
              <a:gd name="adj" fmla="val 45685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Titolo 1" descr=""/>
          <p:cNvPicPr/>
          <p:nvPr/>
        </p:nvPicPr>
        <p:blipFill>
          <a:blip r:embed="rId1"/>
          <a:stretch/>
        </p:blipFill>
        <p:spPr>
          <a:xfrm>
            <a:off x="457200" y="652320"/>
            <a:ext cx="8308800" cy="7858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179280" y="2565360"/>
            <a:ext cx="1882800" cy="248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Luoghi di produzione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624"/>
              </a:spcBef>
              <a:buClr>
                <a:srgbClr val="a7ea5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Zone di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estrazio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5" name="Connettore 2 9"/>
          <p:cNvCxnSpPr/>
          <p:nvPr/>
        </p:nvCxnSpPr>
        <p:spPr>
          <a:xfrm flipV="1">
            <a:off x="2050920" y="2204640"/>
            <a:ext cx="4106160" cy="1008720"/>
          </a:xfrm>
          <a:prstGeom prst="straightConnector1">
            <a:avLst/>
          </a:prstGeom>
          <a:ln w="76320">
            <a:solidFill>
              <a:srgbClr val="ff0000"/>
            </a:solidFill>
            <a:miter/>
          </a:ln>
        </p:spPr>
      </p:cxnSp>
      <p:sp>
        <p:nvSpPr>
          <p:cNvPr id="246" name="CasellaDiTesto 12"/>
          <p:cNvSpPr/>
          <p:nvPr/>
        </p:nvSpPr>
        <p:spPr>
          <a:xfrm rot="20812800">
            <a:off x="2073240" y="2340720"/>
            <a:ext cx="37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Oleodotto - Via terra o mare ( per piccole distanze) -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7" name="Connettore 2 15"/>
          <p:cNvCxnSpPr>
            <a:stCxn id="244" idx="3"/>
          </p:cNvCxnSpPr>
          <p:nvPr/>
        </p:nvCxnSpPr>
        <p:spPr>
          <a:xfrm>
            <a:off x="2062080" y="3811320"/>
            <a:ext cx="494640" cy="410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CasellaDiTesto 17"/>
          <p:cNvSpPr/>
          <p:nvPr/>
        </p:nvSpPr>
        <p:spPr>
          <a:xfrm>
            <a:off x="2124000" y="4221000"/>
            <a:ext cx="3168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Via mare con navi ( Crude Oil Carrier ):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Dai terminal  off-shore a cui il petrolio arriva, via oleodotto, dai campi di pozzi petroliferi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Direttamente dalle piattaforme  fisse o dalle FPSOS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Dai SPM ( Single Point Mooring ) , boe posizionate sulle teste di pozzo sottomarine   costruite dopo trivellazione delle piattaforme  mobili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Cilindro 22"/>
          <p:cNvSpPr/>
          <p:nvPr/>
        </p:nvSpPr>
        <p:spPr>
          <a:xfrm>
            <a:off x="6084720" y="1916280"/>
            <a:ext cx="719280" cy="504720"/>
          </a:xfrm>
          <a:prstGeom prst="can">
            <a:avLst>
              <a:gd name="adj" fmla="val 25000"/>
            </a:avLst>
          </a:prstGeom>
          <a:solidFill>
            <a:srgbClr val="bfbfb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Elaborazione alternativa 24"/>
          <p:cNvSpPr/>
          <p:nvPr/>
        </p:nvSpPr>
        <p:spPr>
          <a:xfrm>
            <a:off x="7093080" y="1268280"/>
            <a:ext cx="215640" cy="1081080"/>
          </a:xfrm>
          <a:prstGeom prst="flowChartAlternateProcess">
            <a:avLst/>
          </a:prstGeom>
          <a:solidFill>
            <a:srgbClr val="d9d9d9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Cilindro 25"/>
          <p:cNvSpPr/>
          <p:nvPr/>
        </p:nvSpPr>
        <p:spPr>
          <a:xfrm>
            <a:off x="7812000" y="1916280"/>
            <a:ext cx="216000" cy="217440"/>
          </a:xfrm>
          <a:prstGeom prst="can">
            <a:avLst>
              <a:gd name="adj" fmla="val 2481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Cilindro 26"/>
          <p:cNvSpPr/>
          <p:nvPr/>
        </p:nvSpPr>
        <p:spPr>
          <a:xfrm>
            <a:off x="7596360" y="2133720"/>
            <a:ext cx="215640" cy="215640"/>
          </a:xfrm>
          <a:prstGeom prst="can">
            <a:avLst>
              <a:gd name="adj" fmla="val 250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Figura a mano libera 28"/>
          <p:cNvSpPr/>
          <p:nvPr/>
        </p:nvSpPr>
        <p:spPr>
          <a:xfrm>
            <a:off x="5353200" y="3022560"/>
            <a:ext cx="2431800" cy="2710080"/>
          </a:xfrm>
          <a:custGeom>
            <a:avLst/>
            <a:gdLst/>
            <a:ahLst/>
            <a:rect l="l" t="t" r="r" b="b"/>
            <a:pathLst>
              <a:path w="2431490" h="2104359">
                <a:moveTo>
                  <a:pt x="426838" y="3417"/>
                </a:moveTo>
                <a:lnTo>
                  <a:pt x="426838" y="3417"/>
                </a:lnTo>
                <a:cubicBezTo>
                  <a:pt x="408695" y="36074"/>
                  <a:pt x="389889" y="68371"/>
                  <a:pt x="372410" y="101388"/>
                </a:cubicBezTo>
                <a:cubicBezTo>
                  <a:pt x="357225" y="130071"/>
                  <a:pt x="346870" y="161470"/>
                  <a:pt x="328867" y="188474"/>
                </a:cubicBezTo>
                <a:cubicBezTo>
                  <a:pt x="314353" y="210245"/>
                  <a:pt x="293598" y="228965"/>
                  <a:pt x="285324" y="253788"/>
                </a:cubicBezTo>
                <a:cubicBezTo>
                  <a:pt x="274468" y="286355"/>
                  <a:pt x="273447" y="321875"/>
                  <a:pt x="241781" y="340874"/>
                </a:cubicBezTo>
                <a:cubicBezTo>
                  <a:pt x="231942" y="346777"/>
                  <a:pt x="220010" y="348131"/>
                  <a:pt x="209124" y="351759"/>
                </a:cubicBezTo>
                <a:cubicBezTo>
                  <a:pt x="201867" y="359016"/>
                  <a:pt x="192633" y="364730"/>
                  <a:pt x="187353" y="373531"/>
                </a:cubicBezTo>
                <a:cubicBezTo>
                  <a:pt x="172772" y="397832"/>
                  <a:pt x="168208" y="467941"/>
                  <a:pt x="165581" y="482388"/>
                </a:cubicBezTo>
                <a:cubicBezTo>
                  <a:pt x="162905" y="497108"/>
                  <a:pt x="158805" y="511546"/>
                  <a:pt x="154695" y="525931"/>
                </a:cubicBezTo>
                <a:cubicBezTo>
                  <a:pt x="151543" y="536964"/>
                  <a:pt x="143810" y="558588"/>
                  <a:pt x="143810" y="558588"/>
                </a:cubicBezTo>
                <a:lnTo>
                  <a:pt x="67610" y="710988"/>
                </a:lnTo>
                <a:cubicBezTo>
                  <a:pt x="26895" y="819562"/>
                  <a:pt x="44757" y="768662"/>
                  <a:pt x="13181" y="863388"/>
                </a:cubicBezTo>
                <a:cubicBezTo>
                  <a:pt x="0" y="902930"/>
                  <a:pt x="2295" y="884570"/>
                  <a:pt x="2295" y="917817"/>
                </a:cubicBezTo>
                <a:lnTo>
                  <a:pt x="24067" y="1037559"/>
                </a:lnTo>
                <a:cubicBezTo>
                  <a:pt x="16810" y="1073845"/>
                  <a:pt x="4932" y="1109506"/>
                  <a:pt x="2295" y="1146417"/>
                </a:cubicBezTo>
                <a:cubicBezTo>
                  <a:pt x="40" y="1177980"/>
                  <a:pt x="13325" y="1194428"/>
                  <a:pt x="34953" y="1211731"/>
                </a:cubicBezTo>
                <a:cubicBezTo>
                  <a:pt x="45169" y="1219904"/>
                  <a:pt x="55908" y="1227651"/>
                  <a:pt x="67610" y="1233502"/>
                </a:cubicBezTo>
                <a:cubicBezTo>
                  <a:pt x="77873" y="1238634"/>
                  <a:pt x="89381" y="1240759"/>
                  <a:pt x="100267" y="1244388"/>
                </a:cubicBezTo>
                <a:cubicBezTo>
                  <a:pt x="103896" y="1255274"/>
                  <a:pt x="106021" y="1266782"/>
                  <a:pt x="111153" y="1277045"/>
                </a:cubicBezTo>
                <a:cubicBezTo>
                  <a:pt x="117004" y="1288747"/>
                  <a:pt x="125320" y="1299056"/>
                  <a:pt x="132924" y="1309702"/>
                </a:cubicBezTo>
                <a:cubicBezTo>
                  <a:pt x="165058" y="1354690"/>
                  <a:pt x="175264" y="1367402"/>
                  <a:pt x="220010" y="1407674"/>
                </a:cubicBezTo>
                <a:cubicBezTo>
                  <a:pt x="237280" y="1423217"/>
                  <a:pt x="258009" y="1434788"/>
                  <a:pt x="274438" y="1451217"/>
                </a:cubicBezTo>
                <a:cubicBezTo>
                  <a:pt x="333084" y="1509863"/>
                  <a:pt x="277498" y="1487887"/>
                  <a:pt x="361524" y="1538302"/>
                </a:cubicBezTo>
                <a:cubicBezTo>
                  <a:pt x="378280" y="1548356"/>
                  <a:pt x="398871" y="1550584"/>
                  <a:pt x="415953" y="1560074"/>
                </a:cubicBezTo>
                <a:cubicBezTo>
                  <a:pt x="560621" y="1640446"/>
                  <a:pt x="394104" y="1556394"/>
                  <a:pt x="481267" y="1614502"/>
                </a:cubicBezTo>
                <a:cubicBezTo>
                  <a:pt x="494769" y="1623503"/>
                  <a:pt x="509981" y="1629683"/>
                  <a:pt x="524810" y="1636274"/>
                </a:cubicBezTo>
                <a:cubicBezTo>
                  <a:pt x="548763" y="1646920"/>
                  <a:pt x="594250" y="1666078"/>
                  <a:pt x="622781" y="1668931"/>
                </a:cubicBezTo>
                <a:cubicBezTo>
                  <a:pt x="644444" y="1671097"/>
                  <a:pt x="666324" y="1668931"/>
                  <a:pt x="688095" y="1668931"/>
                </a:cubicBezTo>
                <a:lnTo>
                  <a:pt x="1167067" y="1995502"/>
                </a:lnTo>
                <a:lnTo>
                  <a:pt x="1275924" y="2017274"/>
                </a:lnTo>
                <a:cubicBezTo>
                  <a:pt x="1297618" y="2021342"/>
                  <a:pt x="1319595" y="2023830"/>
                  <a:pt x="1341238" y="2028159"/>
                </a:cubicBezTo>
                <a:cubicBezTo>
                  <a:pt x="1355909" y="2031093"/>
                  <a:pt x="1370396" y="2034935"/>
                  <a:pt x="1384781" y="2039045"/>
                </a:cubicBezTo>
                <a:cubicBezTo>
                  <a:pt x="1395814" y="2042197"/>
                  <a:pt x="1406120" y="2048045"/>
                  <a:pt x="1417438" y="2049931"/>
                </a:cubicBezTo>
                <a:cubicBezTo>
                  <a:pt x="1449849" y="2055333"/>
                  <a:pt x="1482753" y="2057188"/>
                  <a:pt x="1515410" y="2060817"/>
                </a:cubicBezTo>
                <a:cubicBezTo>
                  <a:pt x="1537181" y="2068074"/>
                  <a:pt x="1558056" y="2079009"/>
                  <a:pt x="1580724" y="2082588"/>
                </a:cubicBezTo>
                <a:cubicBezTo>
                  <a:pt x="1627456" y="2089967"/>
                  <a:pt x="1675140" y="2088989"/>
                  <a:pt x="1722238" y="2093474"/>
                </a:cubicBezTo>
                <a:cubicBezTo>
                  <a:pt x="1751361" y="2096248"/>
                  <a:pt x="1780295" y="2100731"/>
                  <a:pt x="1809324" y="2104359"/>
                </a:cubicBezTo>
                <a:cubicBezTo>
                  <a:pt x="1827467" y="2100731"/>
                  <a:pt x="1846747" y="2100762"/>
                  <a:pt x="1863753" y="2093474"/>
                </a:cubicBezTo>
                <a:cubicBezTo>
                  <a:pt x="1876638" y="2087952"/>
                  <a:pt x="1902950" y="2047734"/>
                  <a:pt x="1907295" y="2039045"/>
                </a:cubicBezTo>
                <a:cubicBezTo>
                  <a:pt x="1912427" y="2028782"/>
                  <a:pt x="1912608" y="2016419"/>
                  <a:pt x="1918181" y="2006388"/>
                </a:cubicBezTo>
                <a:cubicBezTo>
                  <a:pt x="1955534" y="1939153"/>
                  <a:pt x="1946676" y="1951106"/>
                  <a:pt x="1994381" y="1919302"/>
                </a:cubicBezTo>
                <a:cubicBezTo>
                  <a:pt x="2001638" y="1908416"/>
                  <a:pt x="2009662" y="1898004"/>
                  <a:pt x="2016153" y="1886645"/>
                </a:cubicBezTo>
                <a:cubicBezTo>
                  <a:pt x="2033803" y="1855757"/>
                  <a:pt x="2036962" y="1836967"/>
                  <a:pt x="2059695" y="1810445"/>
                </a:cubicBezTo>
                <a:cubicBezTo>
                  <a:pt x="2073053" y="1794860"/>
                  <a:pt x="2088724" y="1781416"/>
                  <a:pt x="2103238" y="1766902"/>
                </a:cubicBezTo>
                <a:cubicBezTo>
                  <a:pt x="2110495" y="1759645"/>
                  <a:pt x="2115274" y="1748377"/>
                  <a:pt x="2125010" y="1745131"/>
                </a:cubicBezTo>
                <a:cubicBezTo>
                  <a:pt x="2156617" y="1734595"/>
                  <a:pt x="2163468" y="1735494"/>
                  <a:pt x="2190324" y="1712474"/>
                </a:cubicBezTo>
                <a:cubicBezTo>
                  <a:pt x="2238581" y="1671111"/>
                  <a:pt x="2240058" y="1659645"/>
                  <a:pt x="2277410" y="1603617"/>
                </a:cubicBezTo>
                <a:lnTo>
                  <a:pt x="2277410" y="1603617"/>
                </a:lnTo>
                <a:cubicBezTo>
                  <a:pt x="2284667" y="1596360"/>
                  <a:pt x="2289444" y="1585091"/>
                  <a:pt x="2299181" y="1581845"/>
                </a:cubicBezTo>
                <a:cubicBezTo>
                  <a:pt x="2334286" y="1570143"/>
                  <a:pt x="2371752" y="1567331"/>
                  <a:pt x="2408038" y="1560074"/>
                </a:cubicBezTo>
                <a:cubicBezTo>
                  <a:pt x="2415295" y="1523788"/>
                  <a:pt x="2431490" y="1488183"/>
                  <a:pt x="2429810" y="1451217"/>
                </a:cubicBezTo>
                <a:cubicBezTo>
                  <a:pt x="2426181" y="1371388"/>
                  <a:pt x="2424618" y="1291439"/>
                  <a:pt x="2418924" y="1211731"/>
                </a:cubicBezTo>
                <a:cubicBezTo>
                  <a:pt x="2413228" y="1131983"/>
                  <a:pt x="2405699" y="1158826"/>
                  <a:pt x="2386267" y="1081102"/>
                </a:cubicBezTo>
                <a:cubicBezTo>
                  <a:pt x="2372598" y="1026427"/>
                  <a:pt x="2380112" y="1051752"/>
                  <a:pt x="2364495" y="1004902"/>
                </a:cubicBezTo>
                <a:cubicBezTo>
                  <a:pt x="2360867" y="983131"/>
                  <a:pt x="2358963" y="961001"/>
                  <a:pt x="2353610" y="939588"/>
                </a:cubicBezTo>
                <a:cubicBezTo>
                  <a:pt x="2348044" y="917324"/>
                  <a:pt x="2339095" y="896045"/>
                  <a:pt x="2331838" y="874274"/>
                </a:cubicBezTo>
                <a:cubicBezTo>
                  <a:pt x="2319806" y="838177"/>
                  <a:pt x="2320953" y="853091"/>
                  <a:pt x="2320953" y="830731"/>
                </a:cubicBezTo>
                <a:lnTo>
                  <a:pt x="2310067" y="765417"/>
                </a:lnTo>
                <a:cubicBezTo>
                  <a:pt x="2306438" y="718245"/>
                  <a:pt x="2305049" y="670848"/>
                  <a:pt x="2299181" y="623902"/>
                </a:cubicBezTo>
                <a:cubicBezTo>
                  <a:pt x="2297758" y="612516"/>
                  <a:pt x="2290545" y="602497"/>
                  <a:pt x="2288295" y="591245"/>
                </a:cubicBezTo>
                <a:cubicBezTo>
                  <a:pt x="2283263" y="566085"/>
                  <a:pt x="2282000" y="540289"/>
                  <a:pt x="2277410" y="515045"/>
                </a:cubicBezTo>
                <a:cubicBezTo>
                  <a:pt x="2274734" y="500325"/>
                  <a:pt x="2269458" y="486173"/>
                  <a:pt x="2266524" y="471502"/>
                </a:cubicBezTo>
                <a:cubicBezTo>
                  <a:pt x="2252270" y="400234"/>
                  <a:pt x="2261607" y="421634"/>
                  <a:pt x="2244753" y="362645"/>
                </a:cubicBezTo>
                <a:cubicBezTo>
                  <a:pt x="2241601" y="351612"/>
                  <a:pt x="2238999" y="340251"/>
                  <a:pt x="2233867" y="329988"/>
                </a:cubicBezTo>
                <a:cubicBezTo>
                  <a:pt x="2220135" y="302526"/>
                  <a:pt x="2210572" y="295808"/>
                  <a:pt x="2190324" y="275559"/>
                </a:cubicBezTo>
                <a:cubicBezTo>
                  <a:pt x="2176546" y="0"/>
                  <a:pt x="2240300" y="106213"/>
                  <a:pt x="2146781" y="36074"/>
                </a:cubicBezTo>
                <a:cubicBezTo>
                  <a:pt x="2142676" y="32995"/>
                  <a:pt x="2139524" y="28817"/>
                  <a:pt x="2135895" y="25188"/>
                </a:cubicBezTo>
                <a:lnTo>
                  <a:pt x="426838" y="3417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Cubo 27"/>
          <p:cNvSpPr/>
          <p:nvPr/>
        </p:nvSpPr>
        <p:spPr>
          <a:xfrm>
            <a:off x="7093080" y="2781360"/>
            <a:ext cx="44280" cy="2879640"/>
          </a:xfrm>
          <a:prstGeom prst="cube">
            <a:avLst>
              <a:gd name="adj" fmla="val 25000"/>
            </a:avLst>
          </a:prstGeom>
          <a:solidFill>
            <a:srgbClr val="4e67c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Ritaglia angolo stesso lato rettangolo 29"/>
          <p:cNvSpPr/>
          <p:nvPr/>
        </p:nvSpPr>
        <p:spPr>
          <a:xfrm>
            <a:off x="6659640" y="3645000"/>
            <a:ext cx="360360" cy="1296720"/>
          </a:xfrm>
          <a:custGeom>
            <a:avLst/>
            <a:gdLst/>
            <a:ahLst/>
            <a:rect l="l" t="t" r="r" b="b"/>
            <a:pathLst>
              <a:path w="360362" h="1296988">
                <a:moveTo>
                  <a:pt x="60062" y="0"/>
                </a:moveTo>
                <a:lnTo>
                  <a:pt x="300300" y="0"/>
                </a:lnTo>
                <a:lnTo>
                  <a:pt x="360362" y="60062"/>
                </a:lnTo>
                <a:lnTo>
                  <a:pt x="360362" y="1296988"/>
                </a:lnTo>
                <a:lnTo>
                  <a:pt x="360362" y="1296988"/>
                </a:lnTo>
                <a:lnTo>
                  <a:pt x="0" y="1296988"/>
                </a:lnTo>
                <a:lnTo>
                  <a:pt x="0" y="1296988"/>
                </a:lnTo>
                <a:lnTo>
                  <a:pt x="0" y="60062"/>
                </a:lnTo>
                <a:lnTo>
                  <a:pt x="60062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riangolo isoscele 30"/>
          <p:cNvSpPr/>
          <p:nvPr/>
        </p:nvSpPr>
        <p:spPr>
          <a:xfrm flipV="1">
            <a:off x="6659640" y="4941000"/>
            <a:ext cx="360360" cy="57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Arrotonda angolo stesso lato rettangolo 31"/>
          <p:cNvSpPr/>
          <p:nvPr/>
        </p:nvSpPr>
        <p:spPr>
          <a:xfrm>
            <a:off x="6588000" y="3789360"/>
            <a:ext cx="505080" cy="216000"/>
          </a:xfrm>
          <a:custGeom>
            <a:avLst/>
            <a:gdLst/>
            <a:ahLst/>
            <a:rect l="l" t="t" r="r" b="b"/>
            <a:pathLst>
              <a:path w="504825" h="215900">
                <a:moveTo>
                  <a:pt x="35984" y="0"/>
                </a:moveTo>
                <a:lnTo>
                  <a:pt x="468841" y="0"/>
                </a:lnTo>
                <a:cubicBezTo>
                  <a:pt x="488714" y="0"/>
                  <a:pt x="504825" y="16111"/>
                  <a:pt x="504825" y="35984"/>
                </a:cubicBezTo>
                <a:lnTo>
                  <a:pt x="504825" y="215900"/>
                </a:lnTo>
                <a:lnTo>
                  <a:pt x="504825" y="215900"/>
                </a:lnTo>
                <a:lnTo>
                  <a:pt x="0" y="215900"/>
                </a:lnTo>
                <a:lnTo>
                  <a:pt x="0" y="215900"/>
                </a:lnTo>
                <a:lnTo>
                  <a:pt x="0" y="35984"/>
                </a:lnTo>
                <a:cubicBezTo>
                  <a:pt x="0" y="16111"/>
                  <a:pt x="16111" y="0"/>
                  <a:pt x="35984" y="0"/>
                </a:cubicBez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Connettore 1 34"/>
          <p:cNvSpPr/>
          <p:nvPr/>
        </p:nvSpPr>
        <p:spPr>
          <a:xfrm>
            <a:off x="6840360" y="4005360"/>
            <a:ext cx="0" cy="93636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Connettore 1 36"/>
          <p:cNvSpPr/>
          <p:nvPr/>
        </p:nvSpPr>
        <p:spPr>
          <a:xfrm>
            <a:off x="6840360" y="4005360"/>
            <a:ext cx="0" cy="93636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Connettore 1 39"/>
          <p:cNvSpPr/>
          <p:nvPr/>
        </p:nvSpPr>
        <p:spPr>
          <a:xfrm>
            <a:off x="6875640" y="4005360"/>
            <a:ext cx="0" cy="9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Connettore 1 40"/>
          <p:cNvSpPr/>
          <p:nvPr/>
        </p:nvSpPr>
        <p:spPr>
          <a:xfrm>
            <a:off x="6804000" y="4005360"/>
            <a:ext cx="0" cy="9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62" name="Connettore 2 42"/>
          <p:cNvCxnSpPr/>
          <p:nvPr/>
        </p:nvCxnSpPr>
        <p:spPr>
          <a:xfrm flipV="1">
            <a:off x="5435280" y="4581360"/>
            <a:ext cx="108180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Connettore 1 45"/>
          <p:cNvSpPr/>
          <p:nvPr/>
        </p:nvSpPr>
        <p:spPr>
          <a:xfrm>
            <a:off x="6875640" y="4365720"/>
            <a:ext cx="21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Connettore 1 46"/>
          <p:cNvSpPr/>
          <p:nvPr/>
        </p:nvSpPr>
        <p:spPr>
          <a:xfrm>
            <a:off x="6875640" y="4508640"/>
            <a:ext cx="21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Connettore 1 48"/>
          <p:cNvSpPr/>
          <p:nvPr/>
        </p:nvSpPr>
        <p:spPr>
          <a:xfrm flipH="1" flipV="1">
            <a:off x="6803640" y="2168640"/>
            <a:ext cx="289080" cy="6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CasellaDiTesto 49"/>
          <p:cNvSpPr/>
          <p:nvPr/>
        </p:nvSpPr>
        <p:spPr>
          <a:xfrm rot="19741200">
            <a:off x="5177880" y="5040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rebuchet MS"/>
              </a:rPr>
              <a:t>Crude oil carrie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CasellaDiTesto 6"/>
          <p:cNvSpPr/>
          <p:nvPr/>
        </p:nvSpPr>
        <p:spPr>
          <a:xfrm>
            <a:off x="1187280" y="126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Trasferimento dai luoghi di produzione a quelli di lavorazion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68" name="Connettore 2 51"/>
          <p:cNvCxnSpPr/>
          <p:nvPr/>
        </p:nvCxnSpPr>
        <p:spPr>
          <a:xfrm>
            <a:off x="6803640" y="2060280"/>
            <a:ext cx="28944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69" name="Connettore 2 54"/>
          <p:cNvCxnSpPr/>
          <p:nvPr/>
        </p:nvCxnSpPr>
        <p:spPr>
          <a:xfrm>
            <a:off x="7308720" y="1988640"/>
            <a:ext cx="432720" cy="723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70" name="CasellaDiTesto 32"/>
          <p:cNvSpPr/>
          <p:nvPr/>
        </p:nvSpPr>
        <p:spPr>
          <a:xfrm rot="18797400">
            <a:off x="7475760" y="2505960"/>
            <a:ext cx="9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Raffineri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CasellaDiTesto 33"/>
          <p:cNvSpPr/>
          <p:nvPr/>
        </p:nvSpPr>
        <p:spPr>
          <a:xfrm>
            <a:off x="6084720" y="2133720"/>
            <a:ext cx="7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rebuchet MS"/>
              </a:rPr>
              <a:t>Greggio</a:t>
            </a:r>
            <a:r>
              <a:rPr b="0" lang="it-IT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CasellaDiTesto 35"/>
          <p:cNvSpPr/>
          <p:nvPr/>
        </p:nvSpPr>
        <p:spPr>
          <a:xfrm>
            <a:off x="7236000" y="98100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rebuchet MS"/>
              </a:rPr>
              <a:t>Torre di distillazion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CasellaDiTesto 37"/>
          <p:cNvSpPr/>
          <p:nvPr/>
        </p:nvSpPr>
        <p:spPr>
          <a:xfrm>
            <a:off x="7596360" y="1557360"/>
            <a:ext cx="15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rebuchet MS"/>
              </a:rPr>
              <a:t>Serbatoi prodotti raffinati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74" name="Connettore 2 41"/>
          <p:cNvCxnSpPr>
            <a:endCxn id="251" idx="1"/>
          </p:cNvCxnSpPr>
          <p:nvPr/>
        </p:nvCxnSpPr>
        <p:spPr>
          <a:xfrm flipH="1">
            <a:off x="7919280" y="1773000"/>
            <a:ext cx="181800" cy="143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5" name="CasellaDiTesto 43"/>
          <p:cNvSpPr/>
          <p:nvPr/>
        </p:nvSpPr>
        <p:spPr>
          <a:xfrm>
            <a:off x="7236000" y="3141720"/>
            <a:ext cx="215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0000"/>
                </a:solidFill>
                <a:latin typeface="Trebuchet MS"/>
              </a:rPr>
              <a:t>Pontile di     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0000"/>
                </a:solidFill>
                <a:latin typeface="Trebuchet MS"/>
              </a:rPr>
              <a:t>ormeggio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Connettore 1 47"/>
          <p:cNvSpPr/>
          <p:nvPr/>
        </p:nvSpPr>
        <p:spPr>
          <a:xfrm flipH="1">
            <a:off x="7093080" y="2792520"/>
            <a:ext cx="15840" cy="1716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olo 1" descr=""/>
          <p:cNvPicPr/>
          <p:nvPr/>
        </p:nvPicPr>
        <p:blipFill>
          <a:blip r:embed="rId1"/>
          <a:stretch/>
        </p:blipFill>
        <p:spPr>
          <a:xfrm>
            <a:off x="407880" y="738360"/>
            <a:ext cx="8328240" cy="792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Il processo di lavorazione del greggio e della produzione dei prodotti raffinati si può sintetizzare in quattro fasi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APPROVVIGIONAMENTO DELLA MATERIA PRIMA ( GREGGIO ) CON NAVI O OLEODOTTI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TRASFERIMENTO DALLA NAVE E STOCCAGGIO DEL GREGGIO IN SERBATOI SITUATI NELL’AREA DELLA RAFFINERIA O ANCHE FUORI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TRASFERIMENTO DEL GREGGIO DAI SERBATOI ALLE TORRI DI RAFFINAZION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PROCESSO DI RAFFINAZIONE ED ESTRAZIONE DEI DIVERSI PRODOTTI E LORO TRASFERIMENTO NEI  SERBATOI DEDICATI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Le diverse fasi possono raggrupparsi nella cosiddetta Logistica </a:t>
            </a:r>
            <a:r>
              <a:rPr b="1" i="1" lang="it-IT" sz="2000" spc="-1" strike="noStrike">
                <a:solidFill>
                  <a:srgbClr val="404040"/>
                </a:solidFill>
                <a:latin typeface="Trebuchet MS"/>
              </a:rPr>
              <a:t>IN - BUOND  </a:t>
            </a: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cioè del ciclo dai fornitori da cui la raffineria si approvvigiona della materia prima, al processo di lavorazione interna, allo stoccaggio dei prodotti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2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olo 1" descr=""/>
          <p:cNvPicPr/>
          <p:nvPr/>
        </p:nvPicPr>
        <p:blipFill>
          <a:blip r:embed="rId1"/>
          <a:stretch/>
        </p:blipFill>
        <p:spPr>
          <a:xfrm>
            <a:off x="457200" y="60336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a materia prima, il petrolio, proviene dai diversi paesi produttori con cui la raffineria stipula contratti di fornitura mediante intermediazione di grandi aziende di produzione. In questa fase è importante pianificare la fornitura di greggio in relazione 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Capacità  di raffinazione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Sincronia fra produzione e richiesta del mercato dei prodotti raffinati (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Just in Time 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Necessità  di non avere scorte immobilizzate, quindi immobilizzo di capitale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Necessità di soddisfare le richieste dei clienti (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Customer satisfaction 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7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1267920"/>
            <a:ext cx="9144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Questo processo prevede 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a pianificazione degli accosti e degli ormeggi alle strutture off – shore ( pontili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e procedure di manovra per portare la nave all’ormeggio con coinvolgimento dei servizi del terminal ( pilotaggio, rimorchio, ormeggio 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e operazioni del pontile per  collegare  i manifold delle linee ( pipeline) di movimentazione del carico della nave  ai bracci di carico delle condutture del pontile che porteranno il greggio ai relativi serbatoi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’impiego dei sistemi di movimentazione ( pompe della nave o della raffineria) del greggio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l controllo della quantità di carico movimentato dalla nave alla raffineria in relazione alla corrispondente “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Polizza di carico 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“ –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Bill of Lading –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CasellaDiTesto 4"/>
          <p:cNvSpPr/>
          <p:nvPr/>
        </p:nvSpPr>
        <p:spPr>
          <a:xfrm>
            <a:off x="539640" y="765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d79ca"/>
                </a:solidFill>
                <a:latin typeface="Trebuchet MS"/>
              </a:rPr>
              <a:t>TRASFERIMENTO DALLA NAVE E STOCCAGGIO DEL GREGGIO NEI SERBATO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2" descr="G:\Ufficio - CentroStudi\SELENE\PROGETTI\PO_ITALIA_FRANCIA_MARITTIMO\PER_MARE\comunicazione\manuale_comunicazione\Logo_Marittimo.jpg"/>
          <p:cNvPicPr/>
          <p:nvPr/>
        </p:nvPicPr>
        <p:blipFill>
          <a:blip r:embed="rId1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G:\Ufficio - CentroStudi\SELENE\PROGETTI\PO_ITALIA_FRANCIA_MARITTIMO\PER_MARE\comunicazione\manuale_comunicazione\UE_def.jpg"/>
          <p:cNvPicPr/>
          <p:nvPr/>
        </p:nvPicPr>
        <p:blipFill>
          <a:blip r:embed="rId2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G:\Ufficio - CentroStudi\SELENE\PROGETTI\PO_ITALIA_FRANCIA_MARITTIMO\PER_MARE\comunicazione\manuale_comunicazione\logo-progetto.jpg"/>
          <p:cNvPicPr/>
          <p:nvPr/>
        </p:nvPicPr>
        <p:blipFill>
          <a:blip r:embed="rId3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olo 1" descr=""/>
          <p:cNvPicPr/>
          <p:nvPr/>
        </p:nvPicPr>
        <p:blipFill>
          <a:blip r:embed="rId1"/>
          <a:stretch/>
        </p:blipFill>
        <p:spPr>
          <a:xfrm>
            <a:off x="433440" y="652320"/>
            <a:ext cx="8277120" cy="7858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n relazione alle caratteristiche delle navi impiegate  ed alla pericolosità del carico movimentato le operazioni elencate devono soddisfare sia ai criteri di economia che soprattutto a quelli di “ </a:t>
            </a:r>
            <a:r>
              <a:rPr b="0" lang="it-IT" sz="2200" spc="-1" strike="noStrike">
                <a:solidFill>
                  <a:srgbClr val="ff0000"/>
                </a:solidFill>
                <a:latin typeface="Trebuchet MS"/>
              </a:rPr>
              <a:t>Safety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“. Le grandi dimensioni della navi richiedono professionalità dei piloti, degli equipaggi delle navi e dei rimorchiatori per quel che attiene le competenze tecniche e quelle linguistiche nell’impiego della micro lingua specifica di settor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Parimenti il personale operativo del pontile deve eseguire le proprie mansioni controllando che la nave sia ben ormeggiata, assicurare il collegamento sicuro ai manifold,  attuare tutte quelle misure atte a prevenire sia l’inquinamento  del mare  che  a ridurre il pericolo  del verificarsi dell’evento più temuto in queste  circostanze : </a:t>
            </a:r>
            <a:r>
              <a:rPr b="0" lang="it-IT" sz="2200" spc="-1" strike="noStrike">
                <a:solidFill>
                  <a:srgbClr val="ff0000"/>
                </a:solidFill>
                <a:latin typeface="Trebuchet MS"/>
              </a:rPr>
              <a:t>l’incendio.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Ancora il coordinamento terra - bordo deve assicurare anche la “ </a:t>
            </a:r>
            <a:r>
              <a:rPr b="0" lang="it-IT" sz="2200" spc="-1" strike="noStrike">
                <a:solidFill>
                  <a:srgbClr val="ff0000"/>
                </a:solidFill>
                <a:latin typeface="Trebuchet MS"/>
              </a:rPr>
              <a:t>Security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“ rispetto a possibili atti terroristici di cui possono essere oggetto le navi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7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olo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919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6840" y="1483920"/>
            <a:ext cx="8435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4040"/>
                </a:solidFill>
                <a:latin typeface="Trebuchet MS"/>
              </a:rPr>
              <a:t>Le fasi lavorative connesse con l’operatività della raffineria sono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4040"/>
                </a:solidFill>
                <a:latin typeface="Trebuchet MS"/>
              </a:rPr>
              <a:t>Trasferimento del greggio dai serbatoi alle torri di raffinazione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4040"/>
                </a:solidFill>
                <a:latin typeface="Trebuchet MS"/>
              </a:rPr>
              <a:t>Procedimento della raffinazione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4040"/>
                </a:solidFill>
                <a:latin typeface="Trebuchet MS"/>
              </a:rPr>
              <a:t>Stoccaggio dei diversi prodotti negli appropriati serbatoi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2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4:54:59Z</dcterms:created>
  <dc:creator>Piccini Silvia</dc:creator>
  <dc:description/>
  <dc:language>en-US</dc:language>
  <cp:lastModifiedBy>Piccini Silvia</cp:lastModifiedBy>
  <dcterms:modified xsi:type="dcterms:W3CDTF">2013-11-21T15:55:53Z</dcterms:modified>
  <cp:revision>17</cp:revision>
  <dc:subject/>
  <dc:title>Presentazione standard di PowerPoint</dc:title>
</cp:coreProperties>
</file>