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D03-FA50-43E7-BE71-593AFBB3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155-9606-45CD-B75B-C70D3608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3E9-B76F-480E-AC4A-EBA9A551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EFD-EAB9-4066-A247-C76BE8B4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B948-234F-4EE2-9D73-09E358F1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C0B-3D38-4573-A768-C8F626C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8556-562D-42C7-A238-08F6D1E9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44B-724E-43E7-9535-D1388E1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9FC-F42A-49DF-8B2B-71B7104D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8A5-FD1E-496C-81AA-B5FDE4A1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9ED4-1DA8-4D0C-954D-A06A40B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4C0-E42A-4E69-A258-FD6E6A81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5ECD-2512-4E15-BF07-EADB01F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FD6-9C82-473D-A328-AEC8340A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DD3C-23A3-48CA-B44F-E3712D8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ED3D-EFA0-4C59-B333-EE8BA4A2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C928-EB8D-4E8A-86A1-36CA8031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C9C6-1FF3-488C-B0F5-BD86358F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0938-6187-4DE0-9AE2-436C7085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5A84-F272-40C9-99B1-A8F259B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8C3E-C2CB-4C6D-BD1B-B8E16CD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465A-2B3B-4650-90F8-7A0C8586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2A9-C7D1-4E69-A596-51BA2798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F6D0-87DF-4B88-BF3E-20684C6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7711-696C-413A-93DB-520EBE4B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4BF8-13AE-4F4E-99DE-C5D618B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8183-3EFE-44F5-BE8C-D57185A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8FE3-E8C0-4E62-B609-A3FE0AD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AA49-5969-4666-9A73-9A72ECB9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3892-2CC1-4061-8BFB-9C1C68B5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E208-0AF3-4736-8EB5-6C5F1A8B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F7DB-6012-47EB-8DB8-AFCB2AC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6D6C-B789-44D2-9AE7-A195308E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961-6465-48DC-A09A-3E643F4A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0F44-8411-4256-9855-E22B253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ECEE-BCC5-457A-BA18-8043703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AE84-E693-49AD-83FB-FA23D8D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8F78-062E-4D5A-896E-F6B286B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2AFC-4926-466F-89DD-F1559F82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4EE2-10B8-40D2-9681-1882695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801D-BD17-4FCF-8FED-44ADCCF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7CAA-358B-455C-A609-FB0F8DC6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73A9-36F8-407B-B693-AD286FB7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5DB-1BA2-4F32-B68D-1614F125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66A-70AD-4C40-95BF-DAA81F79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921-EA49-4688-932D-5A3EEF4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AD9-1195-475E-9AA4-9EF5641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DC2-CC0D-4FEF-8136-EC8C9BB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0C0-3BCD-478A-B5FC-337FA430975C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CBB-2824-46D4-841A-19C2024B0B5C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47F-32FB-4CA6-A852-FCE7CFBE4E65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E0A0-C727-4F8E-A4E2-DB8C6072FB92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olo 1" descr=""/>
          <p:cNvPicPr/>
          <p:nvPr/>
        </p:nvPicPr>
        <p:blipFill>
          <a:blip r:embed="rId1"/>
          <a:stretch/>
        </p:blipFill>
        <p:spPr>
          <a:xfrm>
            <a:off x="2730600" y="2262240"/>
            <a:ext cx="65721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23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2"/>
          <p:cNvSpPr/>
          <p:nvPr/>
        </p:nvSpPr>
        <p:spPr>
          <a:xfrm>
            <a:off x="5292720" y="4915080"/>
            <a:ext cx="37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Cagliari, 14 Novembre 20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1189080" y="858960"/>
            <a:ext cx="7126200" cy="13176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28280" y="20019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Organizzazione logistica necessaria per mettere in comunicazione i luoghi di produzione con quelli del consumo/utilizzazione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Ruoli e processi di tutti gli attori della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supply chain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La rete logistica per le attività del trasporto,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vettor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di trasporto (la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nave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nel nostro caso),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nod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per la distribuzione capillare della merce o passeggeri (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porti 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ed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interport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Bisogna evidenziare il rapporto fra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flussi fisic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che attengono alle infrastrutture ed ai processi operativi per il trasferimento del carico (merci o passeggeri) e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flussi informativ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(documentazione commerciale, doganale) per il suo ricevimento e smistament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1474920" y="774720"/>
            <a:ext cx="6510240" cy="1309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00000" y="196704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Pianificazione della  traversata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pianificazione della caricazion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condotta e controllo della navigazion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controllo delle condizioni del carico dal punto di vista della sua resa al ricevitore senza danni e/o inquinamento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controllo delle modifiche nella disposizione e/o condizione del carico ai fini della sicurezza della nav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ottimizzazione dei consumi con adeguato rapporto velocità/ tempi di consegna merc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predisposizione della nave e organizzazione dell’equipaggio per il trasferimento del carico terra – bordo o viceversa nel minor tempo e con le massime condizioni di sicurezza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500120" y="907920"/>
            <a:ext cx="6600960" cy="15494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00000" y="2418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onduzione e controllo degli impianti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mantenimento in efficienza degli impianti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onsumo e compatibilità ambientale dei combustibili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operazioni di movimentazione del combustibile terra – bordo (bunkeraggio) e ai serbatoi giornalieri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gestione della manutenzione ordinaria e del magazzino dei pezzi di rispetto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1401840" y="858960"/>
            <a:ext cx="7132680" cy="1317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00000" y="196704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Interazione con le strutture portuali: servizi pilotaggio, rimorchio, assegnazione banchina, utilizzazione squadre lavoratoti portuali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rapporti con capitaneria, dogana, operazioni commerciali e relativa documentazio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approvvigionamento prodotti alimentari e bunkeraggio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interventi di manutenzione ordinaria programmata e/o straordinari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122400" y="774720"/>
            <a:ext cx="8173800" cy="12556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10920" y="19670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mpiego dei sistemi ICT p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gestione della documentazione: particolarmente di tipo commerciale e in prospettiva anche amministrativ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gestione del sistema integrato di manutenzione dello scafo e apparati di bordo durante tutta la vita della nav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176040" y="622440"/>
            <a:ext cx="9077400" cy="1139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57280" y="16365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Per valutare l’efficacia dei processi logistici si possono monitorare i KPI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Nell’ambito navale possiamo, a titolo di esempio, individuare nel </a:t>
            </a:r>
            <a:r>
              <a:rPr b="1" lang="it-IT" sz="1600" spc="-1" strike="noStrike">
                <a:solidFill>
                  <a:srgbClr val="404040"/>
                </a:solidFill>
                <a:latin typeface="Trebuchet MS"/>
              </a:rPr>
              <a:t>servizio portuale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la riduzione dei tempi di permanenza della nave nell’area portuale ( rada / banchina 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Ciò dipende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alla capacità di movimentazione del carico e quindi dalla quantità dei mezzi di movimentazione nave / terra / nave e nell’ambito del terminale stesso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alla velocità di trasferimento del carico e quindi dall’abilità degli operatori (particolarmente nella movimentazione di unità di carico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     –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container o rotabili - )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alla capacità operativa dei servizi tecnici portuali ( piloti, rimorchiatori, ormeggiatori 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Per quanto concerne </a:t>
            </a:r>
            <a:r>
              <a:rPr b="1" lang="it-IT" sz="1600" spc="-1" strike="noStrike">
                <a:solidFill>
                  <a:srgbClr val="404040"/>
                </a:solidFill>
                <a:latin typeface="Trebuchet MS"/>
              </a:rPr>
              <a:t>la nave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il rispetto dei tempi di partenza e di arrivo particolarmente per le navi di linea che trasportano passeggeri e/o merce. Quindi le variabili su cui agire riguardano l’organizzazione 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elle procedure di imbarco passeggeri e delle auto al loro seguito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ella loro accoglienza  e sistemazione nelle relative cabine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ell’imbarco e  stivaggio del carico su unità rotabili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olo 1" descr=""/>
          <p:cNvPicPr/>
          <p:nvPr/>
        </p:nvPicPr>
        <p:blipFill>
          <a:blip r:embed="rId1"/>
          <a:stretch/>
        </p:blipFill>
        <p:spPr>
          <a:xfrm>
            <a:off x="401760" y="731880"/>
            <a:ext cx="8523000" cy="1219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557280" y="141300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In termini generali le figure professionali possono individuarsi i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Manage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Tecnic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Operatori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er i primi le competenze sono connesse con le scelte strategiche a lungo termine associate con il processo produttivo (supply chain, strutture : loro dimensionamento e allocazione, </a:t>
            </a: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gestione della logistica integrata </a:t>
            </a: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er i tecnici le decisioni tattiche a medio e breve termine (gestione del magazzino e della produzione in relazione alla previsione della domanda,organizzazione delle risorse umane e strutturali  e controllo dei processi in relazione anche all’applicazione della norme giuridico-amministrative, </a:t>
            </a: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gestione della logistica interna</a:t>
            </a: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er gli operatori le competenze connesse con le attività operative quotidiane ( conduzione di mezzi e impianti nel rispetto delle norme sulla sicurezza del lavoro e la salvaguardia dell’ambiente, </a:t>
            </a: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esecuzione dei processi operativi</a:t>
            </a: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620720" y="853920"/>
            <a:ext cx="6512040" cy="1200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Nella riforma dell’istruzione tecnica la disciplina Logistica è stata introdotta nelle Articolazioni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rebuchet MS"/>
              </a:rPr>
              <a:t>COSTRUZIONE DEL MEZZO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rebuchet MS"/>
              </a:rPr>
              <a:t>CONDUZIONE DEL MEZZO</a:t>
            </a:r>
            <a:r>
              <a:rPr b="1" lang="it-IT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con le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Opzion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 algn="just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- Conduzione del mezzo navale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 algn="just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- Conduzione degli apparati ed Impianti Marittim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rebuchet MS"/>
              </a:rPr>
              <a:t>LOGISTIC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4" descr=""/>
          <p:cNvPicPr/>
          <p:nvPr/>
        </p:nvPicPr>
        <p:blipFill>
          <a:blip r:embed="rId1"/>
          <a:stretch/>
        </p:blipFill>
        <p:spPr>
          <a:xfrm>
            <a:off x="176040" y="853920"/>
            <a:ext cx="8778960" cy="1438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2040" y="215892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Lo studio della Logistica come disciplina nell’ambito delle diverse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articolazioni e relative opzioni 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contribuisce alla creazione di una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visione sistemica del processo 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del trasporto (marittimo, aereo, terrestre) e quindi aiuta gli allievi a costruirsi il proprio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progetto di vita professionale nel settore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, individuando possibili aree di attività lavorative nei diversi contesti: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conduzione, costruzione, servizi alla nave, servizi portuali, aeroportuali, di snodo terrestre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 ( interporti ).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523800" y="828720"/>
            <a:ext cx="8266320" cy="1549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10920" y="21416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Dal punto di vista formativo, la logistica è parte integrante delle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competenze professionali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. Essa permette di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organizzare, eseguire, gestire e controllare i processi produttivi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 per  renderli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efficaci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 nel perseguire l’obiettivo preposto ed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efficienti 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 in termini di competitività sotto il profilo economico. Persegue, nel contempo, gli obiettivi di sicurezza sul lavoro e della salvaguardia dell’ambiente (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sostenibilità del processo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77240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0920" y="1862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La  Logistica  evidenzia i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flussi fisic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 ed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informativ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 connessi con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l’esecuzione tecnica 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dei processi produttivi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Permette di individuare  i passaggi cruciali dei processi sui quali agire per ottenere quel “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valore aggiunto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” che, in </a:t>
            </a:r>
            <a:r>
              <a:rPr b="1" lang="it-IT" sz="2800" spc="-1" strike="noStrike">
                <a:solidFill>
                  <a:srgbClr val="404040"/>
                </a:solidFill>
                <a:latin typeface="Trebuchet MS"/>
              </a:rPr>
              <a:t>termini economic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, significa riduzione dei costi, parametro che viene utilizzato come riferimento per valutare la competitività nell’erogazione di un servizio logistico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828720" y="901800"/>
            <a:ext cx="7304040" cy="1542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44120" y="243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antiere – fornitori di impianti ed apparati ausiliari, sistemi di propulsione e governo, allestimento interno più o meno articolato in relazione alla tipologia del mezz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In questo ambito le competenze professionali funzionali alla logistica sono associate a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tutto il ciclo dalla commessa alla consegna del mezzo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49120" y="719280"/>
            <a:ext cx="8193240" cy="1523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2276280"/>
            <a:ext cx="7924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Costruzione scafo: approvvigionamento lamiere, preparazione alla lavorazione, taglio, costruzione pannelli, blocchi, assemblaggio blocchi, installazione impianti ed apparati, sistemi di propulsione e governo, varo, allestimento.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I cantieri si avvalgono di uffici appositamente allestiti per ottimizzare logisticamente le fasi di lavora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8400" y="2491920"/>
            <a:ext cx="792504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Sistemi integrati di manutenzione scafo e apparati di bordo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complete life - cycle solution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 che vengono ormai forniti da tutti i costruttori e fornitori di impianti come servizio logistico per mantenere la nave efficiente secondo i parametri di operatività, sostenibilità ambientale e riduzione dei costi associati ai consumi di combustibile durante l’intero ciclo di vita della nav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" descr=""/>
          <p:cNvPicPr/>
          <p:nvPr/>
        </p:nvPicPr>
        <p:blipFill>
          <a:blip r:embed="rId4"/>
          <a:stretch/>
        </p:blipFill>
        <p:spPr>
          <a:xfrm>
            <a:off x="249120" y="719280"/>
            <a:ext cx="8193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901800" y="755640"/>
            <a:ext cx="7413480" cy="14270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0920" y="2418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Navi </a:t>
            </a:r>
            <a:r>
              <a:rPr b="0" i="1" lang="it-IT" sz="2200" spc="-1" strike="noStrike">
                <a:solidFill>
                  <a:srgbClr val="ff9999"/>
                </a:solidFill>
                <a:latin typeface="Trebuchet MS"/>
              </a:rPr>
              <a:t>E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nergy </a:t>
            </a:r>
            <a:r>
              <a:rPr b="0" i="1" lang="it-IT" sz="2200" spc="-1" strike="noStrike">
                <a:solidFill>
                  <a:srgbClr val="ff9999"/>
                </a:solidFill>
                <a:latin typeface="Trebuchet MS"/>
              </a:rPr>
              <a:t>E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fficiency and </a:t>
            </a:r>
            <a:r>
              <a:rPr b="0" i="1" lang="it-IT" sz="2200" spc="-1" strike="noStrike">
                <a:solidFill>
                  <a:srgbClr val="ff9999"/>
                </a:solidFill>
                <a:latin typeface="Trebuchet MS"/>
              </a:rPr>
              <a:t>E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nvironmentally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improved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(recupero acciaio – 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reverse logistic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– bassissime emissioni di CO</a:t>
            </a:r>
            <a:r>
              <a:rPr b="0" lang="it-IT" sz="22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, risparmio energetico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mpiego del gas naturale LNG come combustibile nella propulsione navale con relativa problematica logistica delle operazioni di bunkeraggi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11-21T15:55:38Z</dcterms:modified>
  <cp:revision>19</cp:revision>
  <dc:subject/>
  <dc:title>Presentazione standard di PowerPoint</dc:title>
</cp:coreProperties>
</file>