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3B8-DFF7-45BF-856A-5154804A1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012A-5247-4AD9-AB9D-93C32209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A3BE-3B2D-4064-86A3-05F10F007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05CD-434F-4B97-A170-D74BDB96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A9751-EBAF-4F00-A9B3-08C1F13B8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66AE-B2C0-4381-8917-2B7FF510F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F2B6-1461-4822-AF67-AA00440D0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D7B0-344F-4E58-BD88-4820EF6E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50CE-141E-4FCB-AB8C-D9D0BC6C1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E9C0C-32E0-4440-BF54-FC2BEC88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4EF5-B832-4A35-909C-3E43CEB7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B51E-480A-4065-8F7F-16F27F864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3AE91-3F76-4E7B-9415-78F05D988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756BE-24D8-4530-ACC7-34A68957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49A8D-1CF0-434E-BF5E-83FAA6875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29C04-F5A1-4DC3-945D-CBA029E57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639EF-165D-43C1-9CE3-69B8363EA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4D62F-76DC-48CC-93B1-1152CDDA0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2DDBC-5556-4782-85FB-921AC615B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40B5D-8695-4DCD-8E01-952BFA36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A8EF7-648E-455E-B227-40FC83CC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2BFF93-FA30-41BD-9D1B-F1FBBD2AD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0571-86A2-4B39-A391-258F93D06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E1471-01F5-4815-BD05-C08D5C3F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E9DB2-2160-4D53-A5BE-CAE45817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656CF6-DAAC-47DD-9295-63E11B8E7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B6345-CE2B-4645-9C93-083A11608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735BC-60D6-4FF1-8719-2CC8D418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D80F67-ED73-4FA9-B5CC-46D6510C2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14145-8120-4379-B109-6AFB980AC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7C7CC9-5380-4B74-B87F-B43B5AA13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9BC4-D191-42F6-A435-81FB29EA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B9CFC3-806D-48C9-905B-AB1E09C41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6EE-4199-4692-8712-DF24C1A63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CA2358-2EAF-4295-9F68-F9E5FE13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B8A56B-C82B-4DD3-A38F-A5F648DA0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45C109-FAA4-4B68-88FA-D6ACD140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6136B-00DC-4E88-B2CD-9FD0E0BA1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22AB1-460D-4FD8-AE4A-0FDB7EAE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C23F20-6436-4D2F-A2FF-623CF1CF6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94BB15-224C-4532-8EF8-55D5E1FD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5BC9DA-1398-4DE0-962F-E8F99A55A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F2307-209F-4943-9D3D-A93D67BCA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B390-D3F9-428F-BDCA-70229F6EA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F20A-4761-403D-91D1-07E4AFFD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E39C-ED38-45E3-896B-92E7B1F17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33BB-A484-4571-999B-A76B42A36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281C-F815-4711-A675-69CE6E17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A3F70-69FD-49C7-85C9-A11515A5CB89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BEE0-4EE0-45EE-A892-DC409CB2D84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0328F-44D6-47B1-B546-21DDE0E4CF6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2CB29-2BD5-4491-9C93-1962315A886C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23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Cagliari, 14 Novembre 20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Rectangle 2" descr=""/>
          <p:cNvPicPr/>
          <p:nvPr/>
        </p:nvPicPr>
        <p:blipFill>
          <a:blip r:embed="rId1"/>
          <a:stretch/>
        </p:blipFill>
        <p:spPr>
          <a:xfrm>
            <a:off x="1189080" y="858960"/>
            <a:ext cx="7126200" cy="131760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728280" y="200196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Organizzazione logistica necessaria per mettere in comunicazione i luoghi di produzione con quelli del consumo/utilizzazione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Ruoli e processi di tutti gli attori dell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supply chain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La rete logistica per le attività del trasporto,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vettor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di trasporto (l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nave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nel nostro caso),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nod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per la distribuzione capillare della merce o passeggeri (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porti 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ed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interport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)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601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Bisogna evidenziare il rapporto fra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flussi fisic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che attengono alle infrastrutture ed ai processi operativi per il trasferimento del carico (merci o passeggeri) e i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flussi informativi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 (documentazione commerciale, doganale) per il suo ricevimento e smistament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1474920" y="774720"/>
            <a:ext cx="6510240" cy="130968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900000" y="196704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ianificazione della  traversata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ianificazione della caricazion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dotta e controllo della navigazion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trollo delle condizioni del carico dal punto di vista della sua resa al ricevitore senza danni e/o inquinamento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controllo delle modifiche nella disposizione e/o condizione del carico ai fini della sicurezza della nav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ottimizzazione dei consumi con adeguato rapporto velocità/ tempi di consegna merce;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24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100" spc="-1" strike="noStrike">
                <a:solidFill>
                  <a:srgbClr val="404040"/>
                </a:solidFill>
                <a:latin typeface="Trebuchet MS"/>
              </a:rPr>
              <a:t>predisposizione della nave e organizzazione dell’equipaggio per il trasferimento del carico terra – bordo o viceversa nel minor tempo e con le massime condizioni di sicurezza.</a:t>
            </a:r>
            <a:endParaRPr b="0" lang="en-US" sz="21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Rectangle 2" descr=""/>
          <p:cNvPicPr/>
          <p:nvPr/>
        </p:nvPicPr>
        <p:blipFill>
          <a:blip r:embed="rId1"/>
          <a:stretch/>
        </p:blipFill>
        <p:spPr>
          <a:xfrm>
            <a:off x="1500120" y="907920"/>
            <a:ext cx="6600960" cy="154944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900000" y="2418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onduzione e controllo degli impiant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mantenimento in efficienza degli impiant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onsumo e compatibilità ambientale dei combustibili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operazioni di movimentazione del combustibile terra – bordo (bunkeraggio) e ai serbatoi giornalieri;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gestione della manutenzione ordinaria e del magazzino dei pezzi di rispetto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7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Rectangle 2" descr=""/>
          <p:cNvPicPr/>
          <p:nvPr/>
        </p:nvPicPr>
        <p:blipFill>
          <a:blip r:embed="rId1"/>
          <a:stretch/>
        </p:blipFill>
        <p:spPr>
          <a:xfrm>
            <a:off x="1401840" y="858960"/>
            <a:ext cx="7132680" cy="1317600"/>
          </a:xfrm>
          <a:prstGeom prst="rect">
            <a:avLst/>
          </a:prstGeom>
          <a:ln w="0">
            <a:noFill/>
          </a:ln>
        </p:spPr>
      </p:pic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900000" y="196704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terazione con le strutture portuali: servizi pilotaggio, rimorchio, assegnazione banchina, utilizzazione squadre lavoratoti portuali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rapporti con capitaneria, dogana, operazioni commerciali e relativa documentazione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approvvigionamento prodotti alimentari e bunkeraggio;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terventi di manutenzione ordinaria programmata e/o straordinaria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Rectangle 2" descr=""/>
          <p:cNvPicPr/>
          <p:nvPr/>
        </p:nvPicPr>
        <p:blipFill>
          <a:blip r:embed="rId1"/>
          <a:stretch/>
        </p:blipFill>
        <p:spPr>
          <a:xfrm>
            <a:off x="122400" y="774720"/>
            <a:ext cx="8173800" cy="125568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/>
          </p:nvPr>
        </p:nvSpPr>
        <p:spPr>
          <a:xfrm>
            <a:off x="610920" y="19670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mpiego dei sistemi ICT per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gestione della documentazione: particolarmente di tipo commerciale e in prospettiva anche amministrativ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gestione del sistema integrato di manutenzione dello scafo e apparati di bordo durante tutta la vita della nav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Rectangle 2" descr=""/>
          <p:cNvPicPr/>
          <p:nvPr/>
        </p:nvPicPr>
        <p:blipFill>
          <a:blip r:embed="rId1"/>
          <a:stretch/>
        </p:blipFill>
        <p:spPr>
          <a:xfrm>
            <a:off x="176040" y="622440"/>
            <a:ext cx="9077400" cy="113976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557280" y="1636560"/>
            <a:ext cx="820728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Per valutare l’efficacia dei processi logistici si possono monitorare i KPI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Nell’ambito navale possiamo, a titolo di esempio, individuare nel </a:t>
            </a:r>
            <a:r>
              <a:rPr b="1" lang="it-IT" sz="1600" spc="-1" strike="noStrike">
                <a:solidFill>
                  <a:srgbClr val="404040"/>
                </a:solidFill>
                <a:latin typeface="Trebuchet MS"/>
              </a:rPr>
              <a:t>servizio portuale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la riduzione dei tempi di permanenza della nave nell’area portuale ( rada / banchina 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Ciò dipende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capacità di movimentazione del carico e quindi dalla quantità dei mezzi di movimentazione nave / terra / nave e nell’ambito del terminale stesso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velocità di trasferimento del carico e quindi dall’abilità degli operatori (particolarmente nella movimentazione di unità di carico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     – 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container o rotabili - )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alla capacità operativa dei servizi tecnici portuali ( piloti, rimorchiatori, ormeggiatori ).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Per quanto concerne </a:t>
            </a:r>
            <a:r>
              <a:rPr b="1" lang="it-IT" sz="1600" spc="-1" strike="noStrike">
                <a:solidFill>
                  <a:srgbClr val="404040"/>
                </a:solidFill>
                <a:latin typeface="Trebuchet MS"/>
              </a:rPr>
              <a:t>la nave</a:t>
            </a: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 il rispetto dei tempi di partenza e di arrivo particolarmente per le navi di linea che trasportano passeggeri e/o merce. Quindi le variabili su cui agire riguardano l’organizzazione :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e procedure di imbarco passeggeri e delle auto al loro seguito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a loro accoglienza  e sistemazione nelle relative cabine;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404040"/>
                </a:solidFill>
                <a:latin typeface="Trebuchet MS"/>
              </a:rPr>
              <a:t>dell’imbarco e  stivaggio del carico su unità rotabili.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Titolo 1" descr=""/>
          <p:cNvPicPr/>
          <p:nvPr/>
        </p:nvPicPr>
        <p:blipFill>
          <a:blip r:embed="rId1"/>
          <a:stretch/>
        </p:blipFill>
        <p:spPr>
          <a:xfrm>
            <a:off x="401760" y="731880"/>
            <a:ext cx="8523000" cy="121932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 txBox="1"/>
          <p:nvPr/>
        </p:nvSpPr>
        <p:spPr>
          <a:xfrm>
            <a:off x="557280" y="141300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In termini generali le figure professionali possono individuarsi in: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Manager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Tecnici;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Operatori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i primi le competenze sono connesse con le scelte strategiche a lungo termine associate con il processo produttivo (supply chain, strutture : loro dimensionamento e allocazion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gestione della logistica integrata 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i tecnici le decisioni tattiche a medio e breve termine (gestione del magazzino e della produzione in relazione alla previsione della domanda,organizzazione delle risorse umane e strutturali  e controllo dei processi in relazione anche all’applicazione della norme giuridico-amministrativ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gestione della logistica interna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221400" indent="-176760"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Per gli operatori le competenze connesse con le attività operative quotidiane ( conduzione di mezzi e impianti nel rispetto delle norme sulla sicurezza del lavoro e la salvaguardia dell’ambiente, </a:t>
            </a:r>
            <a:r>
              <a:rPr b="1" lang="it-IT" sz="1800" spc="-1" strike="noStrike">
                <a:solidFill>
                  <a:srgbClr val="404040"/>
                </a:solidFill>
                <a:latin typeface="Trebuchet MS"/>
              </a:rPr>
              <a:t>esecuzione dei processi operativi</a:t>
            </a:r>
            <a:r>
              <a:rPr b="0" lang="it-IT" sz="18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Rectangle 2" descr=""/>
          <p:cNvPicPr/>
          <p:nvPr/>
        </p:nvPicPr>
        <p:blipFill>
          <a:blip r:embed="rId1"/>
          <a:stretch/>
        </p:blipFill>
        <p:spPr>
          <a:xfrm>
            <a:off x="1620720" y="853920"/>
            <a:ext cx="6512040" cy="12002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Nella riforma dell’istruzione tecnica la disciplina Logistica è stata introdotta nelle Articolazioni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COSTRUZIONE DEL MEZZO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CONDUZIONE DEL MEZZO</a:t>
            </a:r>
            <a:r>
              <a:rPr b="1" lang="it-IT" sz="28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con le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Opzion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 algn="just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- Conduzione del mezzo navale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 algn="just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- Conduzione degli apparati ed Impianti Marittimi;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-585000" algn="just"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Trebuchet MS"/>
              </a:rPr>
              <a:t>LOGISTIC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585000" indent="0"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Rectangle 4" descr=""/>
          <p:cNvPicPr/>
          <p:nvPr/>
        </p:nvPicPr>
        <p:blipFill>
          <a:blip r:embed="rId1"/>
          <a:stretch/>
        </p:blipFill>
        <p:spPr>
          <a:xfrm>
            <a:off x="176040" y="853920"/>
            <a:ext cx="8778960" cy="143856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92040" y="2158920"/>
            <a:ext cx="820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Lo studio della Logistica come disciplina nell’ambito delle diverse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articolazioni e relative opzioni 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contribuisce alla creazione di una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visione sistemica del processo 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del trasporto (marittimo, aereo, terrestre) e quindi aiuta gli allievi a costruirsi il proprio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progetto di vita professionale nel settore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, individuando possibili aree di attività lavorative nei diversi contesti: </a:t>
            </a:r>
            <a:r>
              <a:rPr b="1" i="1" lang="it-IT" sz="2700" spc="-1" strike="noStrike">
                <a:solidFill>
                  <a:srgbClr val="404040"/>
                </a:solidFill>
                <a:latin typeface="Trebuchet MS"/>
              </a:rPr>
              <a:t>conduzione, costruzione, servizi alla nave, servizi portuali, aeroportuali, di snodo terrestre</a:t>
            </a:r>
            <a:r>
              <a:rPr b="0" lang="it-IT" sz="2700" spc="-1" strike="noStrike">
                <a:solidFill>
                  <a:srgbClr val="404040"/>
                </a:solidFill>
                <a:latin typeface="Trebuchet MS"/>
              </a:rPr>
              <a:t> ( interporti )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Rectangle 2" descr=""/>
          <p:cNvPicPr/>
          <p:nvPr/>
        </p:nvPicPr>
        <p:blipFill>
          <a:blip r:embed="rId1"/>
          <a:stretch/>
        </p:blipFill>
        <p:spPr>
          <a:xfrm>
            <a:off x="523800" y="828720"/>
            <a:ext cx="8266320" cy="154944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610920" y="214164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64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Dal punto di vista formativo, la logistica è parte integrante delle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competenze professional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. Essa permette di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organizzare, eseguire, gestire e controllare i processi produttiv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per  renderli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efficaci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nel perseguire l’obiettivo preposto ed 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efficienti 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 in termini di competitività sotto il profilo economico. Persegue, nel contempo, gli obiettivi di sicurezza sul lavoro e della salvaguardia dell’ambiente (</a:t>
            </a:r>
            <a:r>
              <a:rPr b="1" i="1" lang="it-IT" sz="2600" spc="-1" strike="noStrike">
                <a:solidFill>
                  <a:srgbClr val="404040"/>
                </a:solidFill>
                <a:latin typeface="Trebuchet MS"/>
              </a:rPr>
              <a:t>sostenibilità del processo</a:t>
            </a:r>
            <a:r>
              <a:rPr b="0" lang="it-IT" sz="2600" spc="-1" strike="noStrike">
                <a:solidFill>
                  <a:srgbClr val="404040"/>
                </a:solidFill>
                <a:latin typeface="Trebuchet MS"/>
              </a:rPr>
              <a:t>)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Rectangle 2" descr=""/>
          <p:cNvPicPr/>
          <p:nvPr/>
        </p:nvPicPr>
        <p:blipFill>
          <a:blip r:embed="rId1"/>
          <a:stretch/>
        </p:blipFill>
        <p:spPr>
          <a:xfrm>
            <a:off x="542880" y="731880"/>
            <a:ext cx="7772400" cy="1219320"/>
          </a:xfrm>
          <a:prstGeom prst="rect">
            <a:avLst/>
          </a:prstGeom>
          <a:ln w="0">
            <a:noFill/>
          </a:ln>
        </p:spPr>
      </p:pic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610920" y="186228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La  Logistica  evidenzia i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flussi fisic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 ed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informativ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 connessi con 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l’esecuzione tecnica 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dei processi produttivi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9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Permette di individuare  i passaggi cruciali dei processi sui quali agire per ottenere quel “</a:t>
            </a:r>
            <a:r>
              <a:rPr b="1" i="1" lang="it-IT" sz="2800" spc="-1" strike="noStrike">
                <a:solidFill>
                  <a:srgbClr val="404040"/>
                </a:solidFill>
                <a:latin typeface="Trebuchet MS"/>
              </a:rPr>
              <a:t>valore aggiunto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” che, in </a:t>
            </a:r>
            <a:r>
              <a:rPr b="1" lang="it-IT" sz="2800" spc="-1" strike="noStrike">
                <a:solidFill>
                  <a:srgbClr val="404040"/>
                </a:solidFill>
                <a:latin typeface="Trebuchet MS"/>
              </a:rPr>
              <a:t>termini economici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, significa riduzione dei costi, parametro che viene utilizzato come riferimento per valutare la competitività nell’erogazione di un servizio logistico.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Rectangle 2" descr=""/>
          <p:cNvPicPr/>
          <p:nvPr/>
        </p:nvPicPr>
        <p:blipFill>
          <a:blip r:embed="rId1"/>
          <a:stretch/>
        </p:blipFill>
        <p:spPr>
          <a:xfrm>
            <a:off x="828720" y="901800"/>
            <a:ext cx="7304040" cy="1542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744120" y="243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Cantiere – fornitori di impianti ed apparati ausiliari, sistemi di propulsione e governo, allestimento interno più o meno articolato in relazione alla tipologia del mezz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9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In questo ambito le competenze professionali funzionali alla logistica sono associate a </a:t>
            </a:r>
            <a:r>
              <a:rPr b="1" i="1" lang="it-IT" sz="2400" spc="-1" strike="noStrike">
                <a:solidFill>
                  <a:srgbClr val="404040"/>
                </a:solidFill>
                <a:latin typeface="Trebuchet MS"/>
              </a:rPr>
              <a:t>tutto il ciclo dalla commessa alla consegna del mezzo</a:t>
            </a:r>
            <a:r>
              <a:rPr b="0" lang="it-IT" sz="2400" spc="-1" strike="noStrike">
                <a:solidFill>
                  <a:srgbClr val="404040"/>
                </a:solidFill>
                <a:latin typeface="Trebuchet MS"/>
              </a:rPr>
              <a:t>.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2" descr=""/>
          <p:cNvPicPr/>
          <p:nvPr/>
        </p:nvPicPr>
        <p:blipFill>
          <a:blip r:embed="rId1"/>
          <a:stretch/>
        </p:blipFill>
        <p:spPr>
          <a:xfrm>
            <a:off x="249120" y="719280"/>
            <a:ext cx="8193240" cy="152388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610920" y="2276280"/>
            <a:ext cx="7924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9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Costruzione scafo: approvvigionamento lamiere, preparazione alla lavorazione, taglio, costruzione pannelli, blocchi, assemblaggio blocchi, installazione impianti ed apparati, sistemi di propulsione e governo, varo, allestimento.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I cantieri si avvalgono di uffici appositamente allestiti per ottimizzare logisticamente le fasi di lavora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3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8400" y="2491920"/>
            <a:ext cx="7925040" cy="233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stemi integrati di manutenzione scafo e apparati di bordo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complete life - cycle solution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 che vengono ormai forniti da tutti i costruttori e fornitori di impianti come servizio logistico per mantenere la nave efficiente secondo i parametri di operatività, sostenibilità ambientale e riduzione dei costi associati ai consumi di combustibile durante l’intero ciclo di vita della nave</a:t>
            </a:r>
            <a:r>
              <a:rPr b="0" lang="it-IT" sz="2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0">
              <a:lnSpc>
                <a:spcPct val="80000"/>
              </a:lnSpc>
              <a:spcBef>
                <a:spcPts val="7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58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  <p:pic>
        <p:nvPicPr>
          <p:cNvPr id="261" name="Rectangle 2" descr=""/>
          <p:cNvPicPr/>
          <p:nvPr/>
        </p:nvPicPr>
        <p:blipFill>
          <a:blip r:embed="rId4"/>
          <a:stretch/>
        </p:blipFill>
        <p:spPr>
          <a:xfrm>
            <a:off x="249120" y="719280"/>
            <a:ext cx="819324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Rectangle 2" descr=""/>
          <p:cNvPicPr/>
          <p:nvPr/>
        </p:nvPicPr>
        <p:blipFill>
          <a:blip r:embed="rId1"/>
          <a:stretch/>
        </p:blipFill>
        <p:spPr>
          <a:xfrm>
            <a:off x="901800" y="755640"/>
            <a:ext cx="7413480" cy="142704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0920" y="241884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avi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nergy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fficiency and </a:t>
            </a:r>
            <a:r>
              <a:rPr b="0" i="1" lang="it-IT" sz="2200" spc="-1" strike="noStrike">
                <a:solidFill>
                  <a:srgbClr val="ff9999"/>
                </a:solidFill>
                <a:latin typeface="Trebuchet MS"/>
              </a:rPr>
              <a:t>E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nvironmentall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improved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(recupero acciaio – </a:t>
            </a:r>
            <a:r>
              <a:rPr b="0" i="1" lang="it-IT" sz="2200" spc="-1" strike="noStrike">
                <a:solidFill>
                  <a:srgbClr val="404040"/>
                </a:solidFill>
                <a:latin typeface="Trebuchet MS"/>
              </a:rPr>
              <a:t>reverse logistic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– bassissime emissioni di CO</a:t>
            </a:r>
            <a:r>
              <a:rPr b="0" lang="it-IT" sz="2200" spc="-1" strike="noStrike" baseline="-25000">
                <a:solidFill>
                  <a:srgbClr val="404040"/>
                </a:solidFill>
                <a:latin typeface="Trebuchet MS"/>
              </a:rPr>
              <a:t>2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, risparmio energetico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mpiego del gas naturale LNG come combustibile nella propulsione navale con relativa problematica logistica delle operazioni di bunkeraggio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6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11-21T15:55:38Z</dcterms:modified>
  <cp:revision>19</cp:revision>
  <dc:subject/>
  <dc:title>Presentazione standard di PowerPoint</dc:title>
</cp:coreProperties>
</file>