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1D61-0FA5-4E1D-BBBA-765F09EC5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4C3E-D26A-4767-A697-F2F12130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C5341-0AED-4660-AB65-E33F23C1B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0002-2516-4A83-98C4-8AF03B535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E9B9-0DE7-486A-B9A4-FCFAF6371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78A7-0691-49AB-A550-9B8E9BC1B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07C3-5604-4F16-950D-87DFC0A9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871-53BD-4958-834C-5BAAD0FB5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9DC2-600E-4E5B-B349-A15BE1487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4FF3-131C-48DA-BF25-3589EB58C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13FF-32F7-4098-BADD-58BBFF1F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768F-0D2B-437E-9DF8-01B017A9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47C9-86A2-4368-8E39-C69260BBD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0"/>
            <a:ext cx="1763640" cy="177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826920" y="0"/>
            <a:ext cx="1440000" cy="15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uoghi di produzione/ parten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rci: materie prime, semilavorati, prodotti finit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sone: trasferimento, dipor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484360" y="260280"/>
            <a:ext cx="792360" cy="855360"/>
          </a:xfrm>
          <a:prstGeom prst="rect">
            <a:avLst/>
          </a:prstGeom>
          <a:solidFill>
            <a:srgbClr val="edc6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zzi di trasporto: rotaia, gomma, aere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268360" y="1052640"/>
            <a:ext cx="216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260280"/>
            <a:ext cx="611280" cy="646992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84360" y="5994360"/>
            <a:ext cx="790560" cy="855360"/>
          </a:xfrm>
          <a:prstGeom prst="rect">
            <a:avLst/>
          </a:prstGeom>
          <a:solidFill>
            <a:srgbClr val="edc6b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zzi di trasporto: rotaia, gomma, aere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 flipV="1">
            <a:off x="2268360" y="6453360"/>
            <a:ext cx="216000" cy="71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445000"/>
            <a:ext cx="1763640" cy="1413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5661000"/>
            <a:ext cx="1440000" cy="10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uoghi di utilizzo / destinazione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189000"/>
            <a:ext cx="1655640" cy="2287080"/>
          </a:xfrm>
          <a:prstGeom prst="rect">
            <a:avLst/>
          </a:prstGeom>
          <a:solidFill>
            <a:srgbClr val="c0c0c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gresso/ accoglienza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gresso / stoccaggio me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azione area portuale merci/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sferimento terra/nave merci/passegg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 di partenz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564000" y="4500720"/>
            <a:ext cx="1584360" cy="2287080"/>
          </a:xfrm>
          <a:prstGeom prst="rect">
            <a:avLst/>
          </a:prstGeom>
          <a:solidFill>
            <a:srgbClr val="c0c0c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dure di arriv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o/ accoglienza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ivo / stoccaggio merce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mentazione area portuale merci / passeggeri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istamento  merci/passegger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03640" y="76500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276720" y="6524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43640" y="1844640"/>
            <a:ext cx="1368360" cy="647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5400000">
            <a:off x="5868720" y="1844640"/>
            <a:ext cx="647640" cy="647640"/>
          </a:xfrm>
          <a:prstGeom prst="flowChartDocumen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7561080" y="2023920"/>
            <a:ext cx="647640" cy="28872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84720" y="1628640"/>
            <a:ext cx="503280" cy="289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6226920" y="1483560"/>
            <a:ext cx="142920" cy="142920"/>
          </a:xfrm>
          <a:custGeom>
            <a:avLst/>
            <a:gdLst>
              <a:gd name="textAreaLeft" fmla="*/ 31680 w 142920"/>
              <a:gd name="textAreaRight" fmla="*/ 111240 w 142920"/>
              <a:gd name="textAreaTop" fmla="*/ 31680 h 142920"/>
              <a:gd name="textAreaBottom" fmla="*/ 111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080" y="21600"/>
                </a:lnTo>
                <a:lnTo>
                  <a:pt x="552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740720" y="2347920"/>
            <a:ext cx="216000" cy="144360"/>
          </a:xfrm>
          <a:prstGeom prst="flowChartDisplay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692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48360" y="692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5003640" y="1052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148360" y="1052640"/>
            <a:ext cx="0" cy="12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788000" y="1628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148360" y="2060640"/>
            <a:ext cx="93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0800000">
            <a:off x="6300720" y="4724280"/>
            <a:ext cx="1440000" cy="648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 rot="16200000">
            <a:off x="7666200" y="4724280"/>
            <a:ext cx="648000" cy="647640"/>
          </a:xfrm>
          <a:prstGeom prst="flowChartDocumen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0800000">
            <a:off x="5940360" y="4724280"/>
            <a:ext cx="432000" cy="649440"/>
          </a:xfrm>
          <a:prstGeom prst="rtTriangle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7596000" y="4508640"/>
            <a:ext cx="502920" cy="288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 rot="11032800">
            <a:off x="7810560" y="4365000"/>
            <a:ext cx="142920" cy="142920"/>
          </a:xfrm>
          <a:custGeom>
            <a:avLst/>
            <a:gdLst>
              <a:gd name="textAreaLeft" fmla="*/ 31680 w 142920"/>
              <a:gd name="textAreaRight" fmla="*/ 111240 w 142920"/>
              <a:gd name="textAreaTop" fmla="*/ 31680 h 142920"/>
              <a:gd name="textAreaBottom" fmla="*/ 111240 h 1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080" y="21600"/>
                </a:lnTo>
                <a:lnTo>
                  <a:pt x="5520" y="216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 rot="10800000">
            <a:off x="6156360" y="5228280"/>
            <a:ext cx="216000" cy="144360"/>
          </a:xfrm>
          <a:prstGeom prst="flowChartDisplay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003280" y="4941720"/>
            <a:ext cx="1297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4716360" y="537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003640" y="4941720"/>
            <a:ext cx="0" cy="165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4716360" y="5734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16360" y="6165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716360" y="659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93236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787640" y="4941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2519280" cy="2764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Produzione traspor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5084640"/>
            <a:ext cx="2663640" cy="2764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trasporti Distribu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0" y="3213000"/>
            <a:ext cx="388800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trasporti          maritti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364000" y="0"/>
            <a:ext cx="360360" cy="693540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g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ormegg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492280"/>
            <a:ext cx="215892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po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203640" y="4149720"/>
            <a:ext cx="223200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portu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80360" y="2060640"/>
            <a:ext cx="863640" cy="256284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della gestione e conduzione della n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0"/>
            <a:ext cx="32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DUZIONE DELLA N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2" dur="500"/>
                                        <p:tgtEl>
                                          <p:spTgt spid="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8" dur="500"/>
                                        <p:tgtEl>
                                          <p:spTgt spid="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" dur="500"/>
                                        <p:tgtEl>
                                          <p:spTgt spid="8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8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8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0" dur="500"/>
                                        <p:tgtEl>
                                          <p:spTgt spid="8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8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8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8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2" dur="500"/>
                                        <p:tgtEl>
                                          <p:spTgt spid="8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5" dur="500"/>
                                        <p:tgtEl>
                                          <p:spTgt spid="8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83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1" dur="500"/>
                                        <p:tgtEl>
                                          <p:spTgt spid="83">
                                            <p:txEl>
                                              <p:pRg st="23" end="2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83">
                                            <p:txEl>
                                              <p:pRg st="24" end="2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83">
                                            <p:txEl>
                                              <p:pRg st="25" end="2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83">
                                            <p:txEl>
                                              <p:pRg st="26" end="2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500"/>
                                        <p:tgtEl>
                                          <p:spTgt spid="83">
                                            <p:txEl>
                                              <p:pRg st="27" end="2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6" dur="500"/>
                                        <p:tgtEl>
                                          <p:spTgt spid="83">
                                            <p:txEl>
                                              <p:pRg st="28" end="2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83">
                                            <p:txEl>
                                              <p:pRg st="29" end="2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2" dur="500"/>
                                        <p:tgtEl>
                                          <p:spTgt spid="83">
                                            <p:txEl>
                                              <p:pRg st="30" end="3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5" dur="500"/>
                                        <p:tgtEl>
                                          <p:spTgt spid="83">
                                            <p:txEl>
                                              <p:pRg st="31" end="3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8" dur="500"/>
                                        <p:tgtEl>
                                          <p:spTgt spid="83">
                                            <p:txEl>
                                              <p:pRg st="32" end="3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1" dur="500"/>
                                        <p:tgtEl>
                                          <p:spTgt spid="83">
                                            <p:txEl>
                                              <p:pRg st="33" end="3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4" dur="500"/>
                                        <p:tgtEl>
                                          <p:spTgt spid="83">
                                            <p:txEl>
                                              <p:pRg st="34" end="3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7" dur="500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3" dur="500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500"/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5" dur="500"/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8" dur="500"/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1" dur="500"/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4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7" dur="500"/>
                                        <p:tgtEl>
                                          <p:spTgt spid="45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45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45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6" dur="500"/>
                                        <p:tgtEl>
                                          <p:spTgt spid="45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9" dur="500"/>
                                        <p:tgtEl>
                                          <p:spTgt spid="45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struzioni nava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3700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3068640"/>
            <a:ext cx="108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essa della n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19280" y="1052640"/>
            <a:ext cx="5905440" cy="51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23280" y="2781360"/>
            <a:ext cx="136836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67640" y="3213000"/>
            <a:ext cx="122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egna della n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19280" y="1484280"/>
            <a:ext cx="1512720" cy="72072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692360" y="1484280"/>
            <a:ext cx="136836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ornitori lamiere, impianti ed apparati ausiliari, sistemi di propulsione e governo, allestimento int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916360" y="1484280"/>
            <a:ext cx="3816360" cy="388944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5280" y="1557360"/>
            <a:ext cx="1224000" cy="7192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1700280"/>
            <a:ext cx="122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pprovvigionamento lamiere,preparazione alla lavor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2924280"/>
            <a:ext cx="1081080" cy="6476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19640" y="3068640"/>
            <a:ext cx="79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glio lami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59280" y="4437000"/>
            <a:ext cx="1081080" cy="64764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4581360"/>
            <a:ext cx="86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ruzione pannelli, blocch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706200">
            <a:off x="5161680" y="4151160"/>
            <a:ext cx="934920" cy="94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ssemblaggio blocchi, installazione impianti ed apparati, sistemi di propulsione e gover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0000" y="5229360"/>
            <a:ext cx="0" cy="21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5445000"/>
            <a:ext cx="1008000" cy="398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o, allestim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72360" y="4221000"/>
            <a:ext cx="1008000" cy="9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00720" y="4292640"/>
            <a:ext cx="115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anutenzione scafo, apparati ed impianti di bordo, demolizione recupero materia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rot="10800000">
            <a:off x="7380360" y="4076280"/>
            <a:ext cx="720720" cy="647640"/>
          </a:xfrm>
          <a:custGeom>
            <a:avLst/>
            <a:gdLst>
              <a:gd name="textAreaLeft" fmla="*/ 0 w 720720"/>
              <a:gd name="textAreaRight" fmla="*/ 721080 w 720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6084360" y="4436640"/>
            <a:ext cx="287640" cy="716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779640" y="2276640"/>
            <a:ext cx="21564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419280" y="3573360"/>
            <a:ext cx="21564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067280" y="4437000"/>
            <a:ext cx="1081080" cy="2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32000" y="1844640"/>
            <a:ext cx="43200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442200"/>
            <a:ext cx="8280360" cy="3988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stica integr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92360" y="2338560"/>
            <a:ext cx="1942920" cy="36828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istica ester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rot="704400">
            <a:off x="4660200" y="1629720"/>
            <a:ext cx="504720" cy="3718440"/>
          </a:xfrm>
          <a:prstGeom prst="rect">
            <a:avLst/>
          </a:prstGeom>
          <a:solidFill>
            <a:srgbClr val="e0e3bb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5229360"/>
            <a:ext cx="1513080" cy="276480"/>
          </a:xfrm>
          <a:prstGeom prst="rect">
            <a:avLst/>
          </a:prstGeom>
          <a:solidFill>
            <a:srgbClr val="e5dcb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a inver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5805360"/>
            <a:ext cx="23036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8388360" y="4076280"/>
            <a:ext cx="0" cy="17305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08:32:27Z</dcterms:created>
  <dc:creator>vicepreside</dc:creator>
  <dc:description/>
  <dc:language>en-US</dc:language>
  <cp:lastModifiedBy>vicepreside</cp:lastModifiedBy>
  <dcterms:modified xsi:type="dcterms:W3CDTF">2012-11-26T13:32:49Z</dcterms:modified>
  <cp:revision>8</cp:revision>
  <dc:subject/>
  <dc:title>Diapositiva 1</dc:title>
</cp:coreProperties>
</file>