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C73-DBA4-40DA-8AA1-6772DE2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8FE-42C7-43D2-B071-BCB554F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15-7829-4C7E-AB1C-E22FC706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0B0-6664-4158-9D1E-2576FE0F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6E8-E20C-4957-8B7D-702DF8B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2E7-379E-43B2-BF59-567F2D8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4C9-F45E-452E-B405-A58EAA9B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95F-E749-4583-B1FB-643CDF8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51D-BD24-4E6E-89FC-5171F60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B4F-E7E6-40E5-8118-32EA959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CA1-9D96-4105-A19C-C8626FA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D72-7155-4612-AE3A-C18783B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E33A-A2D6-4F27-8167-5F80D1EA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0"/>
            <a:ext cx="1763640" cy="177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0"/>
            <a:ext cx="14400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oghi di produzione/ parten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rci: materie prime, semilavorati, prodotti fin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e: trasferimento, dipor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60280"/>
            <a:ext cx="792360" cy="855360"/>
          </a:xfrm>
          <a:prstGeom prst="rect">
            <a:avLst/>
          </a:prstGeom>
          <a:solidFill>
            <a:srgbClr val="edc6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zzi di trasporto: rotaia, gomma, aere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05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0280"/>
            <a:ext cx="611280" cy="646992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5994360"/>
            <a:ext cx="790560" cy="855360"/>
          </a:xfrm>
          <a:prstGeom prst="rect">
            <a:avLst/>
          </a:prstGeom>
          <a:solidFill>
            <a:srgbClr val="edc6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zzi di trasporto: rotaia, gomma, aere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268360" y="6453360"/>
            <a:ext cx="21600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445000"/>
            <a:ext cx="176364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5661000"/>
            <a:ext cx="144000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oghi di utilizzo / destinazi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89000"/>
            <a:ext cx="1655640" cy="2287080"/>
          </a:xfrm>
          <a:prstGeom prst="rect">
            <a:avLst/>
          </a:prstGeom>
          <a:solidFill>
            <a:srgbClr val="c0c0c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gresso/ accoglienza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gresso / stoccaggio me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azione area portuale merci/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sferimento terra/nave merci/passegg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 di part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4500720"/>
            <a:ext cx="1584360" cy="2287080"/>
          </a:xfrm>
          <a:prstGeom prst="rect">
            <a:avLst/>
          </a:prstGeom>
          <a:solidFill>
            <a:srgbClr val="c0c0c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 di arr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o/ accoglienza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o / stoccaggio me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azione area portuale merci /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stamento  merci/passegg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765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276720" y="6524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844640"/>
            <a:ext cx="13683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868720" y="1844640"/>
            <a:ext cx="647640" cy="647640"/>
          </a:xfrm>
          <a:prstGeom prst="flowChartDocumen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561080" y="2023920"/>
            <a:ext cx="647640" cy="2887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628640"/>
            <a:ext cx="5032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226920" y="1483560"/>
            <a:ext cx="142920" cy="142920"/>
          </a:xfrm>
          <a:custGeom>
            <a:avLst/>
            <a:gdLst>
              <a:gd name="textAreaLeft" fmla="*/ 31680 w 142920"/>
              <a:gd name="textAreaRight" fmla="*/ 111240 w 142920"/>
              <a:gd name="textAreaTop" fmla="*/ 31680 h 142920"/>
              <a:gd name="textAreaBottom" fmla="*/ 111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080" y="21600"/>
                </a:lnTo>
                <a:lnTo>
                  <a:pt x="552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0720" y="2347920"/>
            <a:ext cx="216000" cy="144360"/>
          </a:xfrm>
          <a:prstGeom prst="flowChartDisplay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692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03640" y="10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6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6300720" y="4724280"/>
            <a:ext cx="1440000" cy="64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16200000">
            <a:off x="7666200" y="4724280"/>
            <a:ext cx="648000" cy="647640"/>
          </a:xfrm>
          <a:prstGeom prst="flowChartDocumen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5940360" y="4724280"/>
            <a:ext cx="432000" cy="64944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596000" y="4508640"/>
            <a:ext cx="5029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rot="11032800">
            <a:off x="7810560" y="4365000"/>
            <a:ext cx="142920" cy="142920"/>
          </a:xfrm>
          <a:custGeom>
            <a:avLst/>
            <a:gdLst>
              <a:gd name="textAreaLeft" fmla="*/ 31680 w 142920"/>
              <a:gd name="textAreaRight" fmla="*/ 111240 w 142920"/>
              <a:gd name="textAreaTop" fmla="*/ 31680 h 142920"/>
              <a:gd name="textAreaBottom" fmla="*/ 111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080" y="21600"/>
                </a:lnTo>
                <a:lnTo>
                  <a:pt x="552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800000">
            <a:off x="6156360" y="5228280"/>
            <a:ext cx="216000" cy="144360"/>
          </a:xfrm>
          <a:prstGeom prst="flowChartDisplay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03280" y="4941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16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4941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16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1636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3236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8764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2519280" cy="2764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Produzione traspor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5084640"/>
            <a:ext cx="2663640" cy="2764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trasporti Distrib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3213000"/>
            <a:ext cx="388800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trasporti          maritt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0"/>
            <a:ext cx="360360" cy="693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rmegg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492280"/>
            <a:ext cx="215892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po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4149720"/>
            <a:ext cx="223200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po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0360" y="2060640"/>
            <a:ext cx="863640" cy="256284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della gestione e conduzione della n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ZIONE DELLA N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ruzioni nav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3700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ssa della n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052640"/>
            <a:ext cx="5905440" cy="51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3280" y="278136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3213000"/>
            <a:ext cx="12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gna della n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48428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136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nitori lamiere, impianti ed apparati ausiliari, sistemi di propulsione e governo, allestimento in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1484280"/>
            <a:ext cx="3816360" cy="388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557360"/>
            <a:ext cx="1224000" cy="7192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vigionamento lamiere,preparazione alla lavor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924280"/>
            <a:ext cx="1081080" cy="6476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068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lio lam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437000"/>
            <a:ext cx="1081080" cy="6476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58136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ruzione pannelli, blocc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06200">
            <a:off x="5161680" y="4151160"/>
            <a:ext cx="934920" cy="94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mblaggio blocchi, installazione impianti ed apparati, sistemi di propulsione e gov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229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5445000"/>
            <a:ext cx="100800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o, allest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4221000"/>
            <a:ext cx="100800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429264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utenzione scafo, apparati ed impianti di bordo, demolizione recupero materia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7380360" y="4076280"/>
            <a:ext cx="720720" cy="64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084360" y="4436640"/>
            <a:ext cx="28764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779640" y="2276640"/>
            <a:ext cx="215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19280" y="3573360"/>
            <a:ext cx="21564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67280" y="4437000"/>
            <a:ext cx="1081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184464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442200"/>
            <a:ext cx="8280360" cy="3988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a integ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2338560"/>
            <a:ext cx="194292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es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04400">
            <a:off x="4660200" y="1629720"/>
            <a:ext cx="504720" cy="371844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5229360"/>
            <a:ext cx="1513080" cy="276480"/>
          </a:xfrm>
          <a:prstGeom prst="rect">
            <a:avLst/>
          </a:prstGeom>
          <a:solidFill>
            <a:srgbClr val="e5dcb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in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5805360"/>
            <a:ext cx="230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388360" y="4076280"/>
            <a:ext cx="0" cy="1730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8:32:27Z</dcterms:created>
  <dc:creator>vicepreside</dc:creator>
  <dc:description/>
  <dc:language>en-US</dc:language>
  <cp:lastModifiedBy>vicepreside</cp:lastModifiedBy>
  <dcterms:modified xsi:type="dcterms:W3CDTF">2012-11-26T13:32:49Z</dcterms:modified>
  <cp:revision>8</cp:revision>
  <dc:subject/>
  <dc:title>Diapositiva 1</dc:title>
</cp:coreProperties>
</file>