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32BD2-B7D2-4849-84B5-6B9C91D0CD04}"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5735-0F59-4EFF-8A0C-C005E2972985}"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C8C7F-F4BF-4FA5-8123-7E8D9E24113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C9E0-DD65-4D96-ADAA-7A54088C5BA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61D72D-0A05-495D-AC8F-9F6D24A930A6}"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7CDD2-3C16-496E-B3BE-9826E0D31701}"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70CC2-229A-4692-8724-4A0E70F95ACF}"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C970-E4B6-4120-8023-6750EA40923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2DC1-A782-41AD-BC0A-14CEA5FE143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F21A-0C9C-47A9-A084-2395CEE126AA}"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F3651-194B-4B35-BB95-238DD05BBA25}"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D741-14AD-415C-B63F-93A0CEF3DB8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4BCD9-02A7-456C-997A-A2563C3053C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C6605-AF94-46D3-9C16-0B81AD531B27}"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AFD187-2CFE-46A4-8A8B-559B2D3884F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38E68-B05D-4996-A574-35E0A18BC359}"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14BDF-DF72-4008-9B22-AD8689FD49E9}"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A3023-3686-435C-B35D-5185358F0E71}"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DD6993-28C9-48DF-9A22-4DBF1BE8C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EFE14A-1E88-4B50-B0B6-C82BB1549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911C15-353F-4AA8-8DAD-77B0C6D99A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E6053B-6531-4B0F-829C-B04159CCE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7E4691-649F-436A-A3CC-B0256D5233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F8D65C-21B5-4C7F-A987-53FC67761A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538A05-38F0-4BB0-AB85-2E6EF9ECE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F03E24-FF8A-4B75-AF1C-A331971BC2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4C9F8D-51B4-4CE4-86F1-8EE2EA2497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B4F135-4C3C-4D7D-BD7B-D1397A33F3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47444-856B-4557-90E9-B3B3A92BC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381A5-3FE9-4BEA-8E9A-C84A9AA66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F7EBA7-4354-4ADB-B2A2-0F04CF2F7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8677E0-3620-44EE-AF23-1393D6C245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1AC063-CF62-4EA6-B8E5-8BD6BBF4A6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4AD272C-3B94-468F-9B4F-F1ABD35C3C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E3F172-CEDC-4CB2-A291-9E255F9771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ED132DB-9145-4378-969B-08B264A3115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537D0-018F-4F10-80A1-4FF19E6584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76CF6AB-4FA5-4C7D-B1A8-F7999BCFBC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DDD931-B7A3-43A9-9FF9-D92BEDDBD57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082564-075B-4287-BA2C-BBCAC57E8B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FE205-B423-4025-9257-C1EA1D0E0E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6D6F4F-D15B-40DB-9D5E-99063E7065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200B403-6459-47E0-8F3E-B5C5D26DD9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E76E48-6CDE-4716-A2FC-7F2F379494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DA395A-979E-4F58-BD7B-12B3424B66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58F0AC-B122-402C-AD07-D932A110D5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09D017-A943-48D8-BF90-2054273CD0C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4A859D9-4963-4A8E-807E-D9569E3E8B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68DEFFA-FA78-474D-91AD-58587DDC32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56CBC8-E040-4ECB-A696-21637138D9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30C788-54E5-477B-ADF3-AE0DC48C428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E6352-824F-4091-BBEA-14D926CA94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19C9711-A72F-46AA-8A4E-666CC87EEA2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9FBF25-368D-4E52-AFAB-61A0823CDD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1D8B8A-8C8E-48FC-978A-AF2A7FDB4E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8DC33A-5F89-4AF6-8B49-5240A43F30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E3DA764-9457-4D6B-A9BC-9658FC7D6E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409990B-C300-49BC-A008-7EF7FBC045C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DBC9170-A553-45F5-A3A0-13CCB640A8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E25CC24-850A-4540-ACE9-E371C5F1D5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12FA5CB-754F-4847-B9A3-D8C7B10A50D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244D93-3A79-4ADC-95AA-1485BEF987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E1F887-C5E4-4A4F-94FF-CAFF26B01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16AE17-25C5-4551-8EB2-A8D88BF02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D33E44-1933-4993-B109-25DB175302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615E1E-7E30-4B62-8FA9-80EBD0835A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D434-7559-41DB-A3C6-E3C463F28B8B}"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81332-C3BA-4359-92B3-2E81A7BA0E29}"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121C-4541-4FF8-8E26-27C0A4C2FEE9}"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B6A186-CDE7-42D3-8904-D1427648E7D5}"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C5200-AF40-4124-842D-C1E832302BB6}"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98326-FCEC-4950-98D8-68C1679FC15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09F5D-DFC5-46F0-98AD-DB102A23E254}"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EEF59-B87A-42E2-9850-AEA6B7876C2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Titolo 1" descr=""/>
          <p:cNvPicPr/>
          <p:nvPr/>
        </p:nvPicPr>
        <p:blipFill>
          <a:blip r:embed="rId2"/>
          <a:stretch/>
        </p:blipFill>
        <p:spPr>
          <a:xfrm>
            <a:off x="2730600" y="2262240"/>
            <a:ext cx="6572160" cy="2565360"/>
          </a:xfrm>
          <a:prstGeom prst="rect">
            <a:avLst/>
          </a:prstGeom>
          <a:ln w="0">
            <a:noFill/>
          </a:ln>
        </p:spPr>
      </p:pic>
      <p:pic>
        <p:nvPicPr>
          <p:cNvPr id="222" name="Picture 2" descr="G:\Ufficio - CentroStudi\SELENE\PROGETTI\PO_ITALIA_FRANCIA_MARITTIMO\PER_MARE\comunicazione\manuale_comunicazione\Logo_Marittimo.jpg"/>
          <p:cNvPicPr/>
          <p:nvPr/>
        </p:nvPicPr>
        <p:blipFill>
          <a:blip r:embed="rId3"/>
          <a:stretch/>
        </p:blipFill>
        <p:spPr>
          <a:xfrm>
            <a:off x="3309840" y="100080"/>
            <a:ext cx="2517840" cy="1342800"/>
          </a:xfrm>
          <a:prstGeom prst="rect">
            <a:avLst/>
          </a:prstGeom>
          <a:ln w="0">
            <a:noFill/>
          </a:ln>
        </p:spPr>
      </p:pic>
      <p:pic>
        <p:nvPicPr>
          <p:cNvPr id="223" name="Picture 3" descr="C:\Users\eli0668\AppData\Local\Temp\ARC8E52\Slogan fra.tif"/>
          <p:cNvPicPr/>
          <p:nvPr/>
        </p:nvPicPr>
        <p:blipFill>
          <a:blip r:embed="rId4"/>
          <a:stretch/>
        </p:blipFill>
        <p:spPr>
          <a:xfrm>
            <a:off x="5864400" y="1427040"/>
            <a:ext cx="2344680" cy="576360"/>
          </a:xfrm>
          <a:prstGeom prst="rect">
            <a:avLst/>
          </a:prstGeom>
          <a:ln w="0">
            <a:noFill/>
          </a:ln>
        </p:spPr>
      </p:pic>
      <p:pic>
        <p:nvPicPr>
          <p:cNvPr id="224" name="Picture 4" descr="C:\Users\eli0668\AppData\Local\Temp\ARCBF13\Slogan it.tif"/>
          <p:cNvPicPr/>
          <p:nvPr/>
        </p:nvPicPr>
        <p:blipFill>
          <a:blip r:embed="rId5"/>
          <a:stretch/>
        </p:blipFill>
        <p:spPr>
          <a:xfrm>
            <a:off x="750960" y="1427040"/>
            <a:ext cx="2562120" cy="576360"/>
          </a:xfrm>
          <a:prstGeom prst="rect">
            <a:avLst/>
          </a:prstGeom>
          <a:ln w="0">
            <a:noFill/>
          </a:ln>
        </p:spPr>
      </p:pic>
      <p:pic>
        <p:nvPicPr>
          <p:cNvPr id="225" name="Picture 5" descr="G:\Ufficio - CentroStudi\SELENE\PROGETTI\PO_ITALIA_FRANCIA_MARITTIMO\PER_MARE\comunicazione\manuale_comunicazione\UE_def.jpg"/>
          <p:cNvPicPr/>
          <p:nvPr/>
        </p:nvPicPr>
        <p:blipFill>
          <a:blip r:embed="rId6"/>
          <a:stretch/>
        </p:blipFill>
        <p:spPr>
          <a:xfrm>
            <a:off x="0" y="6315120"/>
            <a:ext cx="4656240" cy="542880"/>
          </a:xfrm>
          <a:prstGeom prst="rect">
            <a:avLst/>
          </a:prstGeom>
          <a:ln w="0">
            <a:noFill/>
          </a:ln>
        </p:spPr>
      </p:pic>
      <p:pic>
        <p:nvPicPr>
          <p:cNvPr id="226" name="Picture 7" descr="C:\Users\eli0668\AppData\Local\Temp\ARC9351\Logo RAS.gif"/>
          <p:cNvPicPr/>
          <p:nvPr/>
        </p:nvPicPr>
        <p:blipFill>
          <a:blip r:embed="rId7"/>
          <a:stretch/>
        </p:blipFill>
        <p:spPr>
          <a:xfrm>
            <a:off x="6084720" y="6210360"/>
            <a:ext cx="1582920" cy="647640"/>
          </a:xfrm>
          <a:prstGeom prst="rect">
            <a:avLst/>
          </a:prstGeom>
          <a:ln w="0">
            <a:noFill/>
          </a:ln>
        </p:spPr>
      </p:pic>
      <p:pic>
        <p:nvPicPr>
          <p:cNvPr id="227" name="Picture 8" descr="C:\Users\eli0668\AppData\Local\Temp\ARCD725\Logo Regione Liguria.bmp"/>
          <p:cNvPicPr/>
          <p:nvPr/>
        </p:nvPicPr>
        <p:blipFill>
          <a:blip r:embed="rId8"/>
          <a:stretch/>
        </p:blipFill>
        <p:spPr>
          <a:xfrm>
            <a:off x="5292720" y="6041880"/>
            <a:ext cx="644400" cy="816120"/>
          </a:xfrm>
          <a:prstGeom prst="rect">
            <a:avLst/>
          </a:prstGeom>
          <a:ln w="0">
            <a:noFill/>
          </a:ln>
        </p:spPr>
      </p:pic>
      <p:pic>
        <p:nvPicPr>
          <p:cNvPr id="228" name="Picture 9" descr="C:\Users\eli0668\AppData\Local\Temp\ARC185A\Logo Regione Toscana.bmp"/>
          <p:cNvPicPr/>
          <p:nvPr/>
        </p:nvPicPr>
        <p:blipFill>
          <a:blip r:embed="rId9"/>
          <a:stretch/>
        </p:blipFill>
        <p:spPr>
          <a:xfrm>
            <a:off x="4572000" y="6000840"/>
            <a:ext cx="574560" cy="857160"/>
          </a:xfrm>
          <a:prstGeom prst="rect">
            <a:avLst/>
          </a:prstGeom>
          <a:ln w="0">
            <a:noFill/>
          </a:ln>
        </p:spPr>
      </p:pic>
      <p:pic>
        <p:nvPicPr>
          <p:cNvPr id="229" name="Picture 10" descr="C:\Users\eli0668\AppData\Local\Temp\ARC7163\Logoctc JPEG 2012.jpg"/>
          <p:cNvPicPr/>
          <p:nvPr/>
        </p:nvPicPr>
        <p:blipFill>
          <a:blip r:embed="rId10"/>
          <a:stretch/>
        </p:blipFill>
        <p:spPr>
          <a:xfrm>
            <a:off x="7716960" y="6118200"/>
            <a:ext cx="1395360" cy="733320"/>
          </a:xfrm>
          <a:prstGeom prst="rect">
            <a:avLst/>
          </a:prstGeom>
          <a:ln w="0">
            <a:noFill/>
          </a:ln>
        </p:spPr>
      </p:pic>
      <p:sp>
        <p:nvSpPr>
          <p:cNvPr id="230"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31" name="Picture 12" descr="G:\Ufficio - CentroStudi\SELENE\PROGETTI\PO_ITALIA_FRANCIA_MARITTIMO\PER_MARE\comunicazione\manuale_comunicazione\LOGO_MARE02.jpg"/>
          <p:cNvPicPr/>
          <p:nvPr/>
        </p:nvPicPr>
        <p:blipFill>
          <a:blip r:embed="rId11"/>
          <a:stretch/>
        </p:blipFill>
        <p:spPr>
          <a:xfrm>
            <a:off x="115920" y="2276640"/>
            <a:ext cx="2922480" cy="3468600"/>
          </a:xfrm>
          <a:prstGeom prst="rect">
            <a:avLst/>
          </a:prstGeom>
          <a:ln w="0">
            <a:noFill/>
          </a:ln>
        </p:spPr>
      </p:pic>
      <p:sp>
        <p:nvSpPr>
          <p:cNvPr id="232" name="CasellaDiTesto 2"/>
          <p:cNvSpPr/>
          <p:nvPr/>
        </p:nvSpPr>
        <p:spPr>
          <a:xfrm>
            <a:off x="3059280" y="4437000"/>
            <a:ext cx="602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4e67c8"/>
                </a:solidFill>
                <a:uFillTx/>
                <a:latin typeface="Trebuchet MS"/>
              </a:rPr>
              <a:t>Seminari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a:t>
            </a:r>
            <a:r>
              <a:rPr b="1" lang="it-IT" sz="1800" spc="-1" strike="noStrike" u="sng">
                <a:solidFill>
                  <a:srgbClr val="4e67c8"/>
                </a:solidFill>
                <a:uFillTx/>
                <a:latin typeface="Trebuchet MS"/>
              </a:rPr>
              <a:t>Tecnologie della conoscenza per il mare”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Trofeo Accademia Navale  - Livorno, 22 Aprile 2013</a:t>
            </a:r>
            <a:br>
              <a:rPr sz="1800"/>
            </a:br>
            <a:r>
              <a:rPr b="1" lang="it-IT" sz="1800" spc="-1" strike="noStrike">
                <a:solidFill>
                  <a:srgbClr val="4e67c8"/>
                </a:solidFill>
                <a:latin typeface="Trebuchet MS"/>
              </a:rPr>
              <a:t>Maria Giovanna Lotti, Presidente Provincia di Livorno Svilupp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 name="PlaceHolder 1"/>
          <p:cNvSpPr>
            <a:spLocks noGrp="1"/>
          </p:cNvSpPr>
          <p:nvPr>
            <p:ph type="sldNum" idx="6"/>
          </p:nvPr>
        </p:nvSpPr>
        <p:spPr/>
        <p:txBody>
          <a:bodyPr/>
          <a:p>
            <a:fld id="{72141015-B99F-4C97-83C7-C3E0927C4DE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1000"/>
          </a:bodyPr>
          <a:p>
            <a:pPr marL="207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2</a:t>
            </a:r>
            <a:endParaRPr b="0" lang="en-US" sz="2400" spc="-1" strike="noStrike">
              <a:solidFill>
                <a:srgbClr val="404040"/>
              </a:solidFill>
              <a:latin typeface="Trebuchet MS"/>
            </a:endParaRPr>
          </a:p>
          <a:p>
            <a:pPr marL="207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elemento cardine dell'iniziativa è costituito dalla sperimentazione di un </a:t>
            </a:r>
            <a:r>
              <a:rPr b="1" lang="it-IT" sz="2000" spc="-1" strike="noStrike">
                <a:solidFill>
                  <a:srgbClr val="404040"/>
                </a:solidFill>
                <a:latin typeface="Trebuchet MS"/>
              </a:rPr>
              <a:t>corso bilingue, che mette a disposizione dei partecipanti (studenti-professori) i macchinari ed i percorsi formativi di eccellenza di tre importanti istituti:</a:t>
            </a: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04040"/>
                </a:solidFill>
                <a:latin typeface="Trebuchet MS"/>
              </a:rPr>
              <a:t>- </a:t>
            </a:r>
            <a:r>
              <a:rPr b="1" i="1" lang="en-GB" sz="1900" spc="-1" strike="noStrike">
                <a:solidFill>
                  <a:srgbClr val="404040"/>
                </a:solidFill>
                <a:latin typeface="Trebuchet MS"/>
              </a:rPr>
              <a:t>9 giornate formative</a:t>
            </a:r>
            <a:r>
              <a:rPr b="0" lang="en-GB" sz="1900" spc="-1" strike="noStrike">
                <a:solidFill>
                  <a:srgbClr val="404040"/>
                </a:solidFill>
                <a:latin typeface="Trebuchet MS"/>
              </a:rPr>
              <a:t> della durata di 5 ore per 3 mattine</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0" lang="en-GB" sz="1900" spc="-1" strike="noStrike">
                <a:solidFill>
                  <a:srgbClr val="404040"/>
                </a:solidFill>
                <a:latin typeface="Trebuchet MS"/>
              </a:rPr>
              <a:t>1 sessione formativa di 3 giornate in ogni istituto partner: lezioni frontali  teorico-pratiche, con la presenza di tutti gli studenti beneficiari (30).</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i="1" lang="en-GB" sz="1900" spc="-1" strike="noStrike">
                <a:solidFill>
                  <a:srgbClr val="404040"/>
                </a:solidFill>
                <a:latin typeface="Trebuchet MS"/>
              </a:rPr>
              <a:t>la sessione di Bastia</a:t>
            </a:r>
            <a:r>
              <a:rPr b="0" lang="en-GB" sz="1900" spc="-1" strike="noStrike">
                <a:solidFill>
                  <a:srgbClr val="404040"/>
                </a:solidFill>
                <a:latin typeface="Trebuchet MS"/>
              </a:rPr>
              <a:t> sarà concentrata sul tema del </a:t>
            </a:r>
            <a:r>
              <a:rPr b="1" lang="en-GB" sz="1900" spc="-1" strike="noStrike">
                <a:solidFill>
                  <a:srgbClr val="404040"/>
                </a:solidFill>
                <a:latin typeface="Trebuchet MS"/>
              </a:rPr>
              <a:t>GDMSS</a:t>
            </a:r>
            <a:r>
              <a:rPr b="0" lang="en-GB" sz="1900" spc="-1" strike="noStrike">
                <a:solidFill>
                  <a:srgbClr val="404040"/>
                </a:solidFill>
                <a:latin typeface="Trebuchet MS"/>
              </a:rPr>
              <a:t>, quelle di </a:t>
            </a:r>
            <a:r>
              <a:rPr b="1" lang="en-GB" sz="1900" spc="-1" strike="noStrike">
                <a:solidFill>
                  <a:srgbClr val="404040"/>
                </a:solidFill>
                <a:latin typeface="Trebuchet MS"/>
              </a:rPr>
              <a:t>Livorno sulla gestione della sala macchine</a:t>
            </a:r>
            <a:r>
              <a:rPr b="0" lang="en-GB" sz="1900" spc="-1" strike="noStrike">
                <a:solidFill>
                  <a:srgbClr val="404040"/>
                </a:solidFill>
                <a:latin typeface="Trebuchet MS"/>
              </a:rPr>
              <a:t>, quelle di </a:t>
            </a:r>
            <a:r>
              <a:rPr b="1" lang="en-GB" sz="1900" spc="-1" strike="noStrike">
                <a:solidFill>
                  <a:srgbClr val="404040"/>
                </a:solidFill>
                <a:latin typeface="Trebuchet MS"/>
              </a:rPr>
              <a:t>Cagliari sul tema della logistica.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le lezioni frontali saranno tenute da 3 professori (uno per ogni Istituto) esperti della tematica analizzata.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lang="en-GB" sz="1900" spc="-1" strike="noStrike">
                <a:solidFill>
                  <a:srgbClr val="404040"/>
                </a:solidFill>
                <a:latin typeface="Trebuchet MS"/>
              </a:rPr>
              <a:t>12 aziende</a:t>
            </a:r>
            <a:r>
              <a:rPr b="0" lang="en-GB" sz="1900" spc="-1" strike="noStrike">
                <a:solidFill>
                  <a:srgbClr val="404040"/>
                </a:solidFill>
                <a:latin typeface="Trebuchet MS"/>
              </a:rPr>
              <a:t> saranno visitate nel pomeriggio dagli studenti - rappresentative del contesto economico locale con momenti di scambio di informazione sulle attività lavorative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lang="en-GB" sz="1900" spc="-1" strike="noStrike">
                <a:solidFill>
                  <a:srgbClr val="404040"/>
                </a:solidFill>
                <a:latin typeface="Trebuchet MS"/>
              </a:rPr>
              <a:t>obiettivo delle visite</a:t>
            </a:r>
            <a:r>
              <a:rPr b="0" lang="en-GB" sz="1900" spc="-1" strike="noStrike">
                <a:solidFill>
                  <a:srgbClr val="404040"/>
                </a:solidFill>
                <a:latin typeface="Trebuchet MS"/>
              </a:rPr>
              <a:t> è quello di offrire ai giovani nuove modalità di apprendimento che integrino la conoscenza scolastica con la realtà attuale del mercato del lavoro marittimo.</a:t>
            </a:r>
            <a:r>
              <a:rPr b="0" lang="en-GB" sz="1500" spc="-1" strike="noStrike">
                <a:solidFill>
                  <a:srgbClr val="404040"/>
                </a:solidFill>
                <a:latin typeface="Trebuchet MS"/>
              </a:rPr>
              <a:t> </a:t>
            </a:r>
            <a:br>
              <a:rPr sz="2000"/>
            </a:br>
            <a:br>
              <a:rPr sz="2000"/>
            </a:br>
            <a:endParaRPr b="0" lang="en-US" sz="1500" spc="-1" strike="noStrike">
              <a:solidFill>
                <a:srgbClr val="404040"/>
              </a:solidFill>
              <a:latin typeface="Trebuchet MS"/>
            </a:endParaRPr>
          </a:p>
        </p:txBody>
      </p:sp>
      <p:pic>
        <p:nvPicPr>
          <p:cNvPr id="27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674A2688-2D08-4D08-B481-75F2398C2C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3000"/>
          </a:bodyPr>
          <a:p>
            <a:pPr marL="2124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Le attività / 1</a:t>
            </a:r>
            <a:endParaRPr b="0" lang="en-US" sz="24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Elaborazione e attuazione di una strategia integrata congiunta di comunicazione e disseminazion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portale web di progetto;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3 eventi di informazione sull'iniziativ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ferenza di apertur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ferenza di chiusura di progetto;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divisione di buone prassi formativ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percorso di studio integrato bilingu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6 sessioni di apprendimento a distanza della durata di tre ore l'un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visite guidate dei 30 studenti beneficiari presso almeno 12 aziende che svolgono attività economiche di interesse per le tre materie centrali del percorso integrato bilingue rappresentative del contesto economico local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tre eventi seminariali tematici.</a:t>
            </a:r>
            <a:br>
              <a:rPr sz="2000"/>
            </a:br>
            <a:br>
              <a:rPr sz="2000"/>
            </a:br>
            <a:br>
              <a:rPr sz="2000"/>
            </a:br>
            <a:r>
              <a:rPr b="1" lang="en-US"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8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E439F4B-E64C-4061-BCB9-BB93D3285B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Le attività / 2</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Le attività formative saranno integrate inoltre con esperienze transfrontaliere di alternanza scuola lavoro miranti a facilitare l'ingresso nel mondo del lavoro degli studenti beneficiari dell'iniziativa.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Il Centro Studi, in stretta collaborazione con le Camere di Commercio di Livorno, Cagliari, e Bastia coinvolgerà le imprese più rappresentative e gli operatori del tessuto socioeconomico locale di ogni istituto partner.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L'iniziativa infatti, è stata pensata per facilitare il passaggio degli studenti dal mondo della formazione secondaria a quello del lavoro, tramite l'attuazione di esperienze di alternanza.</a:t>
            </a:r>
            <a:br>
              <a:rPr sz="2000"/>
            </a:b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8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DE961B05-CB06-4644-A46A-2F2925C42B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87000"/>
          </a:bodyPr>
          <a:p>
            <a:pPr marL="198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 principali risultati attesi:</a:t>
            </a:r>
            <a:br>
              <a:rPr sz="2400"/>
            </a:br>
            <a:endParaRPr b="0" lang="en-US" sz="24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404040"/>
                </a:solidFill>
                <a:latin typeface="Trebuchet MS"/>
              </a:rPr>
              <a:t>- apertura di nuovi bacini occupazionali ad elevata professionalità per il sistema economic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ccelerazione dei processi di adeguamento delle professionalità esistent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riduzione dei costi di inserimento professionale dei nuovi lavorator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deguamento del servizio formativo alle esigenze professionali e socio-economiche del settore marittim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sviluppo del capitale umano, in termini di qualità e competitività sugli scenari internazional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ccelerazione della crescita competitiva dell'economia del mare.</a:t>
            </a:r>
            <a:br>
              <a:rPr sz="2000"/>
            </a:br>
            <a:r>
              <a:rPr b="0" lang="en-US" sz="2000" spc="-1" strike="noStrike">
                <a:solidFill>
                  <a:srgbClr val="404040"/>
                </a:solidFill>
                <a:latin typeface="Trebuchet MS"/>
              </a:rPr>
              <a:t>- creazione di una rete transfrontaliera tra i soggetti partner per rendere il più possibile allineati, condivisi ed integrati i profili formativi e professionali richiesti dal settore marittim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La rete garantirà lo sviluppo di partenariati tra il settore dell'istruzione/formazione e il mondo del lavoro, in particolare associando le parti sociali alla pianificazione dell'istruzione e della formazione.</a:t>
            </a:r>
            <a:br>
              <a:rPr sz="2000"/>
            </a:br>
            <a:br>
              <a:rPr sz="2000"/>
            </a:br>
            <a:br>
              <a:rPr sz="2000"/>
            </a:br>
            <a:endParaRPr b="0" lang="en-US" sz="2000" spc="-1" strike="noStrike">
              <a:solidFill>
                <a:srgbClr val="404040"/>
              </a:solidFill>
              <a:latin typeface="Trebuchet MS"/>
            </a:endParaRPr>
          </a:p>
        </p:txBody>
      </p:sp>
      <p:pic>
        <p:nvPicPr>
          <p:cNvPr id="29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31322440-81B2-42C2-A55C-6702D77530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rodotti e diffusion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4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trumenti di diffusione garantiranno un ottimo livello di comunicazione interna, tra i membri del partenariato e tra gli studenti beneficiari dell’iniziativa, e esterna quali: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sito web bilingu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link ai siti dei  partner</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CD</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report conclusiv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brochur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newsletter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piani di sensibilizzazione congiunti volti ad allargare l’attuazione del percorso bilingue integrato sperimentato ad altri istituti nautici logistici dell’area di cooperazione</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protocollo d’intesa tra gli Istituti partner ed eventuali altri istituti sensibilizzati per l’istituzione di un percorso formativo transfrontaliero bilingue per dare continuità all’iniziativa e al sito web di progetto.</a:t>
            </a:r>
            <a:r>
              <a:rPr b="0" lang="it-IT"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9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ED5FEA2D-C1D0-47D8-B2D4-F6BBEF4CD5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7000"/>
          </a:bodyPr>
          <a:p>
            <a:pPr marL="2214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tività di comunicazione</a:t>
            </a:r>
            <a:endParaRPr b="0" lang="en-US" sz="2400" spc="-1" strike="noStrike">
              <a:solidFill>
                <a:srgbClr val="404040"/>
              </a:solidFill>
              <a:latin typeface="Trebuchet MS"/>
            </a:endParaRPr>
          </a:p>
          <a:p>
            <a:pPr marL="22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Elaborazione ed attuazione di una strategia integrata congiunta di comunicazione come previsto dalle regole del P.O. Marittimo;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un seminario di presentazione dell’iniziativa presso la Provincia di Livorno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reazione di un portale web di progetto bilingue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3 eventi seminariali:                                              - “Tecnologie della conoscenza per il mare”                                          - “Riqualificazione del sistema marittimo commerciale e da diporto dal punto di vista del risparmio energetico e della protezione ambientale”,                                                                        - “Strategie e strumenti per la dismissione delle imbarcazioni in vetroresina”;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una conferenza di chiusura di progetto (Riorientare i mestieri del mare alla luce dei nuovi saperi) durante la quale saranno diffusi i risultati di progetto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municati stampa accompagneranno il lancio delle iniziative.</a:t>
            </a:r>
            <a:endParaRPr b="0" lang="en-US" sz="2000" spc="-1" strike="noStrike">
              <a:solidFill>
                <a:srgbClr val="404040"/>
              </a:solidFill>
              <a:latin typeface="Trebuchet MS"/>
            </a:endParaRPr>
          </a:p>
          <a:p>
            <a:pPr marL="221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0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0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E56CBC51-3684-4F7D-89F2-D50FF8E52ED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7000"/>
          </a:bodyPr>
          <a:p>
            <a:pPr marL="221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iano di lavoro</a:t>
            </a:r>
            <a:endParaRPr b="0" lang="en-US" sz="2400" spc="-1" strike="noStrike">
              <a:solidFill>
                <a:srgbClr val="404040"/>
              </a:solidFill>
              <a:latin typeface="Trebuchet MS"/>
            </a:endParaRPr>
          </a:p>
          <a:p>
            <a:pPr marL="22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ATA DI AVVIO PROGETTO: 15/11/12</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TA:  18 MESI</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UDGET:  </a:t>
            </a:r>
            <a:r>
              <a:rPr b="0" lang="en-GB" sz="2000" spc="-1" strike="noStrike">
                <a:solidFill>
                  <a:srgbClr val="000000"/>
                </a:solidFill>
                <a:latin typeface="Trebuchet MS"/>
              </a:rPr>
              <a:t>69.731,00  Euro</a:t>
            </a:r>
            <a:endParaRPr b="0" lang="en-US" sz="2000" spc="-1" strike="noStrike">
              <a:solidFill>
                <a:srgbClr val="404040"/>
              </a:solidFill>
              <a:latin typeface="Trebuchet MS"/>
            </a:endParaRPr>
          </a:p>
          <a:p>
            <a:pPr marL="221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ALENDARIO ATTIVITA’</a:t>
            </a:r>
            <a:endParaRPr b="0" lang="en-US" sz="20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minario di lancio del progetto con costituzione CdP: Livorno, 17.12.12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Livorno – Meeting tecnico e CdP: 22-24 Aprile 2013</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Bastia Meeting tecnico e CdP: </a:t>
            </a:r>
            <a:r>
              <a:rPr b="0" lang="it-IT" sz="1800" spc="-1" strike="noStrike">
                <a:solidFill>
                  <a:srgbClr val="404040"/>
                </a:solidFill>
                <a:latin typeface="Trebuchet MS"/>
              </a:rPr>
              <a:t>24-26 settembre 2013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Cagliari e CdP: </a:t>
            </a:r>
            <a:r>
              <a:rPr b="0" lang="it-IT" sz="1800" spc="-1" strike="noStrike">
                <a:solidFill>
                  <a:srgbClr val="404040"/>
                </a:solidFill>
                <a:latin typeface="Trebuchet MS"/>
              </a:rPr>
              <a:t>11-13 novembre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3 seminari formativi di cui il primo a Livorno in occasione del TAN, Trofeo Accademia Navale, il 22 aprile</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Convegno finale, Meeting tecnico e CdP: Livorno fine Aprile 2013</a:t>
            </a:r>
            <a:endParaRPr b="0" lang="en-US" sz="1800" spc="-1" strike="noStrike">
              <a:solidFill>
                <a:srgbClr val="404040"/>
              </a:solidFill>
              <a:latin typeface="Trebuchet MS"/>
            </a:endParaRPr>
          </a:p>
          <a:p>
            <a:pPr marL="221400"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30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0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AF16113A-45DA-4E2E-9546-6F7A55AF161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9" name="PlaceHolder 2"/>
          <p:cNvSpPr>
            <a:spLocks noGrp="1"/>
          </p:cNvSpPr>
          <p:nvPr>
            <p:ph/>
          </p:nvPr>
        </p:nvSpPr>
        <p:spPr>
          <a:xfrm>
            <a:off x="394920" y="836280"/>
            <a:ext cx="7993080" cy="5132520"/>
          </a:xfrm>
          <a:prstGeom prst="rect">
            <a:avLst/>
          </a:prstGeom>
          <a:noFill/>
          <a:ln w="0">
            <a:noFill/>
          </a:ln>
        </p:spPr>
        <p:txBody>
          <a:bodyPr lIns="90000" rIns="90000" tIns="46800" bIns="46800" anchor="t">
            <a:normAutofit fontScale="95000"/>
          </a:bodyPr>
          <a:p>
            <a:pPr marL="217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Sessione formativa a Livorno – CdP: 22-24 Aprile 2013</a:t>
            </a:r>
            <a:endParaRPr b="0" lang="en-US" sz="2400" spc="-1" strike="noStrike">
              <a:solidFill>
                <a:srgbClr val="404040"/>
              </a:solidFill>
              <a:latin typeface="Trebuchet MS"/>
            </a:endParaRPr>
          </a:p>
          <a:p>
            <a:pPr marL="21708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rebuchet MS"/>
              </a:rPr>
              <a:t>22,23,24 aprile mattina:</a:t>
            </a:r>
            <a:r>
              <a:rPr b="0" lang="it-IT" sz="2000" spc="-1" strike="noStrike">
                <a:solidFill>
                  <a:srgbClr val="000000"/>
                </a:solidFill>
                <a:latin typeface="Trebuchet MS"/>
              </a:rPr>
              <a:t> formazione in aula</a:t>
            </a:r>
            <a:r>
              <a:rPr b="0" i="1" lang="it-IT" sz="2000" spc="-1" strike="noStrike">
                <a:solidFill>
                  <a:srgbClr val="000000"/>
                </a:solidFill>
                <a:latin typeface="Trebuchet MS"/>
              </a:rPr>
              <a:t> </a:t>
            </a:r>
            <a:r>
              <a:rPr b="0" lang="it-IT" sz="2000" spc="-1" strike="noStrike">
                <a:solidFill>
                  <a:srgbClr val="000000"/>
                </a:solidFill>
                <a:latin typeface="Trebuchet MS"/>
              </a:rPr>
              <a:t>presso l</a:t>
            </a:r>
            <a:r>
              <a:rPr b="0" i="1" lang="it-IT" sz="2000" spc="-1" strike="noStrike">
                <a:solidFill>
                  <a:srgbClr val="000000"/>
                </a:solidFill>
                <a:latin typeface="Trebuchet MS"/>
              </a:rPr>
              <a:t>’Istituto Nautico Cappellini</a:t>
            </a:r>
            <a:r>
              <a:rPr b="0" lang="it-IT" sz="2000" spc="-1" strike="noStrike">
                <a:solidFill>
                  <a:srgbClr val="000000"/>
                </a:solidFill>
                <a:latin typeface="Trebuchet MS"/>
              </a:rPr>
              <a:t> su </a:t>
            </a:r>
            <a:r>
              <a:rPr b="0" lang="it-IT" sz="2000" spc="-1" strike="noStrike" u="sng">
                <a:solidFill>
                  <a:srgbClr val="000000"/>
                </a:solidFill>
                <a:uFillTx/>
                <a:latin typeface="Trebuchet MS"/>
              </a:rPr>
              <a:t>Tecniche di gestione della sala macchin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rebuchet MS"/>
              </a:rPr>
              <a:t>22,23,24 aprile pomeriggio</a:t>
            </a:r>
            <a:r>
              <a:rPr b="0" lang="it-IT" sz="2000" spc="-1" strike="noStrike">
                <a:solidFill>
                  <a:srgbClr val="000000"/>
                </a:solidFill>
                <a:latin typeface="Trebuchet MS"/>
              </a:rPr>
              <a:t>: visite a aziende e istituzioni del territorio rappresentative del contesto economico locale: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ccademia Navale,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utorità portuale di Livorn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orto di Livorn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nterport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tand delle aziende del settore nautico presenti al Trofeo Accademia Navale (TAN)</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Goletta “Pandora” – Associazione “Vela tradizionale”</a:t>
            </a: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7080" indent="-173160">
              <a:lnSpc>
                <a:spcPct val="80000"/>
              </a:lnSpc>
              <a:spcBef>
                <a:spcPts val="374"/>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rebuchet MS"/>
              </a:rPr>
              <a:t>Seminario formativo “Tecnologie della conoscenza per il mare”</a:t>
            </a:r>
            <a:r>
              <a:rPr b="0" lang="it-IT" sz="1500" spc="-1" strike="noStrike">
                <a:solidFill>
                  <a:srgbClr val="404040"/>
                </a:solidFill>
                <a:latin typeface="Trebuchet MS"/>
              </a:rPr>
              <a:t> </a:t>
            </a:r>
            <a:endParaRPr b="0" lang="en-US" sz="1500" spc="-1" strike="noStrike">
              <a:solidFill>
                <a:srgbClr val="404040"/>
              </a:solidFill>
              <a:latin typeface="Trebuchet MS"/>
            </a:endParaRPr>
          </a:p>
        </p:txBody>
      </p:sp>
      <p:pic>
        <p:nvPicPr>
          <p:cNvPr id="31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1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1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57EA9A43-C2D1-4CE6-97FE-15454F38746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14" name="PlaceHolder 2"/>
          <p:cNvSpPr>
            <a:spLocks noGrp="1"/>
          </p:cNvSpPr>
          <p:nvPr>
            <p:ph/>
          </p:nvPr>
        </p:nvSpPr>
        <p:spPr>
          <a:xfrm>
            <a:off x="323640" y="907560"/>
            <a:ext cx="7993080" cy="5132520"/>
          </a:xfrm>
          <a:prstGeom prst="rect">
            <a:avLst/>
          </a:prstGeom>
          <a:noFill/>
          <a:ln w="0">
            <a:noFill/>
          </a:ln>
        </p:spPr>
        <p:txBody>
          <a:bodyPr lIns="90000" rIns="90000" tIns="46800" bIns="46800" anchor="t">
            <a:normAutofit/>
          </a:bodyPr>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
            </a:r>
            <a:r>
              <a:rPr b="1" lang="it-IT" sz="2400" spc="-1" strike="noStrike">
                <a:solidFill>
                  <a:srgbClr val="56c7aa"/>
                </a:solidFill>
                <a:latin typeface="Trebuchet MS"/>
              </a:rPr>
              <a:t>PER MARE, AZIONI INNOVATIVE PER ORIENTARE AI MESTIERI DEL MARE”</a:t>
            </a:r>
            <a:r>
              <a:rPr b="0" lang="it-IT" sz="2400" spc="-1" strike="noStrike">
                <a:solidFill>
                  <a:srgbClr val="56c7aa"/>
                </a:solidFill>
                <a:latin typeface="Trebuchet MS"/>
              </a:rPr>
              <a:t> </a:t>
            </a:r>
            <a:r>
              <a:rPr b="0" lang="en-US" sz="2400" spc="-1" strike="noStrike">
                <a:solidFill>
                  <a:srgbClr val="56c7aa"/>
                </a:solidFill>
                <a:latin typeface="Trebuchet MS"/>
              </a:rPr>
              <a:t> </a:t>
            </a:r>
            <a:br>
              <a:rPr sz="2400"/>
            </a:br>
            <a:br>
              <a:rPr sz="2400"/>
            </a:br>
            <a:endParaRPr b="0" lang="en-US" sz="24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Grazie per l’attenzione</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rovincia di Livorno Sviluppo srl</a:t>
            </a:r>
            <a:br>
              <a:rPr sz="2000"/>
            </a:br>
            <a:r>
              <a:rPr b="0" lang="it-IT" sz="2000" spc="-1" strike="noStrike">
                <a:solidFill>
                  <a:srgbClr val="000000"/>
                </a:solidFill>
                <a:latin typeface="Trebuchet MS"/>
              </a:rPr>
              <a:t>Tel +39 (0) 586 257226/228</a:t>
            </a:r>
            <a:br>
              <a:rPr sz="2000"/>
            </a:br>
            <a:r>
              <a:rPr b="0" lang="it-IT" sz="2000" spc="-1" strike="noStrike">
                <a:solidFill>
                  <a:srgbClr val="000000"/>
                </a:solidFill>
                <a:latin typeface="Trebuchet MS"/>
              </a:rPr>
              <a:t>Fax +39 (0) 586 257359</a:t>
            </a:r>
            <a:br>
              <a:rPr sz="2000"/>
            </a:br>
            <a:r>
              <a:rPr b="0" lang="it-IT" sz="2000" spc="-1" strike="noStrike">
                <a:solidFill>
                  <a:srgbClr val="000000"/>
                </a:solidFill>
                <a:latin typeface="Trebuchet MS"/>
              </a:rPr>
              <a:t>provincia.sviluppo@provincia.livorno.it</a:t>
            </a:r>
            <a:r>
              <a:rPr b="1" lang="it-IT"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1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1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1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A55AE5AD-9772-48C0-90C3-31A5D0E66B88}"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3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Italia/Francia ‘Marittimo’ 2007-2013</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 2007-2013</a:t>
            </a:r>
            <a:r>
              <a:rPr b="0" lang="en-US" sz="2000" spc="-1" strike="noStrike">
                <a:solidFill>
                  <a:srgbClr val="000000"/>
                </a:solidFill>
                <a:latin typeface="Trebuchet MS"/>
              </a:rPr>
              <a:t> è un programma di cooperazione territoriale che mira a migliorare la cooperazione fra le aree transfrontaliere comprese nello spazio marittimo e costiero dell’arco dell’alto tirrenico in termini di accessibilità, innovazione, valorizzazione delle risorse naturali e culturali al fine di assicurare la coesione territoriale e favorire nel tempo occupazione e sviluppo sostenibile.</a:t>
            </a: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a:t>
            </a:r>
            <a:r>
              <a:rPr b="0" lang="en-US" sz="2000" spc="-1" strike="noStrike">
                <a:solidFill>
                  <a:srgbClr val="000000"/>
                </a:solidFill>
                <a:latin typeface="Trebuchet MS"/>
              </a:rPr>
              <a:t> </a:t>
            </a:r>
            <a:r>
              <a:rPr b="1" lang="en-US" sz="2000" spc="-1" strike="noStrike">
                <a:solidFill>
                  <a:srgbClr val="000000"/>
                </a:solidFill>
                <a:latin typeface="Trebuchet MS"/>
              </a:rPr>
              <a:t>viene finanziato dal Fondo Europeo di Sviluppo Regionale per il periodo di programmazione 2007-2013 ed è dotato di un budget di oltre </a:t>
            </a:r>
            <a:r>
              <a:rPr b="1" lang="en-US" sz="2000" spc="-1" strike="noStrike" u="sng">
                <a:solidFill>
                  <a:srgbClr val="000000"/>
                </a:solidFill>
                <a:uFillTx/>
                <a:latin typeface="Trebuchet MS"/>
              </a:rPr>
              <a:t>160 milioni di Euro (di cui 120 milioni di FESR)</a:t>
            </a:r>
            <a:r>
              <a:rPr b="1"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3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3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3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E13C4187-69D1-42DF-89C8-A37CBB80247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3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Al di là del mar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 Autorità del P.O. Italia Francia Marittimo hanno lanciato il Programma quadriennale di scambi tra gli studenti, denominato </a:t>
            </a:r>
            <a:r>
              <a:rPr b="1" lang="en-US" sz="2000" spc="-1" strike="noStrike">
                <a:solidFill>
                  <a:srgbClr val="000000"/>
                </a:solidFill>
                <a:latin typeface="Trebuchet MS"/>
              </a:rPr>
              <a:t>“Al di là del mare”, per gli anni 2010, 2011, 2012, 2013</a:t>
            </a:r>
            <a:r>
              <a:rPr b="0" lang="en-US" sz="2000" spc="-1" strike="noStrike">
                <a:solidFill>
                  <a:srgbClr val="000000"/>
                </a:solidFill>
                <a:latin typeface="Trebuchet MS"/>
              </a:rPr>
              <a:t>, mettendo a disposizione 1 milione di Euro per il finanziamento di progetti di mobilità transfrontaliera degli student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Al di là del mare”</a:t>
            </a:r>
            <a:r>
              <a:rPr b="0" lang="en-US" sz="2000" spc="-1" strike="noStrike">
                <a:solidFill>
                  <a:srgbClr val="000000"/>
                </a:solidFill>
                <a:latin typeface="Trebuchet MS"/>
              </a:rPr>
              <a:t> finanzia a cadenza semestrale progetti finalizzati alla mobilità transfrontaliera degli studenti con il fine d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Creare efficaci “partenariati territoriali” capaci di integrare al massimo la progettualità delle istituzioni scolastiche, degli enti pubblici territoriali con quella di altri beneficiari compatibili con l’intervento, nell’ottica della creazione di un’identità forte ed omogenea del territorio di cooperazion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ccrescere il numero dei soggetti che partecipano a progetti di mobilità e di scambio;</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Favorire lo sviluppo delle competenze linguistiche, le esperienze di lavoro, la diffusione della cultura dell’imprenditorialità.</a:t>
            </a:r>
            <a:endParaRPr b="0" lang="en-US" sz="2000" spc="-1" strike="noStrike">
              <a:solidFill>
                <a:srgbClr val="404040"/>
              </a:solidFill>
              <a:latin typeface="Trebuchet MS"/>
            </a:endParaRPr>
          </a:p>
        </p:txBody>
      </p:sp>
      <p:pic>
        <p:nvPicPr>
          <p:cNvPr id="24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3C00EC52-F132-4EC5-A7A6-B047F13D09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Scenario e analisi dei problemi</a:t>
            </a:r>
            <a:r>
              <a:rPr b="1" lang="en-US" sz="1500" spc="-1" strike="noStrike">
                <a:solidFill>
                  <a:srgbClr val="56c7aa"/>
                </a:solidFill>
                <a:latin typeface="Trebuchet MS"/>
              </a:rPr>
              <a:t> </a:t>
            </a:r>
            <a:endParaRPr b="0" lang="en-US" sz="15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llo spazio di cooperazione transfrontaliero </a:t>
            </a:r>
            <a:r>
              <a:rPr b="0" lang="en-US" sz="2000" spc="-1" strike="noStrike" u="sng">
                <a:solidFill>
                  <a:srgbClr val="000000"/>
                </a:solidFill>
                <a:uFillTx/>
                <a:latin typeface="Trebuchet MS"/>
              </a:rPr>
              <a:t>un punto di forza dell’economia sono i settori della cantieristica navale e della nautica da diporto</a:t>
            </a:r>
            <a:r>
              <a:rPr b="0" lang="en-US" sz="2000" spc="-1" strike="noStrike">
                <a:solidFill>
                  <a:srgbClr val="000000"/>
                </a:solidFill>
                <a:latin typeface="Trebuchet MS"/>
              </a:rPr>
              <a:t>, pur </a:t>
            </a:r>
            <a:r>
              <a:rPr b="0" lang="en-US" sz="2000" spc="-1" strike="noStrike">
                <a:solidFill>
                  <a:srgbClr val="000000"/>
                </a:solidFill>
                <a:latin typeface="Trebuchet MS"/>
              </a:rPr>
              <a:t>con</a:t>
            </a:r>
            <a:r>
              <a:rPr b="0" lang="en-US" sz="2000" spc="-1" strike="noStrike">
                <a:solidFill>
                  <a:srgbClr val="000000"/>
                </a:solidFill>
                <a:latin typeface="Trebuchet MS"/>
              </a:rPr>
              <a:t> criticità, che rendono necessari nuovi investimenti per la qualificazione e la creazione di capitale umano adeguato all’evoluzione continua del sistema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Il sistema dell’istruzione (Istituti Nautic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umentare la preparazione tecnico-scientifica degli studenti per rispondere alle esigenze di un mercato del lavoro che fa della professionalità, specializzazione e preparazione il punto principale della selezione della forza lavoro;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contrastare il problema del sempre minor budget a disposizione per acquisire ed innovare il parco di strumentazione tecnica a disposizione dei discent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vvicinarsi alla realtà attuale del mondo del lavoro per facilitare l’inserimento degli studenti in uscita dagli istituti</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37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p:txBody>
      </p:sp>
      <p:pic>
        <p:nvPicPr>
          <p:cNvPr id="24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387D078A-D701-478C-A427-4700344FC1D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ETTO                                                                                                                                                “PER MARE, AZIONI INNOVATIVE PER ORIENTARE AI MESTIERI DEL MARE”</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 Provincia di Livorno, sulla base dei risultati conseguiti con i progetti di studi e ricerche sullo spazio transfrontaliero intende massimizzare le opportunità derivate dall’analisi delle potenzialità dello sviluppo del </a:t>
            </a:r>
            <a:r>
              <a:rPr b="0" lang="en-US" sz="2000" spc="-1" strike="noStrike" u="sng">
                <a:solidFill>
                  <a:srgbClr val="000000"/>
                </a:solidFill>
                <a:uFillTx/>
                <a:latin typeface="Trebuchet MS"/>
              </a:rPr>
              <a:t>settore nautico</a:t>
            </a:r>
            <a:r>
              <a:rPr b="0" lang="en-US" sz="2000" spc="-1" strike="noStrike">
                <a:solidFill>
                  <a:srgbClr val="000000"/>
                </a:solidFill>
                <a:latin typeface="Trebuchet MS"/>
              </a:rPr>
              <a:t> proponendo agli studenti un modello esperienziale per garantire il massimo sviluppo dei mestieri legati alle economie del mare.</a:t>
            </a: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5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425E9CD-E951-4597-97CE-968CB71AA48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Obiettivo generale del Progetto</a:t>
            </a:r>
            <a:endParaRPr b="0" lang="en-US" sz="24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nsiste nel migliorare la capacità formativa degli Istituti superiori di secondo grado di indirizzo nautico logistico partner mettendo a sistema le eccellenze e le strutture tecniche disponibili e tracciando un ponte tra il sistema della formazione scolastica e quello del lavoro marittim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iniziativa consentirà la realizzazione di percorsi di formazione integrati bilingue, con l’obiettivo di condividere, diffondere e mutuare le professionalità scolastiche degli Istituti nautici, tenuto conto dei punti di forza e di debolezza del settore marittimo (portualità, logistica, nautica e cantieristica navale)  nello spazio di cooperazione</a:t>
            </a:r>
            <a:endParaRPr b="0" lang="en-US" sz="2000" spc="-1" strike="noStrike">
              <a:solidFill>
                <a:srgbClr val="404040"/>
              </a:solidFill>
              <a:latin typeface="Trebuchet MS"/>
            </a:endParaRPr>
          </a:p>
        </p:txBody>
      </p:sp>
      <p:pic>
        <p:nvPicPr>
          <p:cNvPr id="25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10606B7B-E78E-49BC-B3F1-BD6DF4B51A0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I Partner</a:t>
            </a: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Capofila</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Provincia di Livorno, </a:t>
            </a:r>
            <a:r>
              <a:rPr b="1" lang="it-IT" sz="1800" spc="-1" strike="noStrike">
                <a:solidFill>
                  <a:srgbClr val="404040"/>
                </a:solidFill>
                <a:latin typeface="Trebuchet MS"/>
              </a:rPr>
              <a:t>(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Gestore</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Provincia di Livorno Sviluppo, società in house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della Provincia di Livorno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2</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Centro Studi della Camera di Commercio di Livorno </a:t>
            </a:r>
            <a:r>
              <a:rPr b="1" lang="it-IT" sz="1800" spc="-1" strike="noStrike">
                <a:solidFill>
                  <a:srgbClr val="404040"/>
                </a:solidFill>
                <a:latin typeface="Trebuchet MS"/>
              </a:rPr>
              <a:t>(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3</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IS BUONTALENTI-CAPPELLINI-ORLANDO (Livorno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Toscana -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4</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tituto Tecnico Statale Trasporti e Logistica “Buccari”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rPr>
              <a:t>(Cagliari – Sardegna –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5</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Lycée Maritime et Aquacole « Jacques FIAGGIANELLI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Bastia – Corsica – Franc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6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E069E701-1FDD-483F-94B8-562D06D6002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3000"/>
          </a:bodyPr>
          <a:p>
            <a:pPr marL="2124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I Beneficiari</a:t>
            </a:r>
            <a:endParaRPr b="0" lang="en-US" sz="24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diretti dell’iniziativa:</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30 studenti: </a:t>
            </a:r>
            <a:r>
              <a:rPr b="0" lang="it-IT" sz="2000" spc="-1" strike="noStrike">
                <a:solidFill>
                  <a:srgbClr val="000000"/>
                </a:solidFill>
                <a:latin typeface="Trebuchet MS"/>
              </a:rPr>
              <a:t>o</a:t>
            </a:r>
            <a:r>
              <a:rPr b="0" lang="en-GB" sz="2000" spc="-1" strike="noStrike">
                <a:solidFill>
                  <a:srgbClr val="000000"/>
                </a:solidFill>
                <a:latin typeface="Trebuchet MS"/>
              </a:rPr>
              <a:t>gni Istituto (3), con procedure di selezione interne aperte a tutti gli studenti delle classi IV, ha selezionato 10 studenti, per un totale di 30. Gli studenti dovranno avere una conoscenza discreta della lingua dell’altra sponda ed una preparazione tecnica di base nelle materie GMDSS, comando di macchine marine, e logistica;</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9 Professori</a:t>
            </a:r>
            <a:r>
              <a:rPr b="0" lang="it-IT" sz="2000" spc="-1" strike="noStrike">
                <a:solidFill>
                  <a:srgbClr val="000000"/>
                </a:solidFill>
                <a:latin typeface="Trebuchet MS"/>
              </a:rPr>
              <a:t>: o</a:t>
            </a:r>
            <a:r>
              <a:rPr b="0" lang="en-GB" sz="2000" spc="-1" strike="noStrike">
                <a:solidFill>
                  <a:srgbClr val="000000"/>
                </a:solidFill>
                <a:latin typeface="Trebuchet MS"/>
              </a:rPr>
              <a:t>gni Istituto ha selezionato tre professori delle materie della formazione, che seguiranno gli studenti in tutte le fasi del corso e, a fine corso, potranno riproporre simili iniziative contribuendo così alla sostenibilità dell’iniziativa PER MAR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12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indiretti</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nte le attività di progetto saranno comunque coinvolti indirettamente anche circa altri </a:t>
            </a:r>
            <a:r>
              <a:rPr b="0" i="1" lang="it-IT" sz="2000" spc="-1" strike="noStrike">
                <a:solidFill>
                  <a:srgbClr val="000000"/>
                </a:solidFill>
                <a:latin typeface="Trebuchet MS"/>
              </a:rPr>
              <a:t>250 studenti (compagni di classe degli studenti selezionati), 12 imprese e 24 operatori</a:t>
            </a:r>
            <a:r>
              <a:rPr b="0" lang="it-IT" sz="2000" spc="-1" strike="noStrike">
                <a:solidFill>
                  <a:srgbClr val="000000"/>
                </a:solidFill>
                <a:latin typeface="Trebuchet MS"/>
              </a:rPr>
              <a:t> operanti nel settore della navigazione e della logistica e </a:t>
            </a:r>
            <a:r>
              <a:rPr b="0" i="1" lang="it-IT" sz="2000" spc="-1" strike="noStrike">
                <a:solidFill>
                  <a:srgbClr val="000000"/>
                </a:solidFill>
                <a:latin typeface="Trebuchet MS"/>
              </a:rPr>
              <a:t>9 EELL</a:t>
            </a:r>
            <a:r>
              <a:rPr b="0" lang="it-IT" sz="2000" spc="-1" strike="noStrike">
                <a:solidFill>
                  <a:srgbClr val="000000"/>
                </a:solidFill>
                <a:latin typeface="Trebuchet MS"/>
              </a:rPr>
              <a:t> delle zone coinvolte. </a:t>
            </a:r>
            <a:endParaRPr b="0" lang="en-US" sz="2000" spc="-1" strike="noStrike">
              <a:solidFill>
                <a:srgbClr val="404040"/>
              </a:solidFill>
              <a:latin typeface="Trebuchet MS"/>
            </a:endParaRPr>
          </a:p>
          <a:p>
            <a:pPr marL="2124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6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47BA4B95-D77D-4483-A477-F5B7C4A112E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0000"/>
          </a:bodyPr>
          <a:p>
            <a:pPr marL="205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1</a:t>
            </a:r>
            <a:endParaRPr b="0" lang="en-US" sz="2400" spc="-1" strike="noStrike">
              <a:solidFill>
                <a:srgbClr val="404040"/>
              </a:solidFill>
              <a:latin typeface="Trebuchet MS"/>
            </a:endParaRPr>
          </a:p>
          <a:p>
            <a:pPr marL="205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er preparare il personale navigante di elevato livello è necessario introdurre elementi pratici che vadano a simulare la realtà che si dovrà affrontare in navigazione:</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acquisizione di esperienza nei temi della logistica, della gestione della sala macchine di una nave e degli strumenti satellitari di navigazione costituisce una parte fondamentale della formazione del personale navigante </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Vista la scarsità finanziaria in dotazione alle scuole, si può ovviare in parte alla mancanza di strumentazione dedicata, condividendo eccellenze formative e apparecchiature tecniche</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GMDSS, "Global Maritime Distress and Safety System" a disposizione dell'Istituto di Bastia; </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e apparecchiature di gestione della sala macchine in dotazione all'Istituto di Livorno;</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a specializzazione in tema di logistica applicata ai temi del mare dell'Istituto partner di Cagliari.</a:t>
            </a:r>
            <a:br>
              <a:rPr sz="2000"/>
            </a:br>
            <a:br>
              <a:rPr sz="2000"/>
            </a:br>
            <a:r>
              <a:rPr b="1" lang="it-IT"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7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82DBFB08-3D8C-4DE6-A139-75E4B39CCA1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Caturegli</cp:lastModifiedBy>
  <dcterms:modified xsi:type="dcterms:W3CDTF">2014-10-16T10:19:44Z</dcterms:modified>
  <cp:revision>27</cp:revision>
  <dc:subject/>
  <dc:title>Presentazione standard di PowerPoint</dc:title>
</cp:coreProperties>
</file>